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D28-C8A4-41FC-8DD6-9F75C7EB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452-0D3F-41C1-A0C7-9A73E9B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DFC-1FF6-44CE-9230-D638D6CF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B5E-C34B-490D-84AB-7ECF91C1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BD1-C5B2-4F07-B4F2-B30A2F06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0CB-D9E0-4C51-A0EF-B67B816F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417-9467-469C-93B1-1D0EC0A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7B5-4C07-435D-915E-6D6F6503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F8E-7B6B-4676-A839-94F0D1A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C6E-EAE7-40E5-A170-C934CC1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F65-5975-4EBF-9BED-D9A934F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0FC-8473-44E8-933B-686895DE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D798-05FF-4320-87F8-9CCD5B46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24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TERRUPÇÔE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5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692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456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971800"/>
            <a:ext cx="8153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5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TNR0 overflow interrupt enable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que permite ou não a interrupção gerada p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verflow do c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permite a interrupção quando ocorre overflow do c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desactiva a interrupção gerada pelo overflow do c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2" idx="1"/>
          </p:cNvCxnSpPr>
          <p:nvPr/>
        </p:nvCxnSpPr>
        <p:spPr>
          <a:xfrm flipV="1" rot="10800000">
            <a:off x="608760" y="1052640"/>
            <a:ext cx="2450520" cy="2071800"/>
          </a:xfrm>
          <a:prstGeom prst="bentConnector3">
            <a:avLst>
              <a:gd name="adj1" fmla="val 112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5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692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098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456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124080"/>
            <a:ext cx="82296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it 6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EEPROM write complet interrupt enable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it que permite ou não a interrupção gerada pelo fim de esc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a EEP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PT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permite a interrup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desactiva a interrup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2" idx="1"/>
          </p:cNvCxnSpPr>
          <p:nvPr/>
        </p:nvCxnSpPr>
        <p:spPr>
          <a:xfrm flipV="1" rot="10800000">
            <a:off x="913680" y="1052280"/>
            <a:ext cx="1496160" cy="20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6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692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98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456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89548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it 7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Global interrupt enable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it que activa /desactiva todas as interrupç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permite todas as interrup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desactiva todas as interrup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9" idx="1"/>
          </p:cNvCxnSpPr>
          <p:nvPr/>
        </p:nvCxnSpPr>
        <p:spPr>
          <a:xfrm flipV="1" rot="10800000">
            <a:off x="1294560" y="1052280"/>
            <a:ext cx="467640" cy="1886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429000" cy="266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32000" y="765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500280"/>
            <a:ext cx="1006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51280" y="378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51280" y="4365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51280" y="4005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6200000">
            <a:off x="6192360" y="3752280"/>
            <a:ext cx="576360" cy="6490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81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314172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ção externa por alteração do estado do pino RB0/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3284640"/>
            <a:ext cx="165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os de Interrupção por alteração dos estados das entradas RB7, RB6, RB5 e R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7280" y="620640"/>
            <a:ext cx="709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errupções Externas do PIC16F84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32000" y="98100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12536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S 4 TIPOS DE INTERRUPÇÕES DO     PIC16F84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256536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2492280"/>
            <a:ext cx="62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-Interrupção externa provocada pela mudança de estado do pino RB0/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- Interrupção provocada pelo overflow do TM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-Interrupção provocada pela mudança de estado dos pinos    RB7..RB4 da POR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-interrupção provocada pelo fim de escrita na EE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7080" y="500040"/>
            <a:ext cx="75798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1-Interrupção externa provocada pela mudança de estado do pino RB0\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ta interrupção é activada por flanco através do registo option-reg, que conté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vários bits de controlo com vários tipos de aplicações uma delas é a que se sit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 bit 6 do registo option-reg controla a interrupção externa 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6920" y="2205000"/>
          <a:ext cx="7272360" cy="365040"/>
        </p:xfrm>
        <a:graphic>
          <a:graphicData uri="http://schemas.openxmlformats.org/drawingml/2006/table">
            <a:tbl>
              <a:tblPr/>
              <a:tblGrid>
                <a:gridCol w="909000"/>
                <a:gridCol w="910080"/>
                <a:gridCol w="906480"/>
                <a:gridCol w="911880"/>
                <a:gridCol w="909000"/>
                <a:gridCol w="909000"/>
                <a:gridCol w="907920"/>
                <a:gridCol w="90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H="1">
            <a:off x="2626920" y="191628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2708280"/>
            <a:ext cx="777708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NTEDG- Selecção de activação de interrupção 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ctivação do flan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Ascendente se INTEDG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Descendente se INTEDG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lag INTIF è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activada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mpre que um flanco válido aparece no pino RB0/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-desactivada po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sua autorização é feita através do bit 4 do registo INTCON (INT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209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0120" y="762120"/>
            <a:ext cx="52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terrupção provocada pelo overflow do TM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5238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pre que o incremento do registo TMRO provocar a passagem de FFh para 00H(overflow) é activa a flag de interrupçã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 se encontra no bit 2 do registo INT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840" y="4952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57200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360" y="3048120"/>
            <a:ext cx="8153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 interrupção estiver autorizada é dada o processo de interrupção do micro:A autorização é realizada através do b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 encontra no registo 5 da INT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4952880"/>
          <a:ext cx="7272360" cy="365400"/>
        </p:xfrm>
        <a:graphic>
          <a:graphicData uri="http://schemas.openxmlformats.org/drawingml/2006/table">
            <a:tbl>
              <a:tblPr/>
              <a:tblGrid>
                <a:gridCol w="909000"/>
                <a:gridCol w="910080"/>
                <a:gridCol w="906480"/>
                <a:gridCol w="911880"/>
                <a:gridCol w="909000"/>
                <a:gridCol w="909000"/>
                <a:gridCol w="907920"/>
                <a:gridCol w="90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591640" y="4952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715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718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ização de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867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ag de pedido de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3840" y="533520"/>
            <a:ext cx="90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ção provocada pela mudança de estado dos pinos    RB7..RB4 da POR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523880"/>
            <a:ext cx="8381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acesso ao sistema de interrupções do microcontrolador pode ser feita do exterior através dos pinos dos pinos RB7..RB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mudança de estado em qualquer um dos bits RB7::RB4 coloca a 1 a flag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 se encontra na 1ºbit do registo INT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4952880"/>
          <a:ext cx="7272360" cy="381240"/>
        </p:xfrm>
        <a:graphic>
          <a:graphicData uri="http://schemas.openxmlformats.org/drawingml/2006/table">
            <a:tbl>
              <a:tblPr/>
              <a:tblGrid>
                <a:gridCol w="909720"/>
                <a:gridCol w="909720"/>
                <a:gridCol w="906120"/>
                <a:gridCol w="911520"/>
                <a:gridCol w="909360"/>
                <a:gridCol w="909720"/>
                <a:gridCol w="906480"/>
                <a:gridCol w="9097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208040" y="4952880"/>
            <a:ext cx="9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ização de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ag de pedido de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640" y="320040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a autorização pode ser feita através do b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 encontra no bit 3 do registo INT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15240" y="609480"/>
            <a:ext cx="61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ção provocada pelo fim de escrita na EE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7480" y="19051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ndo o processo de escrita na EEPROM termina a interrupção informa ao microcontrolador que terminou a escrita na memória ,esta informação encontra-se n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bit 4 do registo EECON1. Esta interrupção pode ser desactivada fazendo o reset no bit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que se encontra na posição 6 do registo INT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34920" y="4876920"/>
          <a:ext cx="7272360" cy="380880"/>
        </p:xfrm>
        <a:graphic>
          <a:graphicData uri="http://schemas.openxmlformats.org/drawingml/2006/table">
            <a:tbl>
              <a:tblPr/>
              <a:tblGrid>
                <a:gridCol w="909720"/>
                <a:gridCol w="909720"/>
                <a:gridCol w="906120"/>
                <a:gridCol w="911520"/>
                <a:gridCol w="909360"/>
                <a:gridCol w="909720"/>
                <a:gridCol w="906480"/>
                <a:gridCol w="909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90512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0574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ização de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52560" y="4038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- Flag de interrupção da operação de escrita na EE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333360"/>
            <a:ext cx="85690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tipo de interrupção tem 2 bits de controlo. Um que activa as interrupções e outro que detecta quando ocorrem as mesmas interrup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á um bit comum a todas as interrupções, o GIE que permite activar ou desactivar as interrupções simultane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IE è útil quando estamos a escrever um programa pois indica ás interrupções para estarem inactivas durante um período de tempo para que a execução do programa não seja interrompi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47640" y="3213000"/>
          <a:ext cx="58597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213000"/>
                    <a:ext cx="58597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050920" y="3933720"/>
            <a:ext cx="433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700280"/>
            <a:ext cx="83516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rrupções é um mecanismo do microcontrolador, que associa alguns eventos no momento em que eles ocorrem não interessando o que o microcontrolador está a executar no momento em que eles se dão, ocorrendo  assim a interrupçã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È uma parte muito importante do microcontrolador pois vai fazer a ligação entre este e o ambiente que o rode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Geralmente cada interrupção muda a corrente do programa obrigando-o a parar para executar um subprograma, que se denomina por rotina de interrupção. Depois de ser executado este subprograma é que a corrente do programa regressa ao ponto do qual foi invocada, continuando assim a executar o programa princip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404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144792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ndo é requerida a interrupção o GIE é colocado a 0, para não permitir mais nenhuma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terrupção só se inicia quando o endereço de retorno é colocado na stack (memória) e o pc(program counter) a carregar com o endereço 04h,é a partir desta posição de memória que será escrita a rotina de serviço de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038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NOTA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s diferentes flags de pedido de interrupção podem ser activadas independentemente de as respectivas interrupções estarem ou não autorizadas ou do estado do 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105264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a se usar as interrupções certas tarefas precisam de ser defenidas, a este processo chama-mos de inicializ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urante a inicialização temos que definir quais as interrupções que o microcontrolador terá que responder e as que ele terá que igno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 não inicializar-mos o bit  que activa uma certa interrupção, o programa não executara o subprograma de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0640" y="328464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Para resolver este problema podemos executar a seguinte instru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733920"/>
            <a:ext cx="8076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clrf  INTC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;todas interrupções desact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Movlw B’0001000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;apenas activadas as interrupçõ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Bsf  INTCON, GI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;ocorrência das interrupções activ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76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CIALIZAÇÂO DAS INTERRUPÇÔ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105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programa permite-nos ver onde começa o processo da interrupção ,ou seja quando a interrupção é activada caso surja  outra interrupção  ,esta não será activada e todas as interrupções só serão activada quando GIE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1447920"/>
            <a:ext cx="82296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ndo no programa se dá a interrupção,ele  terá que guardar o tipo de  valores que existem para não os perder quando regressar do sub -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este processo dá-se o nome de </a:t>
            </a: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push po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Ao serem enviados para o sub programa os valores podem sofrer alterações e no final do sub -programa estes podem sofrer alterações e assim terem valores diferentes daqueles que foram fornecidos pelo programa principal. Assim sendo o programa não utiliza os valores que encontram no final dão sub programa mas sim os que guardou antes de recorrer ao ao mesmo. Assim a execução do programa será a correcta e sem er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5493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5715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264360" cy="4392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573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o do meio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404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Interrup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ntes Possíveis de Interrupção e como afecta o programa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o de Contro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349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gistro de controlo de uma Interrupção é chamado INTCON e encontra-se no endereço de memória 0B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76360" y="3573360"/>
          <a:ext cx="6408720" cy="433440"/>
        </p:xfrm>
        <a:graphic>
          <a:graphicData uri="http://schemas.openxmlformats.org/drawingml/2006/table">
            <a:tbl>
              <a:tblPr/>
              <a:tblGrid>
                <a:gridCol w="863640"/>
                <a:gridCol w="738000"/>
                <a:gridCol w="801720"/>
                <a:gridCol w="801720"/>
                <a:gridCol w="754200"/>
                <a:gridCol w="847800"/>
                <a:gridCol w="799920"/>
                <a:gridCol w="801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826920" y="450864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70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508640"/>
            <a:ext cx="8280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unção deste registo é assinalar e permitir ou não as interrupções através dos seus bits. Os bits com terminação em 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ão flags que assinalam a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bits com terminação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ermitem ou não a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59092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0 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 RB Port Change Interrupt Flag bit) 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È o bit que informa sobre as mudanças de estado nos pino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B7..RB4 da POR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 Houve mudança de estado em pelo menos um dos pinos, o que dá origem a uma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Não ocorreu mudança de estado em nenhum dos p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1"/>
          </p:cNvCxnSpPr>
          <p:nvPr/>
        </p:nvCxnSpPr>
        <p:spPr>
          <a:xfrm flipV="1" rot="10800000">
            <a:off x="608760" y="1052280"/>
            <a:ext cx="5690520" cy="1705680"/>
          </a:xfrm>
          <a:prstGeom prst="bentConnector3">
            <a:avLst>
              <a:gd name="adj1" fmla="val 1070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700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1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T External Interrupt Flag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È o bit que informa sobre as mudanças de estado no 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B0/INT da POR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Houve mudança de estado no pino que dá origem  a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Não ocorreu mudança de estado em no p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1" idx="1"/>
          </p:cNvCxnSpPr>
          <p:nvPr/>
        </p:nvCxnSpPr>
        <p:spPr>
          <a:xfrm flipV="1" rot="10800000">
            <a:off x="608760" y="1052280"/>
            <a:ext cx="5042880" cy="1767600"/>
          </a:xfrm>
          <a:prstGeom prst="bentConnector3">
            <a:avLst>
              <a:gd name="adj1" fmla="val 1076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286000"/>
            <a:ext cx="799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2 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pt-PT" sz="1800" spc="-1" strike="noStrike">
                <a:solidFill>
                  <a:srgbClr val="00cc00"/>
                </a:solidFill>
                <a:latin typeface="Arial"/>
              </a:rPr>
              <a:t>I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TMR0 Overflow Interrupt Flag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È o bit que informa quando o contador passa do valor FFh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00h(overflo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ocorreu overflow do contador dando origem a uma interrup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não há overflow do con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6" idx="1"/>
          </p:cNvCxnSpPr>
          <p:nvPr/>
        </p:nvCxnSpPr>
        <p:spPr>
          <a:xfrm flipV="1" rot="10800000">
            <a:off x="837360" y="1051200"/>
            <a:ext cx="4164840" cy="1386000"/>
          </a:xfrm>
          <a:prstGeom prst="bentConnector3">
            <a:avLst>
              <a:gd name="adj1" fmla="val 1098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5456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3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RB port change interrupt enable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que permite ou não a interrupção gerada pela alteração de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s pinos RB7..RB4 da POR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permite a interrupção nos p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desactiva a interrupção nos p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9" idx="1"/>
          </p:cNvCxnSpPr>
          <p:nvPr/>
        </p:nvCxnSpPr>
        <p:spPr>
          <a:xfrm flipV="1" rot="10800000">
            <a:off x="837360" y="1052280"/>
            <a:ext cx="3517200" cy="2162880"/>
          </a:xfrm>
          <a:prstGeom prst="bentConnector3">
            <a:avLst>
              <a:gd name="adj1" fmla="val 1136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0692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456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9928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2200" y="836640"/>
            <a:ext cx="647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590920"/>
            <a:ext cx="691200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4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INT external interrupt enable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t que permite ou não a interrupção gerada pela alt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 estado no pino RB0/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permite a interrupção no 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desactiva a interrupção no 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5" idx="1"/>
          </p:cNvCxnSpPr>
          <p:nvPr/>
        </p:nvCxnSpPr>
        <p:spPr>
          <a:xfrm flipV="1" rot="10800000">
            <a:off x="913680" y="1052280"/>
            <a:ext cx="2793240" cy="2162880"/>
          </a:xfrm>
          <a:prstGeom prst="bentConnector3">
            <a:avLst>
              <a:gd name="adj1" fmla="val 120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3-03-24T22:39:57Z</dcterms:modified>
  <cp:revision>7</cp:revision>
  <dc:subject/>
  <dc:title>Apresentação do PowerPoint</dc:title>
</cp:coreProperties>
</file>