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F7BC-7AB0-4DC4-8D48-FD40B703E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2AA1-7F6A-4990-9E4A-EEC5973A9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8CBC-6F37-48BC-B281-C9F2DB15A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BA03-3A8E-4FF8-8A67-EA8B712E9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7411-EBD6-4733-9E35-BC5B5DC218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B721-3111-4599-AFF4-D13672080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1FDF-693E-4261-A738-84A5B387E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BCCB-3C82-45AC-923A-495D19E0C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4BA3-F2E5-440C-9267-CAAC7A594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4CCA-B178-48AD-B211-9CD7D47E2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ACC7-8EF8-4E0A-9BF3-FAA00E540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94C6-AB64-48A6-99F4-1CC8F7FEB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416-25CB-4094-B0D3-9362A342595F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05600"/>
            <a:ext cx="229248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file:///vulnerabilidades.ppt" TargetMode="External"/><Relationship Id="rId5" Type="http://schemas.openxmlformats.org/officeDocument/2006/relationships/hyperlink" Target="file:///estrat&#233;gias.ppt" TargetMode="External"/><Relationship Id="rId6" Type="http://schemas.openxmlformats.org/officeDocument/2006/relationships/hyperlink" Target="file:///solu&#231;&#245;es.ppt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00000" y="3141720"/>
            <a:ext cx="748980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niversidade do Minh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435640" y="429264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cola de Engenhar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64000" y="5300640"/>
            <a:ext cx="363564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partamento de Informátic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5256360" cy="1725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2154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11280" y="1844640"/>
            <a:ext cx="699120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gurança em sistemas Informático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76360" y="3141720"/>
            <a:ext cx="38959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ulnerabilidades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3933720"/>
            <a:ext cx="389592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tratégias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76720" y="4869000"/>
            <a:ext cx="38955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 algumas soluçõ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4037040" cy="317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30920" y="2205000"/>
            <a:ext cx="39085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ulner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stratég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olu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348000" y="2637000"/>
            <a:ext cx="168120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22:37:07Z</dcterms:created>
  <dc:creator>jose</dc:creator>
  <dc:description/>
  <dc:language>en-US</dc:language>
  <cp:lastModifiedBy>jose</cp:lastModifiedBy>
  <dcterms:modified xsi:type="dcterms:W3CDTF">2002-05-17T09:32:29Z</dcterms:modified>
  <cp:revision>43</cp:revision>
  <dc:subject/>
  <dc:title>Segurança Informática</dc:title>
</cp:coreProperties>
</file>