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E860-F049-4740-B39C-44415B6EE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23C5-1573-49E4-B5F5-732C8C18F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7A8-2655-456E-B762-194E0904A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B767-C91E-46BB-8540-42CBDE9B8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ACCF-CF76-4433-8F90-4DB3CA949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55B2-1D4E-467A-810B-D63DE67E9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E18A-3930-4F59-925E-68D4A8ADC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1D1F-E433-4FE2-86E1-ED6FD6055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D80A-9925-4BF5-8D02-13A91CB1D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9A1F-8E23-49D2-97FD-EED047C6B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59C6-6D67-45D0-A474-EC01EA435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D21F-DC90-4BA6-9FBA-5791507FB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BBFC-7D45-4323-8405-452CEFC0269A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2292480" cy="75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042920" y="2276640"/>
            <a:ext cx="699156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rança em sistemas Informático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619280" y="3645000"/>
            <a:ext cx="648180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tratég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9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essoas com conhecimentos/capacidades técn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de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que deve ser protegid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l o risc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la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l a forma mais eficiente de proteg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is as medidas em caso de ataqu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que deve ser impleme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Quais as acções a desenvolver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tribuir os privilégios estritamente ess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Defesa múltip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ara obter uma segurança mais efectiva dos nossos sistemas devemos conjugar vários meios de protecção: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rewalls, administração cuidada, empregar meios seguros na troca de dados sensíveis: PGP, SSH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erramentas de despi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sar ferramentas que permitam detectar falhas ou lacunas nos sist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acking de pass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ntrolo num p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troduzir uma firewall. É mais fácil vigiar uma entrada do que dezenas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ontos fr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nter os pontos fracos sempre “debaixo de ol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stado de segurança por de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mpre que um sistema entra em ruptura não pode ficar num estado indeterminado ou de fac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egação por def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mos considerar que, por defeito, tudo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que não é explicitamente permitido é recus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straté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articipação de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Segurança começa por cada um dos utilizador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impli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simplicidade é frequentemente um aspecto muito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ortante na segurança de um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900000" y="260280"/>
            <a:ext cx="4257720" cy="3629160"/>
            <a:chOff x="900000" y="260280"/>
            <a:chExt cx="4257720" cy="3629160"/>
          </a:xfrm>
        </p:grpSpPr>
        <p:sp>
          <p:nvSpPr>
            <p:cNvPr id="53" name="Gear"/>
            <p:cNvSpPr/>
            <p:nvPr/>
          </p:nvSpPr>
          <p:spPr>
            <a:xfrm>
              <a:off x="3260520" y="26028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00000" y="94608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71320" y="167976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1116000" y="2637000"/>
            <a:ext cx="521028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Articulação desta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3284640"/>
            <a:ext cx="521028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tratégias contribu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700360" y="4292640"/>
            <a:ext cx="521028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uma melho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48000" y="5300640"/>
            <a:ext cx="521028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guranç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22:37:07Z</dcterms:created>
  <dc:creator>jose</dc:creator>
  <dc:description/>
  <dc:language>en-US</dc:language>
  <cp:lastModifiedBy>jose</cp:lastModifiedBy>
  <dcterms:modified xsi:type="dcterms:W3CDTF">2002-05-16T22:55:22Z</dcterms:modified>
  <cp:revision>36</cp:revision>
  <dc:subject/>
  <dc:title>Segurança Informática</dc:title>
</cp:coreProperties>
</file>