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6A69-0A08-47ED-9AF9-4DFA9F36E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F58A-9829-4912-9D19-E69DB7202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0318-1856-4C39-9A1A-8D8582130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6CCD-2E65-4081-8DA6-9A4BBCF72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BC65-082C-4AB0-BA8F-FA1EACE32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E5E7-171D-4B0E-A413-26A60798A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19A8-29E7-4264-AFC2-7CF349607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473D-7045-424C-8D9D-E40255246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A228-5A2D-4EBD-B197-8960C90D8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FE6D-0E16-49DD-A0C2-B4B145C38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002C-3EE0-43EC-9DAF-796AC4054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A108-757F-42F0-A1FC-745AD6888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7F64-5E68-40C5-95EE-56B24B26B36D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229248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042920" y="2276640"/>
            <a:ext cx="699156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rança em Sistemas Informáticos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619280" y="3645000"/>
            <a:ext cx="648180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ulnerabilidad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poof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Quando um utilizador diz ser quem não é, uma máquina identifica-se como sendo outra, tendo um IP que não lhe pertence, ou ainda um domínio que não é o  eu. São exemplos de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poof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taques TCP/IP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Ataques que tomam como vantagem a forma como o protocolo  está estruturado e da forma como funcionam as conex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ession Hij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Quando um utilizador toma conta de uma sessão ou de uma  conex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Consiste basicamente numa actividade que evita o normal funcionamento de outr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Vírus/Cavalos de Tro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eradores de ví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aso do gen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eradores de “Cavalos de Tro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tBus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So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houlder Surf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Olhar sobre o ombro de um outro utilizador e obter informação importante, como por exemplo a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anipulaç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Fazer-se passar por um administrador ou por um quadro superior da empresa para exigir determinadas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Fí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cesso ao Sistem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Quando um utilizador tem acesso à consola do sistema tem  acesso a praticamente tudo. Por exemplo a reiniciar o sistema como "single user" no caso do lin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scuta rádio-eléctric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Os meios de transmissão mais empregues são eléctricos e podem ser interceptados. No caso de fibras ópticas a intercepção é bem mais difí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Não existem sistemas seguro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mas devemos caminhar 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persistentemente no seu senti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708360" y="476280"/>
            <a:ext cx="1728720" cy="1295280"/>
            <a:chOff x="3708360" y="476280"/>
            <a:chExt cx="1728720" cy="1295280"/>
          </a:xfrm>
        </p:grpSpPr>
        <p:sp>
          <p:nvSpPr>
            <p:cNvPr id="44" name="Lock"/>
            <p:cNvSpPr/>
            <p:nvPr/>
          </p:nvSpPr>
          <p:spPr>
            <a:xfrm>
              <a:off x="3924360" y="476280"/>
              <a:ext cx="1276200" cy="1171440"/>
            </a:xfrm>
            <a:prstGeom prst="pi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708360" y="476280"/>
              <a:ext cx="1728720" cy="1295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3708360" y="476280"/>
              <a:ext cx="1728720" cy="1295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765000"/>
            <a:ext cx="79200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Bookman Old Style"/>
              </a:rPr>
              <a:t>... que é bom havê-las examinado a todas, até as mais supersticiosas e falsas, a fim de lhes conhecer o justo valor e de evitar ser por elas enganad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 “Discurso do Método”, Desc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PT" sz="4400" spc="-1" strike="noStrike">
                <a:solidFill>
                  <a:srgbClr val="000000"/>
                </a:solidFill>
                <a:latin typeface="Arial"/>
              </a:rPr>
              <a:t>footprint” - target a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colha de informações do alvo a ata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 levar meses ou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rti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áginas www com demasiada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ites com vulnerabilidades de outros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roca de experiências entre “hack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Tipos Principais de Vulnerabil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2362320" cy="239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1916280"/>
            <a:ext cx="1663560" cy="196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635120" cy="1406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95640" y="2421000"/>
            <a:ext cx="1871640" cy="1041480"/>
          </a:xfrm>
          <a:prstGeom prst="cloudCallout">
            <a:avLst>
              <a:gd name="adj1" fmla="val -46944"/>
              <a:gd name="adj2" fmla="val 6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o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87280" y="4437000"/>
            <a:ext cx="1871640" cy="1041480"/>
          </a:xfrm>
          <a:prstGeom prst="cloudCallout">
            <a:avLst>
              <a:gd name="adj1" fmla="val -46944"/>
              <a:gd name="adj2" fmla="val 6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931640" y="1557360"/>
            <a:ext cx="2158920" cy="1041480"/>
          </a:xfrm>
          <a:prstGeom prst="cloudCallout">
            <a:avLst>
              <a:gd name="adj1" fmla="val -47356"/>
              <a:gd name="adj2" fmla="val 61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avalos de Troi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 Programas ou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mbebidos em programas aparentemente normais, e que são despoletados quando os ditos programas ou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normais são execu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Back Door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Programas,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ou funcionalidade embebida noutros programas ou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, tidos como normais, e que facilitam o acesso ao sistema. Similar aos Cavalos de Tro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assword Crack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Descobrir ou determina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password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recorrendo a ferramentas que o fazem como 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rack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ermissões dos ficheiros e do PATH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Atribuições indevidas de permissões a ficheiros pode permitir que outros tenham direitos especiais sobre 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UID de Scripts e Program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Programas ou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e correm com um SUID de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 por isso tem determinados privilégios que podem comprometer o sistema. São muitos  os ataques que recorrem a este tipo de fal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Trusted Host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O uso de máquinas de confiança pode levar a estender  as  permissões sobre uma rede int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Vulnerabilidades Técnica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Buffer Overflow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Uma falha no controlo dos limites de um buffer pode levar a permitir escrever na memória do sistema. Ao permitir escrever na memória pode estar a lançar um programa indese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canning and Sniff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- 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e uma rede pode ajudar a determinar qual o sistema operativo, além de outra informação importante, que está num determinado sistema. O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sniffin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permite “caçar” informação confidencial que está a circular na re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2:37:07Z</dcterms:created>
  <dc:creator>jose</dc:creator>
  <dc:description/>
  <dc:language>en-US</dc:language>
  <cp:lastModifiedBy>jose</cp:lastModifiedBy>
  <dcterms:modified xsi:type="dcterms:W3CDTF">2002-05-17T10:26:46Z</dcterms:modified>
  <cp:revision>43</cp:revision>
  <dc:subject/>
  <dc:title>Segurança Informática</dc:title>
</cp:coreProperties>
</file>