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A172-A552-451F-BD10-EEF8F7A8D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E116-FA64-49EB-91FA-CF91938E1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C78F-2F4B-4A1F-8C12-421B9652C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91FC-8351-4E12-A7C6-9B56A30060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2B7C-D077-4F26-B2BC-33FB2FE607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8630-6B21-474C-A224-D7978C938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4307-4291-40FD-AFB1-663496018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AB30-40CF-4B33-8205-328060B1A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7059-4C5B-4FD7-958B-6C32C5173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8F69-DD7C-4152-9E86-FBEA18D86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2F9C-C3C6-4C05-86A2-78A04354C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BEAA-A031-4E3E-B6EE-7512693DC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5AAF-8091-48AB-BEF2-68B26D4DAE53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105600"/>
            <a:ext cx="2292480" cy="75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042920" y="2276640"/>
            <a:ext cx="6991560" cy="7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gurança em sistemas Informáticos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843280" y="3933720"/>
            <a:ext cx="4591080" cy="6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lgumas Soluçõ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iversos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Visitar os “sites” com informação sobre segu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ando justificado usar V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Vigiar os “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Logs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” de p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nferir os checksum e as assina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ivers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 linu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/etc/hosts.d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LL: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ar password com sha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iver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o Wind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Bloquear as contas “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guest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ão usar o I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uidado com o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Requisitos de um Sistema Informá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utentic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idenci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tregr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ão repú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jus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m Pc convertido numa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Dedic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o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or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tenção: Com uma zona DMZ (Desmilitarized 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506700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istemas IDS/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nort (grátis) [snort.conf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Dragon (comer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uresecure (Comercial/Grá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878544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ubstituir as password por smart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ubstituír as password por comporta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ato com leitor de impressão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eclado com leitor de impressão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istemas biomé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otecção física dos sistema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Í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martcard + d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alma da m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ertifi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Utilizar certif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vitar servidores “fak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SL False cria um servidor https “fak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Diver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mover todos o “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.rhost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ar programas de despist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Não confiar em todo o tipo de pro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ar Switchs em vez de H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riar “Honey po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er disc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Visitar os sites dos “hack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22:37:07Z</dcterms:created>
  <dc:creator>jose</dc:creator>
  <dc:description/>
  <dc:language>en-US</dc:language>
  <cp:lastModifiedBy>jose</cp:lastModifiedBy>
  <dcterms:modified xsi:type="dcterms:W3CDTF">2002-05-17T15:36:04Z</dcterms:modified>
  <cp:revision>63</cp:revision>
  <dc:subject/>
  <dc:title>Segurança Informática</dc:title>
</cp:coreProperties>
</file>