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AAE-7FCD-4E19-937B-9C157E28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A29-2A57-496F-BD34-DC76866A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A09-239B-4505-8928-0AB2903E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028-A310-411F-871B-98315F1B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406C-8414-407D-8595-27EF2900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B91E-22D5-4645-8420-3CF214B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5BD2-32E6-47B4-90FF-C4B2799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CC09-2B3E-4CD9-A489-1BEA007F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D58D-5EFE-4B90-B595-F06186BD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59F6-AC86-4A09-98AD-8FE12E12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502B-BC31-4BB5-9C97-39D4414E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187-484E-48B4-A607-E24A4612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D330-2268-478E-A992-D714E81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E8AE-EE70-4D8C-A758-498D0D81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B86-2506-4EBC-B065-44E1B49F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62CA-6709-4EB2-A635-FCFDAFD0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87C8-0243-42D7-8AAB-7E1A76E3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581-2F48-47AC-939B-3BAD77A3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F53-1380-4141-AE8F-8A02F54F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08D-B401-4A3C-B98C-D7D2217C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964-5647-4379-9538-48580ADC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049-0557-4DF2-83FE-6554B062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735-3FDD-4E1E-A733-443DFF35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80A-4CCB-4071-9BEB-9047530A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6D8-23C2-4D2D-A7D7-5BCE3A433B5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82AC-0915-4526-B73C-05CD27D1915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nort.org/" TargetMode="External"/><Relationship Id="rId3" Type="http://schemas.openxmlformats.org/officeDocument/2006/relationships/hyperlink" Target="http://www.snort.org/" TargetMode="External"/><Relationship Id="rId4" Type="http://schemas.openxmlformats.org/officeDocument/2006/relationships/hyperlink" Target="http://www.snort.org/" TargetMode="External"/><Relationship Id="rId5" Type="http://schemas.openxmlformats.org/officeDocument/2006/relationships/hyperlink" Target="http://www.snort.org/" TargetMode="External"/><Relationship Id="rId6" Type="http://schemas.openxmlformats.org/officeDocument/2006/relationships/hyperlink" Target="http://www.snort.org/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192.168.51.101/cgi-bin/phf?Qalias=x%0A/bin/cat%20/etc/passwd" TargetMode="External"/><Relationship Id="rId3" Type="http://schemas.openxmlformats.org/officeDocument/2006/relationships/hyperlink" Target="http://192.168.51.101/cgi-bin/phf?Qalias=x%0A/bin/cat%20/etc/passwd" TargetMode="External"/><Relationship Id="rId4" Type="http://schemas.openxmlformats.org/officeDocument/2006/relationships/hyperlink" Target="http://192.168.51.101/cgi-bin/phf?Qalias=x%0A/bin/cat%20/etc/passwd" TargetMode="External"/><Relationship Id="rId5" Type="http://schemas.openxmlformats.org/officeDocument/2006/relationships/hyperlink" Target="http://192.168.51.101/cgi-bin/phf?Qalias=x%0A/bin/cat%20/etc/passwd" TargetMode="External"/><Relationship Id="rId6" Type="http://schemas.openxmlformats.org/officeDocument/2006/relationships/hyperlink" Target="http://192.168.51.101/cgi-bin/phf?Qalias=x%0A/bin/cat%20/etc/passwd" TargetMode="External"/><Relationship Id="rId7" Type="http://schemas.openxmlformats.org/officeDocument/2006/relationships/hyperlink" Target="http://192.168.51.101/cgi-bin/phf?Qalias=x%0A/bin/cat%20/etc/passwd" TargetMode="External"/><Relationship Id="rId8" Type="http://schemas.openxmlformats.org/officeDocument/2006/relationships/hyperlink" Target="http://192.168.51.101/cgi-bin/phf?Qalias=x%0A/bin/cat%20/etc/passwd" TargetMode="External"/><Relationship Id="rId9" Type="http://schemas.openxmlformats.org/officeDocument/2006/relationships/hyperlink" Target="http://192.168.51.101/cgi-bin/phf?Qalias=x%0A/bin/cat%20/etc/passwd" TargetMode="External"/><Relationship Id="rId10" Type="http://schemas.openxmlformats.org/officeDocument/2006/relationships/hyperlink" Target="http://192.168.51.101/cgi-bin/phf?Qalias=x%0A/bin/cat%20/etc/passwd" TargetMode="External"/><Relationship Id="rId11" Type="http://schemas.openxmlformats.org/officeDocument/2006/relationships/hyperlink" Target="http://192.168.51.101/cgi-bin/phf?Qalias=x%0A/bin/cat%20/etc/passwd" TargetMode="External"/><Relationship Id="rId12" Type="http://schemas.openxmlformats.org/officeDocument/2006/relationships/hyperlink" Target="http://192.168.51.101/cgi-bin/phf?Qalias=x%0A/bin/cat%20/etc/passwd" TargetMode="External"/><Relationship Id="rId13" Type="http://schemas.openxmlformats.org/officeDocument/2006/relationships/hyperlink" Target="http://192.168.51.101/cgi-bin/phf?Qalias=x%0A/bin/cat%20/etc/passwd" TargetMode="External"/><Relationship Id="rId14" Type="http://schemas.openxmlformats.org/officeDocument/2006/relationships/hyperlink" Target="http://192.168.51.101/cgi-bin/phf?Qalias=x%0A/bin/cat%20/etc/passwd" TargetMode="External"/><Relationship Id="rId15" Type="http://schemas.openxmlformats.org/officeDocument/2006/relationships/hyperlink" Target="http://192.168.51.101/cgi-bin/phf?Qalias=x%0A/bin/cat%20/etc/passwd" TargetMode="External"/><Relationship Id="rId16" Type="http://schemas.openxmlformats.org/officeDocument/2006/relationships/hyperlink" Target="http://192.168.51.101/cgi-bin/phf?Qalias=x%0A/bin/cat%20/etc/passwd" TargetMode="External"/><Relationship Id="rId17" Type="http://schemas.openxmlformats.org/officeDocument/2006/relationships/hyperlink" Target="http://192.168.51.101/cgi-bin/phf?Qalias=x%0A/bin/cat%20/etc/passwd" TargetMode="External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Sistemas de Detecção de Intrusõ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edro Miguel Félix Alí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Mestrado em Inform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Departamento de Inform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Universidade do Min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palipio@dei.isep.ipp.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Sistemas de Detecção de Intrusõ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êm como objectivo monitorizar a actividade do sistema a fim de detectar actividade suspeita de ser um ataque ou parte de um ataque (Evento)</a:t>
            </a:r>
            <a:r>
              <a:rPr b="0" i="1" lang="pt-P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omponentes Funcionais dos SD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xtracção Infor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Anal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Gerador de Respo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lassificação dos SD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SDI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e Alvo na mesma localiz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SDI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 Alvo em localizações disti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Obje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sponsabiliz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spo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lassificação dos SD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stratégia de Contro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entrali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arcialmente distribuí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otalmente distribuí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Baseados em Interva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empo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lassificação dos SD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Fontes da Infor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Baseados no tráfego da re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Baseados no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Baseados em Aplic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ipo de anál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etecção de abusos (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misuse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etecção de anoma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lassificação dos SD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ipos de Respo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spostas ac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spostas pass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Mi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SDI baseados na análise do Tráfego em Tempo Re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Snort (</a:t>
            </a:r>
            <a:r>
              <a:rPr b="0" lang="pt-PT" sz="32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www</a:t>
            </a:r>
            <a:r>
              <a:rPr b="0" lang="pt-PT" sz="32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.</a:t>
            </a:r>
            <a:r>
              <a:rPr b="0" lang="pt-PT" sz="32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snort</a:t>
            </a:r>
            <a:r>
              <a:rPr b="0" lang="pt-PT" sz="3200" spc="-1" strike="noStrike" u="sng">
                <a:solidFill>
                  <a:srgbClr val="f98d43"/>
                </a:solidFill>
                <a:uFillTx/>
                <a:latin typeface="Arial"/>
                <a:hlinkClick r:id="rId5"/>
              </a:rPr>
              <a:t>.</a:t>
            </a:r>
            <a:r>
              <a:rPr b="0" lang="pt-PT" sz="32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org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oblemas de desempen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Unidades de tráfego por analis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evido à necessidade da verificação de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payloads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s unidades de tráf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É necessário usar algoritmos efic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SDIs baseados na análise do Tráfego em Tempo Re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ffffff"/>
                </a:solidFill>
                <a:latin typeface="Arial"/>
              </a:rPr>
              <a:t>Pattern Matching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simultâneo de multiplos padrões contra o </a:t>
            </a:r>
            <a:r>
              <a:rPr b="0" i="1" lang="pt-PT" sz="3200" spc="-1" strike="noStrike">
                <a:solidFill>
                  <a:srgbClr val="ffffff"/>
                </a:solidFill>
                <a:latin typeface="Arial"/>
              </a:rPr>
              <a:t>payload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das unidades de tráf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É necessário separar os testes relativos aos </a:t>
            </a:r>
            <a:r>
              <a:rPr b="0" i="1" lang="pt-PT" sz="3200" spc="-1" strike="noStrike">
                <a:solidFill>
                  <a:srgbClr val="ffffff"/>
                </a:solidFill>
                <a:latin typeface="Arial"/>
              </a:rPr>
              <a:t>payloads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dos testes relativos aos campos dos cabeçalh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SDIs baseados na análise do Tráfego em Tempo Re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i="1" lang="pt-PT" sz="3200" spc="-1" strike="noStrike">
                <a:solidFill>
                  <a:srgbClr val="ffffff"/>
                </a:solidFill>
                <a:latin typeface="Arial"/>
              </a:rPr>
              <a:t>snort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não mantém informação de es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A informação de estado é mais um </a:t>
            </a:r>
            <a:r>
              <a:rPr b="0" i="1" lang="pt-PT" sz="3200" spc="-1" strike="noStrike">
                <a:solidFill>
                  <a:srgbClr val="ffffff"/>
                </a:solidFill>
                <a:latin typeface="Arial"/>
              </a:rPr>
              <a:t>bottleneck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É necessário manter estado para relacionar eventos temporal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SDIs baseados na análise do Tráfego em Tempo Re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antendo estado torna-se necessári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esenvolver uma linguagem flexível para descrever as assinaturas ou padrões de ataques (Por exemplo: Regras de Produçã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riar um modelo de representação do conheci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esenvolver um motor de raciocín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Definição da Ameaç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om o alargamento da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Internet,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o número de sistemas e de utilizadores têm aumentado a um ritmo vertigino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Mais potenciais utilizadores mal intencio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É extremamente difícil ou até impossível identificar todos os utilizadores que acedem aos serviços disponibilizados pelos sistemas de inform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Contribui para uma sensação de impun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Exemplos de Regr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rule create_half_open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exists(fid:=tcp_unit(T:=timestamp, flags='SA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DA:=destinationAddres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DP:=destinationPort, SA:=sourceAddres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P:=sourcePort)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-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addfact tcp_half_open{class:='TCP Events'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description:='Open Half Connection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ourceAddress:=SA, sourcePort:=SP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destinationAddress:=D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destinationPort:=DP, timestamp:=T}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Exemplos de Regr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rule tcp_open_connec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exists(fid:=tcp_unit(SA:=SourceAddress,SP:=SourcePor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A:=destinationAddres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P:=destinationPort, flags='A')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exists(eventid:=tcp_open_half(sourceAddress=DA,sourcePort=DP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estinationAddress=S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estinationPort=SP)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[removefact(eventid)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Exemplos de Regr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cp_half_conn_timeout:=5: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ule tcp_bad_con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exists(fid:=tcp_unit(T:=timestamp, destinationAddress=S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estinationPort=SP))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exists(eventid:=tcp_half_open(sourceAddress=SA, sourcePort=SP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1:=timestamp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 after T1+tcp_half_conn_timeout))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[removefact eventid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[addfact tcp_bad_conn{class:='TCP Events', description:='Bad Connection'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ourceAddress:=SA, sourcePort:=SP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imestamp:=T}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[addcounter badconns_counter{sourceAddress:=SA,destinationPort:=SP}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Regra para detectar Syn-Flood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ax_bad_conns:=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rule syn_flooding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exists(tcp_unit(SA:=SourceAddress,SP:=SourcePor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DA:=DestinationAddress, DP:=DestinationPor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lags=‘S’))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exists(counter:=badconns_counter(SourceAddres=D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ourcePort=DP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Value&gt;max_bad_conns})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-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removeall badcons]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removefact badconns_counter]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alert 'Syn_Flooding Attack to ' &amp; SA ":" &amp; SP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Tecnicas de Evasão a SD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Fragmentação do Tráfego (</a:t>
            </a:r>
            <a:r>
              <a:rPr b="0" i="1" lang="pt-PT" sz="3200" spc="-1" strike="noStrike">
                <a:solidFill>
                  <a:srgbClr val="ffffff"/>
                </a:solidFill>
                <a:latin typeface="Arial"/>
              </a:rPr>
              <a:t>fragro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Os SDIs baseados na análise do tráfego da rede devem reagrupar fragmentos IP e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streams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TC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Mais um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bottleneck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de desempen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snort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 usa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plugins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e pré-processamento para a reconstituição de pacotes IP fragmentados e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streams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TC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Interoperabilida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Nor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IDF (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Common Intrusion Detection Framework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DWG (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Intrusion Detection Working Group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ossibilidade de interagir com distintos sensores ou sist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Direcções Futur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Distribuição dos S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Sensores móveis de forma a evitarem ataques de DoS (Denial of Servi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Balanceamento da carga do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m sistemas baseado na análise do tráfego permite resolver o problema das redes comut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bordagens multip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FIM DA APRESENTAÇÃ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estõ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Definição da Ameaç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Os custos da indisponibilidade de alguns serviços são extremamente elev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xiste um acesso fácil a documentação relacionada com actividades ilíci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má qualidade do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</a:rPr>
              <a:t>software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permite que determinadas falhas possam ser exploradas para levar a cabo acções ilíci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Vulnerabilida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onto fraco do sistema que pode ser explorado com o objectivo de obter acesso não autor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ausas de Vulnerabilida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Falhas das aplicaçõ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Falhas na concepção dos protocolos de comunicaçõ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Má configuração dos sistemas e das 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Exempl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Falhas das aplicaçõ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Falhas de </a:t>
            </a:r>
            <a:r>
              <a:rPr b="0" i="1" lang="pt-PT" sz="2400" spc="-1" strike="noStrike">
                <a:solidFill>
                  <a:srgbClr val="ffffff"/>
                </a:solidFill>
                <a:latin typeface="Arial"/>
              </a:rPr>
              <a:t>scripts C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PHF – 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Permite executar comandos através do servidor we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http://192.168.51.101/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cgi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-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5"/>
              </a:rPr>
              <a:t>bin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/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7"/>
              </a:rPr>
              <a:t>phf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8"/>
              </a:rPr>
              <a:t>?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Qalias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10"/>
              </a:rPr>
              <a:t>=x%0a/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11"/>
              </a:rPr>
              <a:t>bin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12"/>
              </a:rPr>
              <a:t>/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13"/>
              </a:rPr>
              <a:t>cat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14"/>
              </a:rPr>
              <a:t>%20/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15"/>
              </a:rPr>
              <a:t>etc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16"/>
              </a:rPr>
              <a:t>/</a:t>
            </a:r>
            <a:r>
              <a:rPr b="0" lang="pt-PT" sz="1600" spc="-1" strike="noStrike" u="sng">
                <a:solidFill>
                  <a:srgbClr val="f98d43"/>
                </a:solidFill>
                <a:uFillTx/>
                <a:latin typeface="Arial"/>
                <a:hlinkClick r:id="rId17"/>
              </a:rPr>
              <a:t>passw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Falhas dos protoco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YN-FLOO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Flooding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 explorando uma vulnerabilidade do </a:t>
            </a: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Hand-shake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 em três fase do protoco TC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Má configur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mu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A má configuração de </a:t>
            </a: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routers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 permite a amplificação do ataq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Intrusão ou Ataqu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junto de eventos levados a cabo por um indivíduo para atingir um fim ilícito que pode consistir na violação 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isponibili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tegri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onfidencialid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Intrusão ou Ataqu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Sequência típica de eve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conheciment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xploração de Vulnerabilidad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levação de privilégi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Várias alternativas dependendo das intenções do atacan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liminação da presenç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Firewal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Fazem filtragem do tráfego mas normalmente não analisam </a:t>
            </a:r>
            <a:r>
              <a:rPr b="0" i="1" lang="pt-PT" sz="3200" spc="-1" strike="noStrike">
                <a:solidFill>
                  <a:srgbClr val="ffffff"/>
                </a:solidFill>
                <a:latin typeface="Arial"/>
              </a:rPr>
              <a:t>paylo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Normalmente só permitem o acesso do exterior da rede a determinadas aplicações, normalmente apen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Firewal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Não impedem ataques com origem no interior da re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inua a ser possível explorar as vulnerabilidades de algumas aplicaçõ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dro Alípio</cp:lastModifiedBy>
  <dcterms:modified xsi:type="dcterms:W3CDTF">2002-05-17T19:09:49Z</dcterms:modified>
  <cp:revision>9</cp:revision>
  <dc:subject/>
  <dc:title>PowerPoint Presentation</dc:title>
</cp:coreProperties>
</file>