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5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26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2.png" ContentType="image/png"/>
  <Override PartName="/ppt/media/image32.png" ContentType="image/png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8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ldImg"/>
          </p:nvPr>
        </p:nvSpPr>
        <p:spPr>
          <a:xfrm>
            <a:off x="1098360" y="864720"/>
            <a:ext cx="460188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Heavy"/>
              </a:rPr>
              <a:t>Click to move the slide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674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MN move-se para um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istinto do de orig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Execução de autoconfiguração (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statefull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), depois de detectada a nova localização e encontrado nov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default router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Utiliza o endereço gerado como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 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O prefixo utilizado é o da rede visit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676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O MN regista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no HA, enviando um pacote com um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binding update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Estes pacotes sao enviados ao HM normalmente em pacotes dedicados.  Já para os CN são normalmente enviados em pacotes de d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Para identificar o HA pode enviar e receber mensagens ICMPv6 especiai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Home Agent Address Discovery Request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Home Agent Address Discovery Reply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678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O HA intercepta qualquer pacote destinado a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o MN, utilizand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proxy Neighbor Discovery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Para isso envia um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Neighbor Advertisement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com o seu própri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link-layer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Proxy Neighbor Discovery significa que o HA envia por multicast mensagens de Neighbor Advertisements no link de origem do MN em favor do MN.  Assim anuncia o HA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link layer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para o MN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actualizando essa informação nos destinos de interes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O HA também responde a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Neighbor Solicitation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a favor do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680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Cada pacote interceptado pelo HA é enviado por tunel para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o MN utilizando encapsulamento IPv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Um nó enviando um pacote verifica primeiro a sua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binding cache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Se existe aí essa entrada, utiliza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como destino do paco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682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Se o MN envia algum pacote directamente para outro nó, fá-lo indicando como origem o seu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mas inclui uma opção de destin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Sendo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estático, isto permite a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orrespondent node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utilizar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e forma transparente para os niveis superiores.  Estes apenas vêem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Assim os pacotes originados pel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orrespondent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são enviados ao HA e deste são enviado ao MN.  Em sentido contrario estes são enviado directamente do MN para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orrespondent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Isto é chamado de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Triangle routing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684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O MN pode enviar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biding update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a um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orrespondent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que guarda esta informação em cache permitindo a comunicação directa entre ambos.  Para isso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orrespondent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utiliza um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routing header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com primeiro destino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o MN e segundo destino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o MN (send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looped-back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entro do próprio MN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686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MN move-se para um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istinto do de orig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Execução de autoconfiguração (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statefull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), depois de detectada a nova localização e encontrado nov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default router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Utiliza o endereço gerado como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 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O prefixo utilizado é o da rede visit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688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O MN regista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no HA, enviando um pacote com um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binding update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Estes pacotes sao enviados ao HM normalmente em pacotes dedicados.  Já para os CN são normalmente enviados em pacotes de d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Para identificar o HA pode enviar e receber mensagens ICMPv6 especiai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Home Agent Address Discovery Request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Home Agent Address Discovery Reply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9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690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O HA regista a nova correspondencia e envia um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binding acknowledgment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ao M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692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O HA regista a nova correspondencia e envia um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binding acknowledgment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ao M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694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O HA intercepta qualquer pacote destinado a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o MN, utilizand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proxy Neighbor Discovery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Para isso envia um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Neighbor Advertisement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com o seu própri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link-layer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Proxy Neighbor Discovery significa que o HA envia por multicast mensagens de Neighbor Advertisements no link de origem do MN em favor do MN.  Assim anuncia o HA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link layer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para o MN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actualizando essa informação nos destinos de interes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O HA também responde a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Neighbor Solicitation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a favor do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696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Cada pacote interceptado pelo HA é enviado por tunel para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o MN utilizando encapsulamento IPv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Um nó enviando um pacote verifica primeiro a sua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binding cache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Se existe aí essa entrada, utiliza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como destino do paco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698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Se o MN envia algum pacote directamente para outro nó, fá-lo indicando como origem o seu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mas inclui uma opção de destin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Sendo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estático, isto permite a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orrespondent node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utilizar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e forma transparente para os niveis superiores.  Estes apenas vêem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Assim os pacotes originados pel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orrespondent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são enviados ao HA e deste são enviado ao MN.  Em sentido contrario estes são enviado directamente do MN para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orrespondent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Isto é chamado de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Triangle routing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9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700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Se o MN envia algum pacote directamente para outro nó, fá-lo indicando como origem o seu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mas inclui uma opção de destin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Sendo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estático, isto permite a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orrespondent node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utilizar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e forma transparente para os niveis superiores.  Estes apenas vêem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Assim os pacotes originados pel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orrespondent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são enviados ao HA e deste são enviado ao MN.  Em sentido contrario estes são enviado directamente do MN para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orrespondent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Isto é chamado de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Triangle routing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1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702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O MN pode enviar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biding update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a um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orrespondent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que guarda esta informação em cache permitindo a comunicação directa entre ambos.  Para isso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orrespondent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utiliza um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routing header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com primeiro destino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o MN e segundo destino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o MN (send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looped-back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entro do próprio MN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704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Se o MN envia algum pacote directamente para outro nó, fá-lo indicando como origem o seu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mas inclui uma opção de destin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Sendo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estático, isto permite a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orrespondent node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utilizar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e forma transparente para os niveis superiores.  Estes apenas vêem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home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Assim os pacotes originados pel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orrespondent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são enviados ao HA e deste são enviado ao MN.  Em sentido contrario estes são enviado directamente do MN para 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correspondent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Isto é chamado de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Triangle routing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5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706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MN move-se para um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istinto do de orig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Execução de autoconfiguração (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statefull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), depois de detectada a nova localização e encontrado nov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default router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Utiliza o endereço gerado como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 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O prefixo utilizado é o da rede visit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708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MN move-se para um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istinto do de orig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Execução de autoconfiguração (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statefull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), depois de detectada a nova localização e encontrado nov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default router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Utiliza o endereço gerado como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 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O prefixo utilizado é o da rede visit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9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710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MN move-se para um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istinto do de orig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Execução de autoconfiguração (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statefull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), depois de detectada a nova localização e encontrado nov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default router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Utiliza o endereço gerado como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 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O prefixo utilizado é o da rede visit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712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MN move-se para um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distinto do de orig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Execução de autoconfiguração (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statefull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), depois de detectada a nova localização e encontrado novo 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default router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Utiliza o endereço gerado como</a:t>
            </a: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 care-of address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.  O prefixo utilizado é o da rede visit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714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[6]   D. Johnson, S. Deer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RFC 2526 Reserved IPv6 Subnet Anycast Addresse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Março 199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716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[6]   D. Johnson, S. Deer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RFC 2526 Reserved IPv6 Subnet Anycast Addresse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Março 199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7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718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[6]   D. Johnson, S. Deer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RFC 2526 Reserved IPv6 Subnet Anycast Addresse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Março 199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720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[6]   D. Johnson, S. Deer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RFC 2526 Reserved IPv6 Subnet Anycast Addresse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Março 199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1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722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[6]   D. Johnson, S. Deer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RFC 2526 Reserved IPv6 Subnet Anycast Addresse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Março 199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724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[6]   D. Johnson, S. Deer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RFC 2526 Reserved IPv6 Subnet Anycast Addresse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Março 199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726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[6]   D. Johnson, S. Deer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RFC 2526 Reserved IPv6 Subnet Anycast Addresse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Março 199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4728" name="PlaceHolder 2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81680" cy="44434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[6]   D. Johnson, S. Deer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RFC 2526 Reserved IPv6 Subnet Anycast Addresse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PTBlissMedium"/>
              </a:rPr>
              <a:t>Março 199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4840" y="123156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840" y="379224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4840" y="12315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7520" y="12315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4840" y="379224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87520" y="379224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4840" y="123156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32840" y="123156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60480" y="123156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4840" y="379224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32840" y="379224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60480" y="379224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04840" y="12315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04840" y="12315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04840" y="123156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7520" y="123156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04840" y="406440"/>
            <a:ext cx="7886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4840" y="12315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7520" y="123156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04840" y="379224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4840" y="12315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4840" y="123156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7520" y="12315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7520" y="379224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4840" y="12315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7520" y="12315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04840" y="379224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04840" y="123156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04840" y="379224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04840" y="12315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7520" y="12315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04840" y="379224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7520" y="379224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04840" y="123156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732840" y="123156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60480" y="123156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04840" y="379224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732840" y="379224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60480" y="379224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4840" y="12315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4840" y="123156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7520" y="123156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04840" y="406440"/>
            <a:ext cx="7886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4840" y="12315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7520" y="123156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4840" y="379224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4840" y="123156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87520" y="12315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87520" y="379224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4840" y="12315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7520" y="123156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4840" y="379224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90720" y="0"/>
            <a:ext cx="81532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0800000">
            <a:off x="0" y="0"/>
            <a:ext cx="98892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90720" y="0"/>
            <a:ext cx="81532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0" y="0"/>
            <a:ext cx="98892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90720" y="0"/>
            <a:ext cx="81532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0800000">
            <a:off x="0" y="0"/>
            <a:ext cx="98892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104840" y="12315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PTBlissMedium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PTBlissMedium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PTBlissMedium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  <a:p>
            <a:pPr lvl="3" marL="1600200" indent="-228600">
              <a:spcBef>
                <a:spcPts val="700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PTBlissMedium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  <a:p>
            <a:pPr lvl="4" marL="2057400" indent="-228600">
              <a:spcBef>
                <a:spcPts val="700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PTBlissMedium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  <a:p>
            <a:pPr lvl="5" marL="2057400" indent="-228600">
              <a:spcBef>
                <a:spcPts val="700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PTBlissMedium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  <a:p>
            <a:pPr lvl="6" marL="2057400" indent="-228600">
              <a:spcBef>
                <a:spcPts val="700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PTBlissMedium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7" name=""/>
          <p:cNvSpPr/>
          <p:nvPr/>
        </p:nvSpPr>
        <p:spPr>
          <a:xfrm>
            <a:off x="1139760" y="393840"/>
            <a:ext cx="775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Heavy"/>
              </a:rPr>
              <a:t>Click to edit the title text format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9" name=""/>
          <p:cNvSpPr/>
          <p:nvPr/>
        </p:nvSpPr>
        <p:spPr>
          <a:xfrm>
            <a:off x="3363480" y="6521400"/>
            <a:ext cx="117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F8AF-2EFA-491B-856B-BE2131BEDF6B}" type="slidenum">
              <a:rPr b="0" lang="en-GB" sz="1600" spc="-1" strike="noStrike">
                <a:solidFill>
                  <a:srgbClr val="66ffff"/>
                </a:solidFill>
                <a:latin typeface="PTBlissMedium"/>
              </a:rPr>
              <a:t>&lt;number&gt;</a:t>
            </a:fld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44280" y="87480"/>
            <a:ext cx="914400" cy="120780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-141120" y="3132000"/>
            <a:ext cx="12952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Seminários do Mestrado em Informática</a:t>
            </a:r>
            <a:endParaRPr b="0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17-18 de Maio 2002</a:t>
            </a:r>
            <a:endParaRPr b="0" lang="en-US" sz="9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283800" y="6586560"/>
            <a:ext cx="281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rtugal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com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vação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0"/>
            <a:ext cx="81532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0" y="0"/>
            <a:ext cx="98892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39760" y="393840"/>
            <a:ext cx="775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PTBlissHeavy"/>
              </a:rPr>
              <a:t>Click to edit the title text format</a:t>
            </a:r>
            <a:endParaRPr b="1" i="1" lang="en-US" sz="4800" spc="-1" strike="noStrike">
              <a:solidFill>
                <a:srgbClr val="ff0066"/>
              </a:solidFill>
              <a:latin typeface="PTBlissHeavy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93680" y="868320"/>
            <a:ext cx="635040" cy="641520"/>
            <a:chOff x="193680" y="868320"/>
            <a:chExt cx="635040" cy="641520"/>
          </a:xfrm>
        </p:grpSpPr>
        <p:sp>
          <p:nvSpPr>
            <p:cNvPr id="54" name=""/>
            <p:cNvSpPr/>
            <p:nvPr/>
          </p:nvSpPr>
          <p:spPr>
            <a:xfrm>
              <a:off x="193680" y="868320"/>
              <a:ext cx="6350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6000" y="895320"/>
              <a:ext cx="282600" cy="282600"/>
            </a:xfrm>
            <a:prstGeom prst="rect">
              <a:avLst/>
            </a:prstGeom>
            <a:solidFill>
              <a:srgbClr val="ff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0000" y="950760"/>
              <a:ext cx="169560" cy="17172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54" y="107"/>
                  </a:moveTo>
                  <a:lnTo>
                    <a:pt x="73" y="102"/>
                  </a:lnTo>
                  <a:lnTo>
                    <a:pt x="93" y="92"/>
                  </a:lnTo>
                  <a:lnTo>
                    <a:pt x="102" y="73"/>
                  </a:lnTo>
                  <a:lnTo>
                    <a:pt x="107" y="54"/>
                  </a:lnTo>
                  <a:lnTo>
                    <a:pt x="102" y="29"/>
                  </a:lnTo>
                  <a:lnTo>
                    <a:pt x="93" y="15"/>
                  </a:lnTo>
                  <a:lnTo>
                    <a:pt x="73" y="5"/>
                  </a:lnTo>
                  <a:lnTo>
                    <a:pt x="54" y="0"/>
                  </a:lnTo>
                  <a:lnTo>
                    <a:pt x="29" y="5"/>
                  </a:lnTo>
                  <a:lnTo>
                    <a:pt x="15" y="15"/>
                  </a:lnTo>
                  <a:lnTo>
                    <a:pt x="5" y="29"/>
                  </a:lnTo>
                  <a:lnTo>
                    <a:pt x="0" y="54"/>
                  </a:lnTo>
                  <a:lnTo>
                    <a:pt x="5" y="73"/>
                  </a:lnTo>
                  <a:lnTo>
                    <a:pt x="15" y="92"/>
                  </a:lnTo>
                  <a:lnTo>
                    <a:pt x="29" y="102"/>
                  </a:lnTo>
                  <a:lnTo>
                    <a:pt x="54" y="107"/>
                  </a:lnTo>
                  <a:close/>
                </a:path>
              </a:pathLst>
            </a:custGeom>
            <a:solidFill>
              <a:srgbClr val="0a3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5600" y="895320"/>
              <a:ext cx="277560" cy="282600"/>
            </a:xfrm>
            <a:prstGeom prst="rect">
              <a:avLst/>
            </a:prstGeom>
            <a:solidFill>
              <a:srgbClr val="0a3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9600" y="950760"/>
              <a:ext cx="169560" cy="17172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53" y="107"/>
                  </a:moveTo>
                  <a:lnTo>
                    <a:pt x="73" y="102"/>
                  </a:lnTo>
                  <a:lnTo>
                    <a:pt x="92" y="92"/>
                  </a:lnTo>
                  <a:lnTo>
                    <a:pt x="102" y="73"/>
                  </a:lnTo>
                  <a:lnTo>
                    <a:pt x="107" y="54"/>
                  </a:lnTo>
                  <a:lnTo>
                    <a:pt x="102" y="29"/>
                  </a:lnTo>
                  <a:lnTo>
                    <a:pt x="92" y="15"/>
                  </a:lnTo>
                  <a:lnTo>
                    <a:pt x="73" y="5"/>
                  </a:lnTo>
                  <a:lnTo>
                    <a:pt x="53" y="0"/>
                  </a:lnTo>
                  <a:lnTo>
                    <a:pt x="34" y="5"/>
                  </a:lnTo>
                  <a:lnTo>
                    <a:pt x="14" y="15"/>
                  </a:lnTo>
                  <a:lnTo>
                    <a:pt x="4" y="29"/>
                  </a:lnTo>
                  <a:lnTo>
                    <a:pt x="0" y="54"/>
                  </a:lnTo>
                  <a:lnTo>
                    <a:pt x="4" y="73"/>
                  </a:lnTo>
                  <a:lnTo>
                    <a:pt x="14" y="92"/>
                  </a:lnTo>
                  <a:lnTo>
                    <a:pt x="34" y="102"/>
                  </a:lnTo>
                  <a:lnTo>
                    <a:pt x="53" y="107"/>
                  </a:lnTo>
                  <a:close/>
                </a:path>
              </a:pathLst>
            </a:custGeom>
            <a:solidFill>
              <a:srgbClr val="ff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6000" y="1201680"/>
              <a:ext cx="282600" cy="287280"/>
            </a:xfrm>
            <a:prstGeom prst="rect">
              <a:avLst/>
            </a:prstGeom>
            <a:solidFill>
              <a:srgbClr val="ff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5600" y="1201680"/>
              <a:ext cx="277560" cy="287280"/>
            </a:xfrm>
            <a:prstGeom prst="rect">
              <a:avLst/>
            </a:prstGeom>
            <a:solidFill>
              <a:srgbClr val="0a3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9600" y="1227240"/>
              <a:ext cx="1080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" y="12240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PTBlissHeavy"/>
                </a:rPr>
                <a:t>P</a:t>
              </a:r>
              <a:endParaRPr b="0" lang="en-US" sz="16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1227240"/>
              <a:ext cx="115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3720" y="122400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PTBlissHeavy"/>
                </a:rPr>
                <a:t>T</a:t>
              </a:r>
              <a:endParaRPr b="0" lang="en-US" sz="16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703840" y="6300720"/>
            <a:ext cx="331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ecece"/>
                </a:solidFill>
                <a:latin typeface="PTBlissBold"/>
              </a:rPr>
              <a:t>Portugal Telecom Inovação, SA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83160" y="6351480"/>
            <a:ext cx="117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686F-2E39-4379-B16E-6E27CCA312FC}" type="slidenum">
              <a:rPr b="0" lang="en-GB" sz="1600" spc="-1" strike="noStrike">
                <a:solidFill>
                  <a:srgbClr val="66ffff"/>
                </a:solidFill>
                <a:latin typeface="PTBlissMedium"/>
              </a:rPr>
              <a:t>&lt;number&gt;</a:t>
            </a:fld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7" name="MobyDickLogo_tr" descr=""/>
          <p:cNvPicPr/>
          <p:nvPr/>
        </p:nvPicPr>
        <p:blipFill>
          <a:blip r:embed="rId2"/>
          <a:stretch/>
        </p:blipFill>
        <p:spPr>
          <a:xfrm>
            <a:off x="152280" y="5486400"/>
            <a:ext cx="76212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1.wmf"/><Relationship Id="rId12" Type="http://schemas.openxmlformats.org/officeDocument/2006/relationships/image" Target="../media/image17.wmf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18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8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18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8.bin"/><Relationship Id="rId25" Type="http://schemas.openxmlformats.org/officeDocument/2006/relationships/image" Target="../media/image18.wmf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18.wmf"/><Relationship Id="rId28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2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11.wmf"/><Relationship Id="rId17" Type="http://schemas.openxmlformats.org/officeDocument/2006/relationships/image" Target="../media/image8.wmf"/><Relationship Id="rId18" Type="http://schemas.openxmlformats.org/officeDocument/2006/relationships/image" Target="../media/image11.wmf"/><Relationship Id="rId19" Type="http://schemas.openxmlformats.org/officeDocument/2006/relationships/image" Target="../media/image10.wmf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181480" y="3571920"/>
            <a:ext cx="3886200" cy="2905200"/>
            <a:chOff x="5181480" y="3571920"/>
            <a:chExt cx="3886200" cy="29052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5181480" y="4822920"/>
              <a:ext cx="3886200" cy="165420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8001000" y="3571920"/>
              <a:ext cx="914400" cy="120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1905120" y="2743200"/>
            <a:ext cx="5715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Arial"/>
              </a:rPr>
              <a:t>Mobilidade em Redes de Nova Geração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219320" y="250920"/>
            <a:ext cx="7650000" cy="2057400"/>
            <a:chOff x="1219320" y="250920"/>
            <a:chExt cx="7650000" cy="205740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1735200" y="304920"/>
              <a:ext cx="6516720" cy="19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di-snap" descr=""/>
            <p:cNvPicPr/>
            <p:nvPr/>
          </p:nvPicPr>
          <p:blipFill>
            <a:blip r:embed="rId4"/>
            <a:stretch/>
          </p:blipFill>
          <p:spPr>
            <a:xfrm>
              <a:off x="7145280" y="250920"/>
              <a:ext cx="17240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um" descr=""/>
            <p:cNvPicPr/>
            <p:nvPr/>
          </p:nvPicPr>
          <p:blipFill>
            <a:blip r:embed="rId5"/>
            <a:stretch/>
          </p:blipFill>
          <p:spPr>
            <a:xfrm>
              <a:off x="1219320" y="250920"/>
              <a:ext cx="150624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1098720" y="4834080"/>
            <a:ext cx="3886200" cy="170784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000" spc="-1" strike="noStrike">
                <a:solidFill>
                  <a:srgbClr val="ffff99"/>
                </a:solidFill>
                <a:latin typeface="Arial"/>
              </a:rPr>
              <a:t>PT Inovação, S.A</a:t>
            </a:r>
            <a:br>
              <a:rPr sz="3000"/>
            </a:br>
            <a:r>
              <a:rPr b="1" i="1" lang="pt-PT" sz="2000" spc="-1" strike="noStrike">
                <a:solidFill>
                  <a:srgbClr val="ffff99"/>
                </a:solidFill>
                <a:latin typeface="Arial"/>
              </a:rPr>
              <a:t>MSI - Multimédia e Serviços IP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ffff99"/>
                </a:solidFill>
                <a:latin typeface="Arial"/>
              </a:rPr>
              <a:t>Carlos Parada</a:t>
            </a:r>
            <a:endParaRPr b="0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carlos-f-parada@ptinovacao.pt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Heavy"/>
              </a:rPr>
              <a:t>Mobilidade IPv6 - Solução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1104840" y="1359000"/>
            <a:ext cx="7886880" cy="48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A solução consiste em adquirir um endereço em cada rede (</a:t>
            </a:r>
            <a:r>
              <a:rPr b="0" i="1" lang="pt-PT" sz="2400" spc="-1" strike="noStrike">
                <a:solidFill>
                  <a:srgbClr val="ffff99"/>
                </a:solidFill>
                <a:latin typeface="PTBlissMedium"/>
              </a:rPr>
              <a:t>link</a:t>
            </a: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) em que o nó móvel se liga.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	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O encaminhamento é feito através deste endereço, ainda que para as camadas superiores o endereço utilizado é o da sua rede (</a:t>
            </a:r>
            <a:r>
              <a:rPr b="0" i="1" lang="pt-PT" sz="2400" spc="-1" strike="noStrike">
                <a:solidFill>
                  <a:srgbClr val="ffff99"/>
                </a:solidFill>
                <a:latin typeface="PTBlissMedium"/>
              </a:rPr>
              <a:t>link</a:t>
            </a: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); isto feito de forma transparente.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	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Esta transparência é conseguida usando os cabeçalhos (</a:t>
            </a:r>
            <a:r>
              <a:rPr b="0" i="1" lang="pt-PT" sz="2400" spc="-1" strike="noStrike">
                <a:solidFill>
                  <a:srgbClr val="ffff99"/>
                </a:solidFill>
                <a:latin typeface="PTBlissMedium"/>
              </a:rPr>
              <a:t>Headers</a:t>
            </a: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) definidos no IPv6 (</a:t>
            </a:r>
            <a:r>
              <a:rPr b="0" i="1" lang="pt-PT" sz="2400" spc="-1" strike="noStrike">
                <a:solidFill>
                  <a:srgbClr val="ffff99"/>
                </a:solidFill>
                <a:latin typeface="PTBlissMedium"/>
              </a:rPr>
              <a:t>Destination Options Header</a:t>
            </a: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 e </a:t>
            </a:r>
            <a:r>
              <a:rPr b="0" i="1" lang="pt-PT" sz="2400" spc="-1" strike="noStrike">
                <a:solidFill>
                  <a:srgbClr val="ffff99"/>
                </a:solidFill>
                <a:latin typeface="PTBlissMedium"/>
              </a:rPr>
              <a:t>Routing Header</a:t>
            </a: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).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Times New Roman"/>
              </a:rPr>
              <a:t>Sumário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104840" y="1343160"/>
            <a:ext cx="7734240" cy="49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Introdução à mobilidade dos terminais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Mobilidade em redes IP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imes New Roman"/>
              </a:rPr>
              <a:t>Descrição de funcionamento da MIPv6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Adições ao protocolo para conseguir o “always-on”.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Implicações da MIPv6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O que se faz na PTIN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Conclusões e estado da arte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Heavy"/>
              </a:rPr>
              <a:t>Mobilidade IPv6 - Entidades definidas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1104480" y="1397160"/>
            <a:ext cx="8039160" cy="46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PT" sz="2400" spc="-1" strike="noStrike">
                <a:solidFill>
                  <a:srgbClr val="ffff99"/>
                </a:solidFill>
                <a:latin typeface="PTBlissMedium"/>
              </a:rPr>
              <a:t>Mobile Node (MN)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Nó que pode mudar o seu ponto de ligação de um 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link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 para outro e ainda assim ser contactado pelo seu 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Home address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PT" sz="2400" spc="-1" strike="noStrike">
                <a:solidFill>
                  <a:srgbClr val="ffff99"/>
                </a:solidFill>
                <a:latin typeface="PTBlissMedium"/>
              </a:rPr>
              <a:t>Home address (Ha)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Um endereço IPv6 que é atribuído por um longo período de tempo a um nó IPv6, correspondente à sua rede de origem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Será sempre o seu identificador donde quer que se desloque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PT" sz="2400" spc="-1" strike="noStrike">
                <a:solidFill>
                  <a:srgbClr val="ffff99"/>
                </a:solidFill>
                <a:latin typeface="PTBlissMedium"/>
              </a:rPr>
              <a:t>Home Agent (HA)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Um 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router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 ou 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host? 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na 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 do nó móvel . Envia pacotes encapsulados (túnel) ao nó móvel e mantém informação da sua localização actualizada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PT" sz="2400" spc="-1" strike="noStrike">
                <a:solidFill>
                  <a:srgbClr val="ffff99"/>
                </a:solidFill>
                <a:latin typeface="PTBlissMedium"/>
              </a:rPr>
              <a:t>Correspondent Node</a:t>
            </a: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 </a:t>
            </a:r>
            <a:r>
              <a:rPr b="0" i="1" lang="pt-PT" sz="2400" spc="-1" strike="noStrike">
                <a:solidFill>
                  <a:srgbClr val="ffff99"/>
                </a:solidFill>
                <a:latin typeface="PTBlissMedium"/>
              </a:rPr>
              <a:t>(CN)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Nó com o qual o nó móvel se comunica.  O 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correspondent node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 pode ser também ele móvel ou estacionário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Heavy"/>
              </a:rPr>
              <a:t>Mobilidade IPv6 - Entidades definidas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104840" y="1345680"/>
            <a:ext cx="7886880" cy="51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PT" sz="2400" spc="-1" strike="noStrike">
                <a:solidFill>
                  <a:srgbClr val="ffff99"/>
                </a:solidFill>
                <a:latin typeface="PTBlissMedium"/>
              </a:rPr>
              <a:t>Home Network/link (HN)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Rede/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link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 onde o prefixo de origem de um nó móvel é definido. Rede origem do nó móvel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PT" sz="2400" spc="-1" strike="noStrike">
                <a:solidFill>
                  <a:srgbClr val="ffff99"/>
                </a:solidFill>
                <a:latin typeface="PTBlissMedium"/>
              </a:rPr>
              <a:t>Foreign Network/link (FN)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Qualquer rede/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link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 diferente da rede/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link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 de origem do nó móvel, e à qual este se liga temporariamente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PT" sz="2400" spc="-1" strike="noStrike">
                <a:solidFill>
                  <a:srgbClr val="ffff99"/>
                </a:solidFill>
                <a:latin typeface="PTBlissMedium"/>
              </a:rPr>
              <a:t>Care-of Address (CoA)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Um endereço IPv6 associado a um nó móvel durante a sua visita a uma 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Foreign Network (com o prefixo dessa rede)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PT" sz="2400" spc="-1" strike="noStrike">
                <a:solidFill>
                  <a:srgbClr val="ffff99"/>
                </a:solidFill>
                <a:latin typeface="PTBlissMedium"/>
              </a:rPr>
              <a:t>Binding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Operação de registo no HA, da associação do 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Home address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 de um nó móvel com o 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Care-of Address 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primário. Esta operação também se aplica ao CN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PT" sz="2400" spc="-1" strike="noStrike">
                <a:solidFill>
                  <a:srgbClr val="ffff99"/>
                </a:solidFill>
                <a:latin typeface="PTBlissMedium"/>
              </a:rPr>
              <a:t>Handover (ou Hand-off)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Transição entre duas redes diferentes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Cloud"/>
          <p:cNvSpPr/>
          <p:nvPr/>
        </p:nvSpPr>
        <p:spPr>
          <a:xfrm>
            <a:off x="3613320" y="457200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57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05000" y="12430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0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521080" y="216360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5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6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271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2272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276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858000" y="4343400"/>
            <a:ext cx="2209680" cy="3808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Situação normal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Operação básica </a:t>
            </a:r>
            <a:br>
              <a:rPr sz="3200"/>
            </a:br>
            <a:r>
              <a:rPr b="1" lang="en-US" sz="2200" spc="-1" strike="noStrike">
                <a:solidFill>
                  <a:srgbClr val="919191"/>
                </a:solidFill>
                <a:latin typeface="PTBlissMedium"/>
              </a:rPr>
              <a:t>O MN move-se para uma F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2282" name=""/>
          <p:cNvSpPr/>
          <p:nvPr/>
        </p:nvSpPr>
        <p:spPr>
          <a:xfrm>
            <a:off x="1671480" y="594360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283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2284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288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2289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2294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298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2299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303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2304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308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09" name="laptop"/>
          <p:cNvSpPr/>
          <p:nvPr/>
        </p:nvSpPr>
        <p:spPr>
          <a:xfrm>
            <a:off x="2057400" y="1703520"/>
            <a:ext cx="914400" cy="53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Cloud"/>
          <p:cNvSpPr/>
          <p:nvPr/>
        </p:nvSpPr>
        <p:spPr>
          <a:xfrm>
            <a:off x="3613320" y="457200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11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305000" y="12430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14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521080" y="216360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19" name="laptop"/>
          <p:cNvSpPr/>
          <p:nvPr/>
        </p:nvSpPr>
        <p:spPr>
          <a:xfrm>
            <a:off x="2057400" y="1744560"/>
            <a:ext cx="914400" cy="533520"/>
          </a:xfrm>
          <a:prstGeom prst="pie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20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21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326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2327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331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2938320" y="1487520"/>
            <a:ext cx="3559320" cy="404640"/>
          </a:xfrm>
          <a:custGeom>
            <a:avLst/>
            <a:gdLst/>
            <a:ahLst/>
            <a:rect l="l" t="t" r="r" b="b"/>
            <a:pathLst>
              <a:path w="2242" h="255">
                <a:moveTo>
                  <a:pt x="0" y="255"/>
                </a:moveTo>
                <a:cubicBezTo>
                  <a:pt x="177" y="214"/>
                  <a:pt x="687" y="18"/>
                  <a:pt x="1061" y="9"/>
                </a:cubicBezTo>
                <a:cubicBezTo>
                  <a:pt x="1435" y="0"/>
                  <a:pt x="1996" y="164"/>
                  <a:pt x="2242" y="204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6248520" y="3424320"/>
            <a:ext cx="2819160" cy="12999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O MN move-se para um segmento de rede distinto do de origem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(uma 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Foreign Network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36" name="laptop"/>
          <p:cNvSpPr/>
          <p:nvPr/>
        </p:nvSpPr>
        <p:spPr>
          <a:xfrm>
            <a:off x="6432480" y="1703520"/>
            <a:ext cx="914400" cy="53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Operação básica </a:t>
            </a:r>
            <a:br>
              <a:rPr sz="3200"/>
            </a:br>
            <a:r>
              <a:rPr b="1" lang="en-US" sz="2200" spc="-1" strike="noStrike">
                <a:solidFill>
                  <a:srgbClr val="919191"/>
                </a:solidFill>
                <a:latin typeface="PTBlissMedium"/>
              </a:rPr>
              <a:t>O MN move-se para uma F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2339" name=""/>
          <p:cNvSpPr/>
          <p:nvPr/>
        </p:nvSpPr>
        <p:spPr>
          <a:xfrm>
            <a:off x="1671480" y="594360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2341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2346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2351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2356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360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2361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365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Medium"/>
              </a:rPr>
              <a:t>Mobilidade IPv6 - Operação básica </a:t>
            </a:r>
            <a:br>
              <a:rPr sz="3200"/>
            </a:br>
            <a:r>
              <a:rPr b="1" lang="pt-PT" sz="2200" spc="-1" strike="noStrike">
                <a:solidFill>
                  <a:srgbClr val="919191"/>
                </a:solidFill>
                <a:latin typeface="PTBlissMedium"/>
              </a:rPr>
              <a:t>O MN adquire um CoA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2367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68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1305000" y="124308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71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75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79" name="laptop"/>
          <p:cNvSpPr/>
          <p:nvPr/>
        </p:nvSpPr>
        <p:spPr>
          <a:xfrm>
            <a:off x="6432480" y="1703520"/>
            <a:ext cx="914400" cy="53316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324480" y="3490920"/>
            <a:ext cx="2743200" cy="17398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Obtenção de um endereço com o prefixo dessa rede, o qual será utilizado para troca de pacote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CoA (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Care-of Address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1432080" y="5748480"/>
            <a:ext cx="2214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5894280" y="1951200"/>
            <a:ext cx="582840" cy="355320"/>
          </a:xfrm>
          <a:custGeom>
            <a:avLst/>
            <a:gdLst/>
            <a:ahLst/>
            <a:rect l="l" t="t" r="r" b="b"/>
            <a:pathLst>
              <a:path w="367" h="224">
                <a:moveTo>
                  <a:pt x="0" y="224"/>
                </a:moveTo>
                <a:cubicBezTo>
                  <a:pt x="27" y="206"/>
                  <a:pt x="104" y="147"/>
                  <a:pt x="165" y="110"/>
                </a:cubicBezTo>
                <a:cubicBezTo>
                  <a:pt x="226" y="73"/>
                  <a:pt x="325" y="22"/>
                  <a:pt x="367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6019920" y="2286000"/>
            <a:ext cx="533160" cy="30492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389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2390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394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2395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399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2400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404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2405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409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2410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414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2415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419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20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Cloud"/>
          <p:cNvSpPr/>
          <p:nvPr/>
        </p:nvSpPr>
        <p:spPr>
          <a:xfrm>
            <a:off x="3613320" y="478800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22" name="Cloud"/>
          <p:cNvSpPr/>
          <p:nvPr/>
        </p:nvSpPr>
        <p:spPr>
          <a:xfrm>
            <a:off x="1219320" y="169704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5715000" y="12398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305000" y="123984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25" name="Cloud"/>
          <p:cNvSpPr/>
          <p:nvPr/>
        </p:nvSpPr>
        <p:spPr>
          <a:xfrm>
            <a:off x="3384720" y="294804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613320" y="350028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 flipH="1">
            <a:off x="1599840" y="255420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2057400" y="255420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29" name="Cloud"/>
          <p:cNvSpPr/>
          <p:nvPr/>
        </p:nvSpPr>
        <p:spPr>
          <a:xfrm>
            <a:off x="5594400" y="1655640"/>
            <a:ext cx="2209680" cy="148140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 flipH="1">
            <a:off x="5975280" y="251316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6432480" y="25131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6896160" y="211932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3" name="laptop"/>
          <p:cNvSpPr/>
          <p:nvPr/>
        </p:nvSpPr>
        <p:spPr>
          <a:xfrm>
            <a:off x="6432480" y="1700280"/>
            <a:ext cx="914400" cy="53316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3429000" y="2554200"/>
            <a:ext cx="754200" cy="7066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5288040" y="255420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643280" y="399096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643280" y="574524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919760" y="516888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2286000" y="1614600"/>
            <a:ext cx="4241880" cy="1082520"/>
          </a:xfrm>
          <a:custGeom>
            <a:avLst/>
            <a:gdLst/>
            <a:ahLst/>
            <a:rect l="l" t="t" r="r" b="b"/>
            <a:pathLst>
              <a:path w="2672" h="682">
                <a:moveTo>
                  <a:pt x="2672" y="217"/>
                </a:moveTo>
                <a:cubicBezTo>
                  <a:pt x="2427" y="194"/>
                  <a:pt x="1645" y="0"/>
                  <a:pt x="1200" y="78"/>
                </a:cubicBezTo>
                <a:cubicBezTo>
                  <a:pt x="755" y="156"/>
                  <a:pt x="250" y="556"/>
                  <a:pt x="0" y="682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432080" y="5745240"/>
            <a:ext cx="2214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1079640" y="380880"/>
            <a:ext cx="788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Operação básica</a:t>
            </a:r>
            <a:br>
              <a:rPr sz="3200"/>
            </a:br>
            <a:r>
              <a:rPr b="1" lang="en-US" sz="2200" spc="-1" strike="noStrike">
                <a:solidFill>
                  <a:srgbClr val="919191"/>
                </a:solidFill>
                <a:latin typeface="PTBlissMedium"/>
              </a:rPr>
              <a:t>O MN regista-se no seu HA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442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2443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2448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452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2453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2458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2463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467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2468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472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73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019920" y="3458880"/>
            <a:ext cx="3047760" cy="119124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O MN contacta o seu HA, para o notificar de qual o novo CoA que irá a utilizar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76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305000" y="124308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79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83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87" name="laptop"/>
          <p:cNvSpPr/>
          <p:nvPr/>
        </p:nvSpPr>
        <p:spPr>
          <a:xfrm>
            <a:off x="6432480" y="1703520"/>
            <a:ext cx="914400" cy="53316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104840" y="380880"/>
            <a:ext cx="8039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Operação básica</a:t>
            </a:r>
            <a:br>
              <a:rPr sz="3200"/>
            </a:br>
            <a:r>
              <a:rPr b="1" lang="en-US" sz="2200" spc="-1" strike="noStrike">
                <a:solidFill>
                  <a:srgbClr val="919191"/>
                </a:solidFill>
                <a:latin typeface="PTBlissMedium"/>
              </a:rPr>
              <a:t>HA intercepta pacotes do CN para o MN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705720" y="3565800"/>
            <a:ext cx="2361960" cy="22885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Envio de pacotes do CN para o MN. O HA intercepta o primeiro pacote destinado ao MN. O mesmo fará com todos os pacotes destinados ao MN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2497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501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2502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506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2507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2512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516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2517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521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2522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526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27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048120" y="2666880"/>
            <a:ext cx="2158920" cy="3399120"/>
          </a:xfrm>
          <a:custGeom>
            <a:avLst/>
            <a:gdLst/>
            <a:ahLst/>
            <a:rect l="l" t="t" r="r" b="b"/>
            <a:pathLst>
              <a:path w="1744" h="1976">
                <a:moveTo>
                  <a:pt x="1744" y="1976"/>
                </a:moveTo>
                <a:cubicBezTo>
                  <a:pt x="1571" y="1723"/>
                  <a:pt x="987" y="777"/>
                  <a:pt x="696" y="448"/>
                </a:cubicBezTo>
                <a:cubicBezTo>
                  <a:pt x="405" y="119"/>
                  <a:pt x="145" y="93"/>
                  <a:pt x="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Operação básica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HA reencaminha para o M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2530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31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1305000" y="124308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34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38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42" name="laptop"/>
          <p:cNvSpPr/>
          <p:nvPr/>
        </p:nvSpPr>
        <p:spPr>
          <a:xfrm>
            <a:off x="6432480" y="1703520"/>
            <a:ext cx="914400" cy="53316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438280" y="2928960"/>
            <a:ext cx="2756160" cy="3213000"/>
          </a:xfrm>
          <a:custGeom>
            <a:avLst/>
            <a:gdLst/>
            <a:ahLst/>
            <a:rect l="l" t="t" r="r" b="b"/>
            <a:pathLst>
              <a:path w="1736" h="2024">
                <a:moveTo>
                  <a:pt x="1736" y="2024"/>
                </a:moveTo>
                <a:cubicBezTo>
                  <a:pt x="1557" y="1769"/>
                  <a:pt x="953" y="825"/>
                  <a:pt x="664" y="488"/>
                </a:cubicBezTo>
                <a:cubicBezTo>
                  <a:pt x="375" y="151"/>
                  <a:pt x="138" y="102"/>
                  <a:pt x="0" y="0"/>
                </a:cubicBezTo>
              </a:path>
            </a:pathLst>
          </a:custGeom>
          <a:noFill/>
          <a:ln w="2844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6477120" y="3657240"/>
            <a:ext cx="2590560" cy="14655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O HA deduz que o CN quer contactar o MN e reencaminha o pacote para o MN (usando o CoA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551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2552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556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2557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561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2562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2567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2572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576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2577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581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82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514600" y="1932120"/>
            <a:ext cx="3992400" cy="907920"/>
          </a:xfrm>
          <a:custGeom>
            <a:avLst/>
            <a:gdLst/>
            <a:ahLst/>
            <a:rect l="l" t="t" r="r" b="b"/>
            <a:pathLst>
              <a:path w="2515" h="572">
                <a:moveTo>
                  <a:pt x="0" y="572"/>
                </a:moveTo>
                <a:cubicBezTo>
                  <a:pt x="251" y="539"/>
                  <a:pt x="1079" y="468"/>
                  <a:pt x="1498" y="373"/>
                </a:cubicBezTo>
                <a:cubicBezTo>
                  <a:pt x="1917" y="278"/>
                  <a:pt x="2303" y="78"/>
                  <a:pt x="2515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Heavy"/>
              </a:rPr>
              <a:t>Redes de Nova Geração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04840" y="1371240"/>
            <a:ext cx="7810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PTBlissMedium"/>
              </a:rPr>
              <a:t>O que são?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PTBlissMedium"/>
              </a:rPr>
              <a:t>IP é visto como integrador de todas as redes: Telecoms, Dados, etc. (“</a:t>
            </a:r>
            <a:r>
              <a:rPr b="0" i="1" lang="pt-PT" sz="2000" spc="-1" strike="noStrike">
                <a:solidFill>
                  <a:srgbClr val="ffffff"/>
                </a:solidFill>
                <a:latin typeface="PTBlissMedium"/>
              </a:rPr>
              <a:t>ALL-IP </a:t>
            </a:r>
            <a:r>
              <a:rPr b="0" lang="pt-PT" sz="2000" spc="-1" strike="noStrike">
                <a:solidFill>
                  <a:srgbClr val="ffffff"/>
                </a:solidFill>
                <a:latin typeface="PTBlissMedium"/>
              </a:rPr>
              <a:t>”)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PTBlissMedium"/>
              </a:rPr>
              <a:t>Next Generation Internet Protocol (IPng) - IPv6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PTBlissMedium"/>
              </a:rPr>
              <a:t>No entanto, actualmente o termo também se associa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TBlissMedium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PTBlissMedium"/>
              </a:rPr>
              <a:t>redes 3G  (e.g. UMTS)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TBlissMedium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PTBlissMedium"/>
              </a:rPr>
              <a:t>redes 2.5G  (GPRS)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TBlissMedium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PTBlissMedium"/>
              </a:rPr>
              <a:t>e mesmo outras tecnologias Wireless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PTBlissMedium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PTBlissMedium"/>
              </a:rPr>
              <a:t>e.g. </a:t>
            </a:r>
            <a:r>
              <a:rPr b="0" lang="en-US" sz="1600" spc="-1" strike="noStrike">
                <a:solidFill>
                  <a:srgbClr val="ffffff"/>
                </a:solidFill>
                <a:latin typeface="PTBlissMedium"/>
              </a:rPr>
              <a:t>Bluetooth, Wireless LAN, etc.</a:t>
            </a:r>
            <a:endParaRPr b="0" lang="en-US" sz="1600" spc="-1" strike="noStrike">
              <a:solidFill>
                <a:srgbClr val="ffff99"/>
              </a:solidFill>
              <a:latin typeface="PTBliss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PTBlissMedium"/>
              </a:rPr>
              <a:t>Por tudo isto o IPv6 deverá 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TBlissMedium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PTBlissMedium"/>
              </a:rPr>
              <a:t>suportar todo o tipo de tecnologias</a:t>
            </a:r>
            <a:r>
              <a:rPr b="0" lang="pt-PT" sz="1800" spc="-1" strike="noStrike">
                <a:solidFill>
                  <a:srgbClr val="ffffff"/>
                </a:solidFill>
                <a:latin typeface="PTBlissMedium"/>
              </a:rPr>
              <a:t>	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TBlissMedium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PTBlissMedium"/>
              </a:rPr>
              <a:t>diferenciar tráfego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TBlissMedium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PTBlissMedium"/>
              </a:rPr>
              <a:t>suportar a MOBILIDADE associada a estas tecnologias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TBlissMedium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PTBlissMedium"/>
              </a:rPr>
              <a:t>etc.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Operação básica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MN envia resposta ao C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2585" name="Cloud"/>
          <p:cNvSpPr/>
          <p:nvPr/>
        </p:nvSpPr>
        <p:spPr>
          <a:xfrm>
            <a:off x="3613320" y="4767120"/>
            <a:ext cx="2743200" cy="183852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86" name="Cloud"/>
          <p:cNvSpPr/>
          <p:nvPr/>
        </p:nvSpPr>
        <p:spPr>
          <a:xfrm>
            <a:off x="1219320" y="167652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571500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305000" y="121932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89" name="Cloud"/>
          <p:cNvSpPr/>
          <p:nvPr/>
        </p:nvSpPr>
        <p:spPr>
          <a:xfrm>
            <a:off x="3384720" y="292752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613320" y="347976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 flipH="1">
            <a:off x="1599840" y="253368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2057400" y="253368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3" name="Cloud"/>
          <p:cNvSpPr/>
          <p:nvPr/>
        </p:nvSpPr>
        <p:spPr>
          <a:xfrm>
            <a:off x="5594400" y="163512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 flipH="1">
            <a:off x="5975280" y="249228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6432480" y="249228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6896160" y="220680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7" name="laptop"/>
          <p:cNvSpPr/>
          <p:nvPr/>
        </p:nvSpPr>
        <p:spPr>
          <a:xfrm>
            <a:off x="6432480" y="1679400"/>
            <a:ext cx="914400" cy="53352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3429000" y="253368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 flipV="1">
            <a:off x="5288040" y="253368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4643280" y="397044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4643280" y="572436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4919760" y="5148360"/>
            <a:ext cx="0" cy="57600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943600" y="3276360"/>
            <a:ext cx="3124080" cy="17398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O MN responde directamente ao CN usando o CoA, enviando também a informação de qual o seu endereço normal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1442880" y="572436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605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2606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610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2611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615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2616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620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2621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625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2626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630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2631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635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36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2438280" y="2905200"/>
            <a:ext cx="2756160" cy="3213000"/>
          </a:xfrm>
          <a:custGeom>
            <a:avLst/>
            <a:gdLst/>
            <a:ahLst/>
            <a:rect l="l" t="t" r="r" b="b"/>
            <a:pathLst>
              <a:path w="1736" h="2024">
                <a:moveTo>
                  <a:pt x="1736" y="2024"/>
                </a:moveTo>
                <a:cubicBezTo>
                  <a:pt x="1557" y="1769"/>
                  <a:pt x="953" y="825"/>
                  <a:pt x="664" y="488"/>
                </a:cubicBezTo>
                <a:cubicBezTo>
                  <a:pt x="375" y="151"/>
                  <a:pt x="138" y="102"/>
                  <a:pt x="0" y="0"/>
                </a:cubicBezTo>
              </a:path>
            </a:pathLst>
          </a:custGeom>
          <a:noFill/>
          <a:ln w="2844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2514600" y="1908000"/>
            <a:ext cx="3992400" cy="908280"/>
          </a:xfrm>
          <a:custGeom>
            <a:avLst/>
            <a:gdLst/>
            <a:ahLst/>
            <a:rect l="l" t="t" r="r" b="b"/>
            <a:pathLst>
              <a:path w="2515" h="572">
                <a:moveTo>
                  <a:pt x="0" y="572"/>
                </a:moveTo>
                <a:cubicBezTo>
                  <a:pt x="251" y="539"/>
                  <a:pt x="1079" y="468"/>
                  <a:pt x="1498" y="373"/>
                </a:cubicBezTo>
                <a:cubicBezTo>
                  <a:pt x="1917" y="278"/>
                  <a:pt x="2303" y="78"/>
                  <a:pt x="2515" y="0"/>
                </a:cubicBezTo>
              </a:path>
            </a:pathLst>
          </a:custGeom>
          <a:noFill/>
          <a:ln w="2844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5213520" y="1947960"/>
            <a:ext cx="1293480" cy="3349440"/>
          </a:xfrm>
          <a:custGeom>
            <a:avLst/>
            <a:gdLst/>
            <a:ahLst/>
            <a:rect l="l" t="t" r="r" b="b"/>
            <a:pathLst>
              <a:path w="815" h="2110">
                <a:moveTo>
                  <a:pt x="815" y="0"/>
                </a:moveTo>
                <a:cubicBezTo>
                  <a:pt x="700" y="164"/>
                  <a:pt x="248" y="635"/>
                  <a:pt x="124" y="987"/>
                </a:cubicBezTo>
                <a:cubicBezTo>
                  <a:pt x="0" y="1339"/>
                  <a:pt x="81" y="1876"/>
                  <a:pt x="70" y="211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1104840" y="406080"/>
            <a:ext cx="788688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Operação básica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Actualização do registo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2641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2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305000" y="124308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5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9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53" name="laptop"/>
          <p:cNvSpPr/>
          <p:nvPr/>
        </p:nvSpPr>
        <p:spPr>
          <a:xfrm>
            <a:off x="6432480" y="1703520"/>
            <a:ext cx="914400" cy="53316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6248520" y="3430080"/>
            <a:ext cx="2819160" cy="119124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A comunicação entre o MN e o CN é feita directamente (sem intervenção do HA)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661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2662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666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2667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671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2672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2677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681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2682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2687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691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92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4906800" y="1971720"/>
            <a:ext cx="1600200" cy="3349440"/>
          </a:xfrm>
          <a:custGeom>
            <a:avLst/>
            <a:gdLst/>
            <a:ahLst/>
            <a:rect l="l" t="t" r="r" b="b"/>
            <a:pathLst>
              <a:path w="1008" h="2110">
                <a:moveTo>
                  <a:pt x="1008" y="0"/>
                </a:moveTo>
                <a:cubicBezTo>
                  <a:pt x="862" y="160"/>
                  <a:pt x="248" y="615"/>
                  <a:pt x="124" y="967"/>
                </a:cubicBezTo>
                <a:cubicBezTo>
                  <a:pt x="0" y="1319"/>
                  <a:pt x="234" y="1872"/>
                  <a:pt x="263" y="211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5448240" y="2382840"/>
            <a:ext cx="1179720" cy="2938320"/>
          </a:xfrm>
          <a:custGeom>
            <a:avLst/>
            <a:gdLst/>
            <a:ahLst/>
            <a:rect l="l" t="t" r="r" b="b"/>
            <a:pathLst>
              <a:path w="743" h="1851">
                <a:moveTo>
                  <a:pt x="188" y="1851"/>
                </a:moveTo>
                <a:cubicBezTo>
                  <a:pt x="172" y="1666"/>
                  <a:pt x="0" y="1047"/>
                  <a:pt x="92" y="739"/>
                </a:cubicBezTo>
                <a:cubicBezTo>
                  <a:pt x="184" y="431"/>
                  <a:pt x="608" y="154"/>
                  <a:pt x="743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96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1305000" y="12430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99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2521080" y="216360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04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2938320" y="1487520"/>
            <a:ext cx="3559320" cy="404640"/>
          </a:xfrm>
          <a:custGeom>
            <a:avLst/>
            <a:gdLst/>
            <a:ahLst/>
            <a:rect l="l" t="t" r="r" b="b"/>
            <a:pathLst>
              <a:path w="2242" h="255">
                <a:moveTo>
                  <a:pt x="0" y="255"/>
                </a:moveTo>
                <a:cubicBezTo>
                  <a:pt x="177" y="214"/>
                  <a:pt x="687" y="18"/>
                  <a:pt x="1061" y="9"/>
                </a:cubicBezTo>
                <a:cubicBezTo>
                  <a:pt x="1435" y="0"/>
                  <a:pt x="1996" y="164"/>
                  <a:pt x="2242" y="204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6477120" y="3386160"/>
            <a:ext cx="2590560" cy="232884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O MN regressa para a sua rede de origem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(HN), voltando à situação inicial, donde irá utilizar o IPv6 normalmente, como se não fosse um MN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15" name="laptop"/>
          <p:cNvSpPr/>
          <p:nvPr/>
        </p:nvSpPr>
        <p:spPr>
          <a:xfrm>
            <a:off x="2057400" y="1676520"/>
            <a:ext cx="914400" cy="53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17" name="laptop"/>
          <p:cNvSpPr/>
          <p:nvPr/>
        </p:nvSpPr>
        <p:spPr>
          <a:xfrm>
            <a:off x="6477120" y="1600200"/>
            <a:ext cx="914400" cy="533520"/>
          </a:xfrm>
          <a:prstGeom prst="pie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Operação Básica 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Regresso do MN à sua H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grpSp>
        <p:nvGrpSpPr>
          <p:cNvPr id="2719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2720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724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2725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729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2730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734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2735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739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2740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744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2745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749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50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52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1305000" y="12430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55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2521080" y="216360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0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2362320" y="2286000"/>
            <a:ext cx="228600" cy="380880"/>
          </a:xfrm>
          <a:custGeom>
            <a:avLst/>
            <a:gdLst/>
            <a:ahLst/>
            <a:rect l="l" t="t" r="r" b="b"/>
            <a:pathLst>
              <a:path w="77" h="227">
                <a:moveTo>
                  <a:pt x="77" y="0"/>
                </a:moveTo>
                <a:cubicBezTo>
                  <a:pt x="69" y="23"/>
                  <a:pt x="39" y="102"/>
                  <a:pt x="26" y="140"/>
                </a:cubicBezTo>
                <a:cubicBezTo>
                  <a:pt x="13" y="178"/>
                  <a:pt x="5" y="209"/>
                  <a:pt x="0" y="227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6477120" y="3581280"/>
            <a:ext cx="2590560" cy="175284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O MN detecta que está na sua HN e elimina o seu registo no HA, passando este a não interceptar os pacote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71" name="laptop"/>
          <p:cNvSpPr/>
          <p:nvPr/>
        </p:nvSpPr>
        <p:spPr>
          <a:xfrm>
            <a:off x="2057400" y="1676520"/>
            <a:ext cx="914400" cy="53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Operação Básica 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Regresso do MN à sua H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2774" name=""/>
          <p:cNvSpPr/>
          <p:nvPr/>
        </p:nvSpPr>
        <p:spPr>
          <a:xfrm>
            <a:off x="2158920" y="2209680"/>
            <a:ext cx="127080" cy="436680"/>
          </a:xfrm>
          <a:custGeom>
            <a:avLst/>
            <a:gdLst/>
            <a:ahLst/>
            <a:rect l="l" t="t" r="r" b="b"/>
            <a:pathLst>
              <a:path w="80" h="275">
                <a:moveTo>
                  <a:pt x="80" y="0"/>
                </a:moveTo>
                <a:cubicBezTo>
                  <a:pt x="73" y="29"/>
                  <a:pt x="53" y="129"/>
                  <a:pt x="40" y="175"/>
                </a:cubicBezTo>
                <a:cubicBezTo>
                  <a:pt x="27" y="221"/>
                  <a:pt x="8" y="254"/>
                  <a:pt x="0" y="275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775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2776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2781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785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2786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790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2791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2796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800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2801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805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06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08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5715000" y="11430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1305000" y="12430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11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2521080" y="216360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16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6477120" y="3657600"/>
            <a:ext cx="2590560" cy="12193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O MN e o CN passam a trocar tráfego utilizando IPv6 standard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6" name="laptop"/>
          <p:cNvSpPr/>
          <p:nvPr/>
        </p:nvSpPr>
        <p:spPr>
          <a:xfrm>
            <a:off x="2057400" y="1676520"/>
            <a:ext cx="914400" cy="53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Operação Básica 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Regresso do MN à sua H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2829" name=""/>
          <p:cNvSpPr/>
          <p:nvPr/>
        </p:nvSpPr>
        <p:spPr>
          <a:xfrm>
            <a:off x="2433600" y="2687760"/>
            <a:ext cx="2551320" cy="3186000"/>
          </a:xfrm>
          <a:custGeom>
            <a:avLst/>
            <a:gdLst/>
            <a:ahLst/>
            <a:rect l="l" t="t" r="r" b="b"/>
            <a:pathLst>
              <a:path w="1607" h="2007">
                <a:moveTo>
                  <a:pt x="0" y="0"/>
                </a:moveTo>
                <a:cubicBezTo>
                  <a:pt x="134" y="171"/>
                  <a:pt x="539" y="693"/>
                  <a:pt x="807" y="1027"/>
                </a:cubicBezTo>
                <a:cubicBezTo>
                  <a:pt x="1075" y="1361"/>
                  <a:pt x="1440" y="1803"/>
                  <a:pt x="1607" y="2007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830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2831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835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2836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840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2841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845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2846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850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2851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2856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860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61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709720" y="2444760"/>
            <a:ext cx="2433960" cy="3154320"/>
          </a:xfrm>
          <a:custGeom>
            <a:avLst/>
            <a:gdLst/>
            <a:ahLst/>
            <a:rect l="l" t="t" r="r" b="b"/>
            <a:pathLst>
              <a:path w="1533" h="1987">
                <a:moveTo>
                  <a:pt x="0" y="0"/>
                </a:moveTo>
                <a:cubicBezTo>
                  <a:pt x="143" y="189"/>
                  <a:pt x="605" y="802"/>
                  <a:pt x="860" y="1133"/>
                </a:cubicBezTo>
                <a:cubicBezTo>
                  <a:pt x="1115" y="1464"/>
                  <a:pt x="1393" y="1809"/>
                  <a:pt x="1533" y="1987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Heavy"/>
              </a:rPr>
              <a:t>Mobilidade IPv6 - IPv6 Básico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grpSp>
        <p:nvGrpSpPr>
          <p:cNvPr id="2864" name=""/>
          <p:cNvGrpSpPr/>
          <p:nvPr/>
        </p:nvGrpSpPr>
        <p:grpSpPr>
          <a:xfrm>
            <a:off x="4191120" y="4145040"/>
            <a:ext cx="4343400" cy="425520"/>
            <a:chOff x="4191120" y="4145040"/>
            <a:chExt cx="4343400" cy="425520"/>
          </a:xfrm>
        </p:grpSpPr>
        <p:sp>
          <p:nvSpPr>
            <p:cNvPr id="2865" name=""/>
            <p:cNvSpPr/>
            <p:nvPr/>
          </p:nvSpPr>
          <p:spPr>
            <a:xfrm>
              <a:off x="6579720" y="4145040"/>
              <a:ext cx="1954440" cy="4255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ffff99"/>
                  </a:solidFill>
                  <a:latin typeface="PTBlissMedium"/>
                </a:rPr>
                <a:t>Data</a:t>
              </a:r>
              <a:endParaRPr b="0" lang="en-US" sz="11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819760" y="4145040"/>
              <a:ext cx="759960" cy="4255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100" spc="-1" strike="noStrike">
                  <a:solidFill>
                    <a:srgbClr val="ffff99"/>
                  </a:solidFill>
                  <a:latin typeface="PTBlissMedium"/>
                </a:rPr>
                <a:t>Extension Header N</a:t>
              </a:r>
              <a:endParaRPr b="0" lang="en-US" sz="11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5527800" y="4145040"/>
              <a:ext cx="291600" cy="4255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ffff99"/>
                  </a:solidFill>
                  <a:latin typeface="PTBlissMedium"/>
                </a:rPr>
                <a:t>...</a:t>
              </a:r>
              <a:endParaRPr b="0" lang="en-US" sz="11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788000" y="4145040"/>
              <a:ext cx="739440" cy="4255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100" spc="-1" strike="noStrike">
                  <a:solidFill>
                    <a:srgbClr val="ffff99"/>
                  </a:solidFill>
                  <a:latin typeface="PTBlissMedium"/>
                </a:rPr>
                <a:t>Extension Header 1</a:t>
              </a:r>
              <a:endParaRPr b="0" lang="en-US" sz="11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191120" y="4145040"/>
              <a:ext cx="596880" cy="4255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100" spc="-1" strike="noStrike">
                  <a:solidFill>
                    <a:srgbClr val="ffff99"/>
                  </a:solidFill>
                  <a:latin typeface="PTBlissMedium"/>
                </a:rPr>
                <a:t>Base Header</a:t>
              </a:r>
              <a:endParaRPr b="0" lang="en-US" sz="11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191120" y="4145040"/>
              <a:ext cx="4343400" cy="0"/>
            </a:xfrm>
            <a:prstGeom prst="line">
              <a:avLst/>
            </a:prstGeom>
            <a:ln cap="sq"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191120" y="4570560"/>
              <a:ext cx="4343400" cy="0"/>
            </a:xfrm>
            <a:prstGeom prst="line">
              <a:avLst/>
            </a:prstGeom>
            <a:ln cap="sq"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191120" y="4145040"/>
              <a:ext cx="0" cy="425520"/>
            </a:xfrm>
            <a:prstGeom prst="line">
              <a:avLst/>
            </a:prstGeom>
            <a:ln cap="sq"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534520" y="4145040"/>
              <a:ext cx="0" cy="425520"/>
            </a:xfrm>
            <a:prstGeom prst="line">
              <a:avLst/>
            </a:prstGeom>
            <a:ln cap="sq"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788000" y="4145040"/>
              <a:ext cx="0" cy="42552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527800" y="4145040"/>
              <a:ext cx="0" cy="42552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5819760" y="4145040"/>
              <a:ext cx="0" cy="42552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579720" y="4145040"/>
              <a:ext cx="0" cy="42552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878" name=""/>
          <p:cNvSpPr/>
          <p:nvPr/>
        </p:nvSpPr>
        <p:spPr>
          <a:xfrm>
            <a:off x="1331280" y="4038480"/>
            <a:ext cx="253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Cabeçalhos de extensão 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(Opcionais)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879" name=""/>
          <p:cNvGrpSpPr/>
          <p:nvPr/>
        </p:nvGrpSpPr>
        <p:grpSpPr>
          <a:xfrm>
            <a:off x="5305320" y="1600200"/>
            <a:ext cx="3305160" cy="1676520"/>
            <a:chOff x="5305320" y="1600200"/>
            <a:chExt cx="3305160" cy="1676520"/>
          </a:xfrm>
        </p:grpSpPr>
        <p:sp>
          <p:nvSpPr>
            <p:cNvPr id="2880" name=""/>
            <p:cNvSpPr/>
            <p:nvPr/>
          </p:nvSpPr>
          <p:spPr>
            <a:xfrm>
              <a:off x="5305320" y="1620720"/>
              <a:ext cx="3305160" cy="165600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820280" y="2117520"/>
              <a:ext cx="789840" cy="386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000" spc="-1" strike="noStrike">
                  <a:solidFill>
                    <a:srgbClr val="ffff99"/>
                  </a:solidFill>
                  <a:latin typeface="PTBlissMedium"/>
                </a:rPr>
                <a:t>Hop Limit (8)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925320" y="2117520"/>
              <a:ext cx="894960" cy="386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000" spc="-1" strike="noStrike">
                  <a:solidFill>
                    <a:srgbClr val="ffff99"/>
                  </a:solidFill>
                  <a:latin typeface="PTBlissMedium"/>
                </a:rPr>
                <a:t>Next Head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000" spc="-1" strike="noStrike">
                  <a:solidFill>
                    <a:srgbClr val="ffff99"/>
                  </a:solidFill>
                  <a:latin typeface="PTBlissMedium"/>
                </a:rPr>
                <a:t>(8)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644520" y="1620720"/>
              <a:ext cx="1965960" cy="4968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000" spc="-1" strike="noStrike">
                  <a:solidFill>
                    <a:srgbClr val="ffff99"/>
                  </a:solidFill>
                  <a:latin typeface="PTBlissMedium"/>
                </a:rPr>
                <a:t>Flow Label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000" spc="-1" strike="noStrike">
                  <a:solidFill>
                    <a:srgbClr val="ffff99"/>
                  </a:solidFill>
                  <a:latin typeface="PTBlissMedium"/>
                </a:rPr>
                <a:t>(20)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985720" y="1620720"/>
              <a:ext cx="658440" cy="4968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000" spc="-1" strike="noStrike">
                  <a:solidFill>
                    <a:srgbClr val="ffff99"/>
                  </a:solidFill>
                  <a:latin typeface="PTBlissMedium"/>
                </a:rPr>
                <a:t>Traffic Class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000" spc="-1" strike="noStrike">
                  <a:solidFill>
                    <a:srgbClr val="ffff99"/>
                  </a:solidFill>
                  <a:latin typeface="PTBlissMedium"/>
                </a:rPr>
                <a:t>(8)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5305320" y="2890440"/>
              <a:ext cx="3305160" cy="3859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000" spc="-1" strike="noStrike">
                  <a:solidFill>
                    <a:srgbClr val="ffff99"/>
                  </a:solidFill>
                  <a:latin typeface="PTBlissMedium"/>
                </a:rPr>
                <a:t>Destination Addess (128)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305320" y="2503800"/>
              <a:ext cx="3305160" cy="386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000" spc="-1" strike="noStrike">
                  <a:solidFill>
                    <a:srgbClr val="ffff99"/>
                  </a:solidFill>
                  <a:latin typeface="PTBlissMedium"/>
                </a:rPr>
                <a:t>Source Address (128)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5305320" y="2117520"/>
              <a:ext cx="1620000" cy="386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000" spc="-1" strike="noStrike">
                  <a:solidFill>
                    <a:srgbClr val="ffff99"/>
                  </a:solidFill>
                  <a:latin typeface="PTBlissMedium"/>
                </a:rPr>
                <a:t>Payload Length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000" spc="-1" strike="noStrike">
                  <a:solidFill>
                    <a:srgbClr val="ffff99"/>
                  </a:solidFill>
                  <a:latin typeface="PTBlissMedium"/>
                </a:rPr>
                <a:t>(16)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5305320" y="1620720"/>
              <a:ext cx="680400" cy="4968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000" spc="-1" strike="noStrike">
                  <a:solidFill>
                    <a:srgbClr val="ffff99"/>
                  </a:solidFill>
                  <a:latin typeface="PTBlissMedium"/>
                </a:rPr>
                <a:t>Version (4)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5985720" y="1600200"/>
              <a:ext cx="0" cy="52776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6644520" y="1600200"/>
              <a:ext cx="0" cy="52776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7820280" y="2127960"/>
              <a:ext cx="0" cy="38052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892" name=""/>
          <p:cNvSpPr/>
          <p:nvPr/>
        </p:nvSpPr>
        <p:spPr>
          <a:xfrm>
            <a:off x="2025000" y="1828800"/>
            <a:ext cx="276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99"/>
                </a:solidFill>
                <a:latin typeface="PTBlissMedium"/>
              </a:rPr>
              <a:t>Cabeçalho do pacote 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99"/>
                </a:solidFill>
                <a:latin typeface="PTBlissMedium"/>
              </a:rPr>
              <a:t>320 bits (40 bytes)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5311800" y="1371600"/>
            <a:ext cx="3305160" cy="12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6151320" y="1066680"/>
            <a:ext cx="14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99"/>
                </a:solidFill>
                <a:latin typeface="PTBlissMedium"/>
              </a:rPr>
              <a:t>32 bits (4 bytes)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2056320" y="2590920"/>
            <a:ext cx="2637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99"/>
                </a:solidFill>
                <a:latin typeface="Times New Roman"/>
              </a:rPr>
              <a:t>3ffe:1080:0:0:8:800:200C:417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99"/>
                </a:solidFill>
                <a:latin typeface="Times New Roman"/>
              </a:rPr>
              <a:t>3ffe:1080::8:800:200C:417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1104840" y="1142640"/>
            <a:ext cx="407664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PTBlissMedium"/>
              </a:rPr>
              <a:t>- Endereços IPv6: 128 bits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2897" name=""/>
          <p:cNvSpPr/>
          <p:nvPr/>
        </p:nvSpPr>
        <p:spPr>
          <a:xfrm>
            <a:off x="1066680" y="3809880"/>
            <a:ext cx="4077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PTBlissMedium"/>
              </a:rPr>
              <a:t>- Cabeçalhos de extensão: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1219320" y="4826160"/>
            <a:ext cx="792468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- Cabeçalhos de extensão: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DH (Destination Option Header)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 - utilizado para transmitir 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informação adicional ao host destino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RH (Routing Header)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 - utilizado para encaminhar os 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pacotes por um path determinado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AH (Athentication Header)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 - Autenticação e Segurança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1066680" y="3378240"/>
            <a:ext cx="4077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PTBlissMedium"/>
              </a:rPr>
              <a:t>- Auto-configuração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Cloud"/>
          <p:cNvSpPr/>
          <p:nvPr/>
        </p:nvSpPr>
        <p:spPr>
          <a:xfrm>
            <a:off x="3613320" y="457200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01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1305000" y="12430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04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2521080" y="216360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09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10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915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2916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920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6858000" y="4343400"/>
            <a:ext cx="2209680" cy="3808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Situação normal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Detalhes de Operação </a:t>
            </a:r>
            <a:r>
              <a:rPr b="1" lang="en-US" sz="2200" spc="-1" strike="noStrike">
                <a:solidFill>
                  <a:srgbClr val="919191"/>
                </a:solidFill>
                <a:latin typeface="PTBlissMedium"/>
              </a:rPr>
              <a:t>O MN move-se para uma F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2926" name=""/>
          <p:cNvSpPr/>
          <p:nvPr/>
        </p:nvSpPr>
        <p:spPr>
          <a:xfrm>
            <a:off x="1671480" y="594360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927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2928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2933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937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2938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942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2943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947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2948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952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53" name="laptop"/>
          <p:cNvSpPr/>
          <p:nvPr/>
        </p:nvSpPr>
        <p:spPr>
          <a:xfrm>
            <a:off x="2057400" y="1703520"/>
            <a:ext cx="914400" cy="53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Detalhes de Operação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2955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56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1305000" y="12430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59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2521080" y="216360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64" name="laptop"/>
          <p:cNvSpPr/>
          <p:nvPr/>
        </p:nvSpPr>
        <p:spPr>
          <a:xfrm>
            <a:off x="2057400" y="1744560"/>
            <a:ext cx="914400" cy="533520"/>
          </a:xfrm>
          <a:prstGeom prst="pie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65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2938320" y="1487520"/>
            <a:ext cx="3559320" cy="404640"/>
          </a:xfrm>
          <a:custGeom>
            <a:avLst/>
            <a:gdLst/>
            <a:ahLst/>
            <a:rect l="l" t="t" r="r" b="b"/>
            <a:pathLst>
              <a:path w="2242" h="255">
                <a:moveTo>
                  <a:pt x="0" y="255"/>
                </a:moveTo>
                <a:cubicBezTo>
                  <a:pt x="177" y="214"/>
                  <a:pt x="687" y="18"/>
                  <a:pt x="1061" y="9"/>
                </a:cubicBezTo>
                <a:cubicBezTo>
                  <a:pt x="1435" y="0"/>
                  <a:pt x="1996" y="164"/>
                  <a:pt x="2242" y="204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6477120" y="3424320"/>
            <a:ext cx="2590560" cy="12999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O MN move-se para um segmento de rede distinto do de origem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(uma FN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76" name="laptop"/>
          <p:cNvSpPr/>
          <p:nvPr/>
        </p:nvSpPr>
        <p:spPr>
          <a:xfrm>
            <a:off x="6432480" y="1703520"/>
            <a:ext cx="914400" cy="53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978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2979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983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2984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988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2989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993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2994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998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2999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3004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008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09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Medium"/>
              </a:rPr>
              <a:t>Mobilidade IPv6 - Detalhes de Operação </a:t>
            </a:r>
            <a:br>
              <a:rPr sz="3200"/>
            </a:br>
            <a:r>
              <a:rPr b="1" lang="pt-PT" sz="2200" spc="-1" strike="noStrike">
                <a:solidFill>
                  <a:srgbClr val="919191"/>
                </a:solidFill>
                <a:latin typeface="PTBlissMedium"/>
              </a:rPr>
              <a:t>O MN adquire um novo CoA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3011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12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1305000" y="124308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15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19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23" name="laptop"/>
          <p:cNvSpPr/>
          <p:nvPr/>
        </p:nvSpPr>
        <p:spPr>
          <a:xfrm>
            <a:off x="6432480" y="1703520"/>
            <a:ext cx="914400" cy="53316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6477120" y="3413520"/>
            <a:ext cx="2590560" cy="22885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Obtenção de um endereço com o prefixo dessa rede, o qual será utilizado como 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CoA.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- Auto-configuração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- DHCPv6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5894280" y="1951200"/>
            <a:ext cx="582840" cy="355320"/>
          </a:xfrm>
          <a:custGeom>
            <a:avLst/>
            <a:gdLst/>
            <a:ahLst/>
            <a:rect l="l" t="t" r="r" b="b"/>
            <a:pathLst>
              <a:path w="367" h="224">
                <a:moveTo>
                  <a:pt x="0" y="224"/>
                </a:moveTo>
                <a:cubicBezTo>
                  <a:pt x="27" y="206"/>
                  <a:pt x="104" y="147"/>
                  <a:pt x="165" y="110"/>
                </a:cubicBezTo>
                <a:cubicBezTo>
                  <a:pt x="226" y="73"/>
                  <a:pt x="325" y="22"/>
                  <a:pt x="367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6019920" y="2090880"/>
            <a:ext cx="453960" cy="34740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7391520" y="1905120"/>
            <a:ext cx="901440" cy="258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CM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034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3035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039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3040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3045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049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3050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054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3055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059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3060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064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65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3140280" y="1523880"/>
            <a:ext cx="301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Auto-configuração (stateless)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DHCPv6 (stateful)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Cloud"/>
          <p:cNvSpPr/>
          <p:nvPr/>
        </p:nvSpPr>
        <p:spPr>
          <a:xfrm>
            <a:off x="3613320" y="478800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68" name="Cloud"/>
          <p:cNvSpPr/>
          <p:nvPr/>
        </p:nvSpPr>
        <p:spPr>
          <a:xfrm>
            <a:off x="1219320" y="169704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5715000" y="12398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1305000" y="123984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71" name="Cloud"/>
          <p:cNvSpPr/>
          <p:nvPr/>
        </p:nvSpPr>
        <p:spPr>
          <a:xfrm>
            <a:off x="3384720" y="294804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3613320" y="350028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 flipH="1">
            <a:off x="1599840" y="255420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2057400" y="255420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75" name="Cloud"/>
          <p:cNvSpPr/>
          <p:nvPr/>
        </p:nvSpPr>
        <p:spPr>
          <a:xfrm>
            <a:off x="5594400" y="1655640"/>
            <a:ext cx="2209680" cy="148140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 flipH="1">
            <a:off x="5975280" y="251316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6432480" y="25131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6896160" y="211932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79" name="laptop"/>
          <p:cNvSpPr/>
          <p:nvPr/>
        </p:nvSpPr>
        <p:spPr>
          <a:xfrm>
            <a:off x="6432480" y="1700280"/>
            <a:ext cx="914400" cy="53316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3429000" y="2554200"/>
            <a:ext cx="754200" cy="7066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 flipV="1">
            <a:off x="5288040" y="255420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4643280" y="399096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4643280" y="574524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4919760" y="516888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2286000" y="1614600"/>
            <a:ext cx="4241880" cy="1082520"/>
          </a:xfrm>
          <a:custGeom>
            <a:avLst/>
            <a:gdLst/>
            <a:ahLst/>
            <a:rect l="l" t="t" r="r" b="b"/>
            <a:pathLst>
              <a:path w="2672" h="682">
                <a:moveTo>
                  <a:pt x="2672" y="217"/>
                </a:moveTo>
                <a:cubicBezTo>
                  <a:pt x="2427" y="194"/>
                  <a:pt x="1645" y="0"/>
                  <a:pt x="1200" y="78"/>
                </a:cubicBezTo>
                <a:cubicBezTo>
                  <a:pt x="755" y="156"/>
                  <a:pt x="250" y="556"/>
                  <a:pt x="0" y="682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3825000" y="182736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Binding Updat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(BU)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1442880" y="574524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6035760" y="3338280"/>
            <a:ext cx="3031920" cy="14655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O MN envia um 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Binding Update 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(BU) ao seu HA, para o notificar de qual o CoA que irá a utilizar (CoA primário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1079640" y="380880"/>
            <a:ext cx="788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Detalhes de Operação</a:t>
            </a:r>
            <a:br>
              <a:rPr sz="3200"/>
            </a:br>
            <a:r>
              <a:rPr b="1" lang="en-US" sz="2200" spc="-1" strike="noStrike">
                <a:solidFill>
                  <a:srgbClr val="919191"/>
                </a:solidFill>
                <a:latin typeface="PTBlissMedium"/>
              </a:rPr>
              <a:t>O MN regista-se no seu HA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3941640" y="1336680"/>
            <a:ext cx="554040" cy="25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4495680" y="1328760"/>
            <a:ext cx="83844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4701960" y="110484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PTBlissMedium"/>
              </a:rPr>
              <a:t>DH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4930920" y="1349280"/>
            <a:ext cx="38088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H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4518000" y="1349280"/>
            <a:ext cx="38088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BU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095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3096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100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3101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105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3106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110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3111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115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3116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120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3121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125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26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Times New Roman"/>
              </a:rPr>
              <a:t>Sumário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04840" y="1343160"/>
            <a:ext cx="7734240" cy="49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imes New Roman"/>
              </a:rPr>
              <a:t>Introdução à mobilidade dos terminais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imes New Roman"/>
              </a:rPr>
              <a:t>Mobilidade em redes IP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imes New Roman"/>
              </a:rPr>
              <a:t>Descrição de funcionamento da MIPv6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imes New Roman"/>
              </a:rPr>
              <a:t>Adições ao protocolo para conseguir o “always-on”.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imes New Roman"/>
              </a:rPr>
              <a:t>Implicações da MIPv6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imes New Roman"/>
              </a:rPr>
              <a:t>O que se faz na PTIN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imes New Roman"/>
              </a:rPr>
              <a:t>Conclusões e estado da arte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28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1305000" y="124308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1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3613320" y="346248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5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9" name="laptop"/>
          <p:cNvSpPr/>
          <p:nvPr/>
        </p:nvSpPr>
        <p:spPr>
          <a:xfrm>
            <a:off x="6432480" y="1703520"/>
            <a:ext cx="914400" cy="53316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2235240" y="1577880"/>
            <a:ext cx="4241880" cy="1106640"/>
          </a:xfrm>
          <a:custGeom>
            <a:avLst/>
            <a:gdLst/>
            <a:ahLst/>
            <a:rect l="l" t="t" r="r" b="b"/>
            <a:pathLst>
              <a:path w="2672" h="697">
                <a:moveTo>
                  <a:pt x="0" y="697"/>
                </a:moveTo>
                <a:cubicBezTo>
                  <a:pt x="224" y="595"/>
                  <a:pt x="900" y="172"/>
                  <a:pt x="1345" y="86"/>
                </a:cubicBezTo>
                <a:cubicBezTo>
                  <a:pt x="1790" y="0"/>
                  <a:pt x="2396" y="160"/>
                  <a:pt x="2672" y="179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6019920" y="3276360"/>
            <a:ext cx="3047760" cy="17398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O HA envia um 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Binding Acknowledge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 (BA) ao MN, para o notificar se o BU foi aceite ou não. Para lhe enviar o BA utiliza um 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Routing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 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Header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 (RH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1104840" y="380880"/>
            <a:ext cx="803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Detalhes de Operação </a:t>
            </a:r>
            <a:br>
              <a:rPr sz="3200"/>
            </a:br>
            <a:r>
              <a:rPr b="1" lang="en-US" sz="2200" spc="-1" strike="noStrike">
                <a:solidFill>
                  <a:srgbClr val="919191"/>
                </a:solidFill>
                <a:latin typeface="PTBlissMedium"/>
              </a:rPr>
              <a:t>O HA confirma registo do MN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4222800" y="1336680"/>
            <a:ext cx="554040" cy="25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4776840" y="1328760"/>
            <a:ext cx="40464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R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5138640" y="109368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PTBlissMedium"/>
              </a:rPr>
              <a:t>DH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5138640" y="1328760"/>
            <a:ext cx="41292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5170320" y="1352520"/>
            <a:ext cx="358920" cy="2160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B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154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3155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159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3160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3165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169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3170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174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3175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179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3180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184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85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2463840" y="1735200"/>
            <a:ext cx="4013280" cy="1160280"/>
          </a:xfrm>
          <a:custGeom>
            <a:avLst/>
            <a:gdLst/>
            <a:ahLst/>
            <a:rect l="l" t="t" r="r" b="b"/>
            <a:pathLst>
              <a:path w="2672" h="697">
                <a:moveTo>
                  <a:pt x="0" y="697"/>
                </a:moveTo>
                <a:cubicBezTo>
                  <a:pt x="224" y="595"/>
                  <a:pt x="900" y="172"/>
                  <a:pt x="1345" y="86"/>
                </a:cubicBezTo>
                <a:cubicBezTo>
                  <a:pt x="1790" y="0"/>
                  <a:pt x="2396" y="160"/>
                  <a:pt x="2672" y="179"/>
                </a:cubicBezTo>
              </a:path>
            </a:pathLst>
          </a:custGeom>
          <a:noFill/>
          <a:ln w="28440">
            <a:solidFill>
              <a:srgbClr val="91919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3734280" y="1721520"/>
            <a:ext cx="183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Binding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Acknowledgment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(BA)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189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3190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194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1305000" y="124308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97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3613320" y="346248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01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05" name="laptop"/>
          <p:cNvSpPr/>
          <p:nvPr/>
        </p:nvSpPr>
        <p:spPr>
          <a:xfrm>
            <a:off x="6432480" y="1703520"/>
            <a:ext cx="914400" cy="53316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2465280" y="1930320"/>
            <a:ext cx="3986280" cy="1054080"/>
          </a:xfrm>
          <a:custGeom>
            <a:avLst/>
            <a:gdLst/>
            <a:ahLst/>
            <a:rect l="l" t="t" r="r" b="b"/>
            <a:pathLst>
              <a:path w="2511" h="664">
                <a:moveTo>
                  <a:pt x="0" y="664"/>
                </a:moveTo>
                <a:cubicBezTo>
                  <a:pt x="211" y="567"/>
                  <a:pt x="848" y="168"/>
                  <a:pt x="1267" y="84"/>
                </a:cubicBezTo>
                <a:cubicBezTo>
                  <a:pt x="1686" y="0"/>
                  <a:pt x="2252" y="144"/>
                  <a:pt x="2511" y="159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4429800" y="198036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PTBlissMedium"/>
              </a:rPr>
              <a:t>BA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5959440" y="3477600"/>
            <a:ext cx="3108240" cy="119124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Ao fim de algum tempo o MN as mensagens de BU e BA são trocadas para actualizar o registo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1104840" y="380880"/>
            <a:ext cx="803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Detalhes de Operação</a:t>
            </a:r>
            <a:br>
              <a:rPr sz="3200"/>
            </a:br>
            <a:r>
              <a:rPr b="1" lang="en-US" sz="2200" spc="-1" strike="noStrike">
                <a:solidFill>
                  <a:srgbClr val="919191"/>
                </a:solidFill>
                <a:latin typeface="PTBlissMedium"/>
              </a:rPr>
              <a:t>Actualização do Registo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3619080" y="16898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PTBlissMedium"/>
              </a:rPr>
              <a:t>BU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2387520" y="1728720"/>
            <a:ext cx="4046760" cy="1108080"/>
          </a:xfrm>
          <a:custGeom>
            <a:avLst/>
            <a:gdLst/>
            <a:ahLst/>
            <a:rect l="l" t="t" r="r" b="b"/>
            <a:pathLst>
              <a:path w="2549" h="698">
                <a:moveTo>
                  <a:pt x="0" y="698"/>
                </a:moveTo>
                <a:cubicBezTo>
                  <a:pt x="214" y="597"/>
                  <a:pt x="858" y="182"/>
                  <a:pt x="1283" y="91"/>
                </a:cubicBezTo>
                <a:cubicBezTo>
                  <a:pt x="1708" y="0"/>
                  <a:pt x="2285" y="138"/>
                  <a:pt x="2549" y="151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4094280" y="1484280"/>
            <a:ext cx="554040" cy="25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4648320" y="1476360"/>
            <a:ext cx="83808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4854600" y="125244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PTBlissMedium"/>
              </a:rPr>
              <a:t>DH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5083200" y="1496880"/>
            <a:ext cx="38088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H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4670280" y="1496880"/>
            <a:ext cx="38124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BU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3962520" y="2403360"/>
            <a:ext cx="554040" cy="25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4516560" y="2395440"/>
            <a:ext cx="40464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R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4921200" y="2392200"/>
            <a:ext cx="412920" cy="2718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4794120" y="216036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PTBlissMedium"/>
              </a:rPr>
              <a:t>DH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4952880" y="2416320"/>
            <a:ext cx="358920" cy="2156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B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228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3229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233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3234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238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3239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243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3244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248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3249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253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54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56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1305000" y="124308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59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63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67" name="laptop"/>
          <p:cNvSpPr/>
          <p:nvPr/>
        </p:nvSpPr>
        <p:spPr>
          <a:xfrm>
            <a:off x="6432480" y="1703520"/>
            <a:ext cx="914400" cy="53316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2438280" y="2928960"/>
            <a:ext cx="2768760" cy="3137040"/>
          </a:xfrm>
          <a:custGeom>
            <a:avLst/>
            <a:gdLst/>
            <a:ahLst/>
            <a:rect l="l" t="t" r="r" b="b"/>
            <a:pathLst>
              <a:path w="1744" h="1976">
                <a:moveTo>
                  <a:pt x="1744" y="1976"/>
                </a:moveTo>
                <a:cubicBezTo>
                  <a:pt x="1571" y="1723"/>
                  <a:pt x="987" y="777"/>
                  <a:pt x="696" y="448"/>
                </a:cubicBezTo>
                <a:cubicBezTo>
                  <a:pt x="405" y="119"/>
                  <a:pt x="145" y="93"/>
                  <a:pt x="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6324480" y="3295800"/>
            <a:ext cx="2743200" cy="20142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Envio de pacotes do CN para o MN. O HA intercepta o primeiro pacote destinado ao MN. O mesmo fará com todos os pacotes destinados ao MN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2354400" y="4608360"/>
            <a:ext cx="541080" cy="25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2895480" y="4608360"/>
            <a:ext cx="838440" cy="25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dados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1104840" y="380880"/>
            <a:ext cx="8039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Detalhes de Operação </a:t>
            </a:r>
            <a:br>
              <a:rPr sz="3200"/>
            </a:br>
            <a:r>
              <a:rPr b="1" lang="en-US" sz="2200" spc="-1" strike="noStrike">
                <a:solidFill>
                  <a:srgbClr val="919191"/>
                </a:solidFill>
                <a:latin typeface="PTBlissMedium"/>
              </a:rPr>
              <a:t>HA intercepta pacotes do CN para o MN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279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3280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284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3285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289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3290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294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3295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299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3300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304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3305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309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10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Detalhes de Operação 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HA reencaminha para o M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3312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13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1305000" y="124308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16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20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24" name="laptop"/>
          <p:cNvSpPr/>
          <p:nvPr/>
        </p:nvSpPr>
        <p:spPr>
          <a:xfrm>
            <a:off x="6432480" y="1703520"/>
            <a:ext cx="914400" cy="53316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2438280" y="2928960"/>
            <a:ext cx="2756160" cy="3213000"/>
          </a:xfrm>
          <a:custGeom>
            <a:avLst/>
            <a:gdLst/>
            <a:ahLst/>
            <a:rect l="l" t="t" r="r" b="b"/>
            <a:pathLst>
              <a:path w="1736" h="2024">
                <a:moveTo>
                  <a:pt x="1736" y="2024"/>
                </a:moveTo>
                <a:cubicBezTo>
                  <a:pt x="1557" y="1769"/>
                  <a:pt x="953" y="825"/>
                  <a:pt x="664" y="488"/>
                </a:cubicBezTo>
                <a:cubicBezTo>
                  <a:pt x="375" y="151"/>
                  <a:pt x="138" y="102"/>
                  <a:pt x="0" y="0"/>
                </a:cubicBezTo>
              </a:path>
            </a:pathLst>
          </a:custGeom>
          <a:noFill/>
          <a:ln w="2844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6248520" y="3352680"/>
            <a:ext cx="2819160" cy="17398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O HA deduz que o CN não tem o CoA do MN na sua 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Binding Cache 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(BC) e reencaminha o pacote para o MN (usando o CoA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4149720" y="1871640"/>
            <a:ext cx="554040" cy="2620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3679920" y="1860480"/>
            <a:ext cx="480960" cy="2732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r>
              <a:rPr b="1" lang="en-US" sz="1600" spc="-1" strike="noStrike">
                <a:solidFill>
                  <a:srgbClr val="ffff99"/>
                </a:solidFill>
                <a:latin typeface="PTBlissMedium"/>
              </a:rPr>
              <a:t>’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4703760" y="1874880"/>
            <a:ext cx="782640" cy="25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dados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336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3337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341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3342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346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3347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351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3352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356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3357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361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3362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366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67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2514600" y="1932120"/>
            <a:ext cx="3992400" cy="907920"/>
          </a:xfrm>
          <a:custGeom>
            <a:avLst/>
            <a:gdLst/>
            <a:ahLst/>
            <a:rect l="l" t="t" r="r" b="b"/>
            <a:pathLst>
              <a:path w="2515" h="572">
                <a:moveTo>
                  <a:pt x="0" y="572"/>
                </a:moveTo>
                <a:cubicBezTo>
                  <a:pt x="251" y="539"/>
                  <a:pt x="1079" y="468"/>
                  <a:pt x="1498" y="373"/>
                </a:cubicBezTo>
                <a:cubicBezTo>
                  <a:pt x="1917" y="278"/>
                  <a:pt x="2303" y="78"/>
                  <a:pt x="2515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Detalhes de Operação 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MN envia resposta ao C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3370" name="Cloud"/>
          <p:cNvSpPr/>
          <p:nvPr/>
        </p:nvSpPr>
        <p:spPr>
          <a:xfrm>
            <a:off x="3613320" y="4767120"/>
            <a:ext cx="2743200" cy="183852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71" name="Cloud"/>
          <p:cNvSpPr/>
          <p:nvPr/>
        </p:nvSpPr>
        <p:spPr>
          <a:xfrm>
            <a:off x="1219320" y="167652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571500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1305000" y="121932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74" name="Cloud"/>
          <p:cNvSpPr/>
          <p:nvPr/>
        </p:nvSpPr>
        <p:spPr>
          <a:xfrm>
            <a:off x="3384720" y="292752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3613320" y="347976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 flipH="1">
            <a:off x="1599840" y="253368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2057400" y="253368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78" name="Cloud"/>
          <p:cNvSpPr/>
          <p:nvPr/>
        </p:nvSpPr>
        <p:spPr>
          <a:xfrm>
            <a:off x="5594400" y="163512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 flipH="1">
            <a:off x="5975280" y="249228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6432480" y="249228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6896160" y="220680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82" name="laptop"/>
          <p:cNvSpPr/>
          <p:nvPr/>
        </p:nvSpPr>
        <p:spPr>
          <a:xfrm>
            <a:off x="6432480" y="1679400"/>
            <a:ext cx="914400" cy="53352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429000" y="253368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 flipV="1">
            <a:off x="5288040" y="253368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4643280" y="397044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4643280" y="572436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4919760" y="5148360"/>
            <a:ext cx="0" cy="57600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5791320" y="2969640"/>
            <a:ext cx="3276360" cy="17398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O MN responde directamente ao CN usando o CoA e enviando um BU para inserir ou actualizar a 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Binding Cache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 (BC) do CN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1442880" y="572436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6248520" y="4465440"/>
            <a:ext cx="2819160" cy="22885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Como acontecia no HA, o BU é acompanhado com o 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HA Option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. O BU pode ser enviado dentro de um pacote de resposta (com dados) ou num outro pacote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7445520" y="2828880"/>
            <a:ext cx="750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dados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6553080" y="2327400"/>
            <a:ext cx="554040" cy="258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7107120" y="2319480"/>
            <a:ext cx="83844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7313400" y="209556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PTBlissMedium"/>
              </a:rPr>
              <a:t>DH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7542360" y="2340000"/>
            <a:ext cx="38088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H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7129440" y="2340000"/>
            <a:ext cx="38088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BU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6075360" y="2822400"/>
            <a:ext cx="554040" cy="25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6629400" y="2814480"/>
            <a:ext cx="838080" cy="2718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6835680" y="259092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PTBlissMedium"/>
              </a:rPr>
              <a:t>DH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7064280" y="2835360"/>
            <a:ext cx="38124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H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6651720" y="2835360"/>
            <a:ext cx="38088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BU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5303520" y="39758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PTBlissMedium"/>
              </a:rPr>
              <a:t>BU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403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3404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408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3409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413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3414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418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3419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423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3424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428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3429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433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34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2438280" y="2905200"/>
            <a:ext cx="2756160" cy="3213000"/>
          </a:xfrm>
          <a:custGeom>
            <a:avLst/>
            <a:gdLst/>
            <a:ahLst/>
            <a:rect l="l" t="t" r="r" b="b"/>
            <a:pathLst>
              <a:path w="1736" h="2024">
                <a:moveTo>
                  <a:pt x="1736" y="2024"/>
                </a:moveTo>
                <a:cubicBezTo>
                  <a:pt x="1557" y="1769"/>
                  <a:pt x="953" y="825"/>
                  <a:pt x="664" y="488"/>
                </a:cubicBezTo>
                <a:cubicBezTo>
                  <a:pt x="375" y="151"/>
                  <a:pt x="138" y="102"/>
                  <a:pt x="0" y="0"/>
                </a:cubicBezTo>
              </a:path>
            </a:pathLst>
          </a:custGeom>
          <a:noFill/>
          <a:ln w="2844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2514600" y="1908000"/>
            <a:ext cx="3992400" cy="908280"/>
          </a:xfrm>
          <a:custGeom>
            <a:avLst/>
            <a:gdLst/>
            <a:ahLst/>
            <a:rect l="l" t="t" r="r" b="b"/>
            <a:pathLst>
              <a:path w="2515" h="572">
                <a:moveTo>
                  <a:pt x="0" y="572"/>
                </a:moveTo>
                <a:cubicBezTo>
                  <a:pt x="251" y="539"/>
                  <a:pt x="1079" y="468"/>
                  <a:pt x="1498" y="373"/>
                </a:cubicBezTo>
                <a:cubicBezTo>
                  <a:pt x="1917" y="278"/>
                  <a:pt x="2303" y="78"/>
                  <a:pt x="2515" y="0"/>
                </a:cubicBezTo>
              </a:path>
            </a:pathLst>
          </a:custGeom>
          <a:noFill/>
          <a:ln w="2844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5213520" y="1947960"/>
            <a:ext cx="1293480" cy="3349440"/>
          </a:xfrm>
          <a:custGeom>
            <a:avLst/>
            <a:gdLst/>
            <a:ahLst/>
            <a:rect l="l" t="t" r="r" b="b"/>
            <a:pathLst>
              <a:path w="815" h="2110">
                <a:moveTo>
                  <a:pt x="815" y="0"/>
                </a:moveTo>
                <a:cubicBezTo>
                  <a:pt x="700" y="164"/>
                  <a:pt x="248" y="635"/>
                  <a:pt x="124" y="987"/>
                </a:cubicBezTo>
                <a:cubicBezTo>
                  <a:pt x="0" y="1339"/>
                  <a:pt x="81" y="1876"/>
                  <a:pt x="70" y="211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Detalhes de Operação 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CN confirma BU do M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3439" name="Cloud"/>
          <p:cNvSpPr/>
          <p:nvPr/>
        </p:nvSpPr>
        <p:spPr>
          <a:xfrm>
            <a:off x="3613320" y="4767120"/>
            <a:ext cx="2743200" cy="183852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40" name="Cloud"/>
          <p:cNvSpPr/>
          <p:nvPr/>
        </p:nvSpPr>
        <p:spPr>
          <a:xfrm>
            <a:off x="1219320" y="167652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571500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1305000" y="121932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43" name="Cloud"/>
          <p:cNvSpPr/>
          <p:nvPr/>
        </p:nvSpPr>
        <p:spPr>
          <a:xfrm>
            <a:off x="3384720" y="292752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3613320" y="347976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 flipH="1">
            <a:off x="1599840" y="253368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2057400" y="253368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47" name="Cloud"/>
          <p:cNvSpPr/>
          <p:nvPr/>
        </p:nvSpPr>
        <p:spPr>
          <a:xfrm>
            <a:off x="5594400" y="163512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 flipH="1">
            <a:off x="5975280" y="249228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6553080" y="248292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6896160" y="220680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51" name="laptop"/>
          <p:cNvSpPr/>
          <p:nvPr/>
        </p:nvSpPr>
        <p:spPr>
          <a:xfrm>
            <a:off x="6432480" y="1679400"/>
            <a:ext cx="914400" cy="53352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3429000" y="253368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 flipV="1">
            <a:off x="5288040" y="253368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4643280" y="397044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4643280" y="572436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4919760" y="5148360"/>
            <a:ext cx="0" cy="57600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6477120" y="3275640"/>
            <a:ext cx="2590560" cy="3111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O CN pode confirmar ou não a chegada do BU por parte do MN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Normalmente esta não é confirmada já caso a operação não corra bem, o CN voltará a enviar o pacote para a HN e um novo BU lhe será enviado pelo MN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1442880" y="572436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2438280" y="2905200"/>
            <a:ext cx="2756160" cy="3213000"/>
          </a:xfrm>
          <a:custGeom>
            <a:avLst/>
            <a:gdLst/>
            <a:ahLst/>
            <a:rect l="l" t="t" r="r" b="b"/>
            <a:pathLst>
              <a:path w="1736" h="2024">
                <a:moveTo>
                  <a:pt x="1736" y="2024"/>
                </a:moveTo>
                <a:cubicBezTo>
                  <a:pt x="1557" y="1769"/>
                  <a:pt x="953" y="825"/>
                  <a:pt x="664" y="488"/>
                </a:cubicBezTo>
                <a:cubicBezTo>
                  <a:pt x="375" y="151"/>
                  <a:pt x="138" y="102"/>
                  <a:pt x="0" y="0"/>
                </a:cubicBezTo>
              </a:path>
            </a:pathLst>
          </a:custGeom>
          <a:noFill/>
          <a:ln w="2844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5470560" y="2286000"/>
            <a:ext cx="1027080" cy="3048120"/>
          </a:xfrm>
          <a:custGeom>
            <a:avLst/>
            <a:gdLst/>
            <a:ahLst/>
            <a:rect l="l" t="t" r="r" b="b"/>
            <a:pathLst>
              <a:path w="647" h="1826">
                <a:moveTo>
                  <a:pt x="647" y="0"/>
                </a:moveTo>
                <a:cubicBezTo>
                  <a:pt x="555" y="143"/>
                  <a:pt x="188" y="556"/>
                  <a:pt x="94" y="860"/>
                </a:cubicBezTo>
                <a:cubicBezTo>
                  <a:pt x="0" y="1164"/>
                  <a:pt x="84" y="1625"/>
                  <a:pt x="81" y="1826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6781680" y="2479680"/>
            <a:ext cx="554040" cy="25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335720" y="2471760"/>
            <a:ext cx="40500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R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7740720" y="2468520"/>
            <a:ext cx="41256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7729560" y="223668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PTBlissMedium"/>
              </a:rPr>
              <a:t>DH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7772400" y="2492280"/>
            <a:ext cx="358920" cy="2160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B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466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3467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471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3472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476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3477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481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3482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486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3487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491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3492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496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97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2514600" y="1908000"/>
            <a:ext cx="3992400" cy="908280"/>
          </a:xfrm>
          <a:custGeom>
            <a:avLst/>
            <a:gdLst/>
            <a:ahLst/>
            <a:rect l="l" t="t" r="r" b="b"/>
            <a:pathLst>
              <a:path w="2515" h="572">
                <a:moveTo>
                  <a:pt x="0" y="572"/>
                </a:moveTo>
                <a:cubicBezTo>
                  <a:pt x="251" y="539"/>
                  <a:pt x="1079" y="468"/>
                  <a:pt x="1498" y="373"/>
                </a:cubicBezTo>
                <a:cubicBezTo>
                  <a:pt x="1917" y="278"/>
                  <a:pt x="2303" y="78"/>
                  <a:pt x="2515" y="0"/>
                </a:cubicBezTo>
              </a:path>
            </a:pathLst>
          </a:custGeom>
          <a:noFill/>
          <a:ln w="2844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5213520" y="1947960"/>
            <a:ext cx="1293480" cy="3349440"/>
          </a:xfrm>
          <a:custGeom>
            <a:avLst/>
            <a:gdLst/>
            <a:ahLst/>
            <a:rect l="l" t="t" r="r" b="b"/>
            <a:pathLst>
              <a:path w="815" h="2110">
                <a:moveTo>
                  <a:pt x="815" y="0"/>
                </a:moveTo>
                <a:cubicBezTo>
                  <a:pt x="700" y="164"/>
                  <a:pt x="248" y="635"/>
                  <a:pt x="124" y="987"/>
                </a:cubicBezTo>
                <a:cubicBezTo>
                  <a:pt x="0" y="1339"/>
                  <a:pt x="81" y="1876"/>
                  <a:pt x="70" y="2110"/>
                </a:cubicBezTo>
              </a:path>
            </a:pathLst>
          </a:custGeom>
          <a:noFill/>
          <a:ln w="2844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1142640" y="406440"/>
            <a:ext cx="800100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Detalhes de Operação 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Comunicação entre CN e M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3501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02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1305000" y="124308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05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09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13" name="laptop"/>
          <p:cNvSpPr/>
          <p:nvPr/>
        </p:nvSpPr>
        <p:spPr>
          <a:xfrm>
            <a:off x="6432480" y="1703520"/>
            <a:ext cx="914400" cy="53316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6095880" y="3002400"/>
            <a:ext cx="2971800" cy="22885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A comunicação entre o MN e o CN passa a ser feita directamente (sem intervenção do HA)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PTBliss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MN -&gt; CN: utiliza um HA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PTBliss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CN -&gt; MN: utiliza um RH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7281720" y="2830680"/>
            <a:ext cx="685800" cy="272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PTBlissMedium"/>
              </a:rPr>
              <a:t>dado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4464000" y="1946160"/>
            <a:ext cx="554040" cy="25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6324480" y="2830680"/>
            <a:ext cx="554040" cy="272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6878520" y="2825640"/>
            <a:ext cx="40500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R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5432400" y="1932120"/>
            <a:ext cx="685800" cy="272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PTBlissMedium"/>
              </a:rPr>
              <a:t>dado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5011560" y="1941480"/>
            <a:ext cx="41292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5000400" y="170964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PTBlissMedium"/>
              </a:rPr>
              <a:t>DH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5043600" y="1965240"/>
            <a:ext cx="358560" cy="2160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H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529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3530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534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3535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539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3540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544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3545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549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3550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554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3555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559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60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5272200" y="2306520"/>
            <a:ext cx="1374840" cy="2994120"/>
          </a:xfrm>
          <a:custGeom>
            <a:avLst/>
            <a:gdLst/>
            <a:ahLst/>
            <a:rect l="l" t="t" r="r" b="b"/>
            <a:pathLst>
              <a:path w="866" h="1886">
                <a:moveTo>
                  <a:pt x="227" y="1886"/>
                </a:moveTo>
                <a:cubicBezTo>
                  <a:pt x="207" y="1696"/>
                  <a:pt x="0" y="1061"/>
                  <a:pt x="106" y="747"/>
                </a:cubicBezTo>
                <a:cubicBezTo>
                  <a:pt x="212" y="433"/>
                  <a:pt x="708" y="156"/>
                  <a:pt x="866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4915080" y="2060640"/>
            <a:ext cx="1562040" cy="3349440"/>
          </a:xfrm>
          <a:custGeom>
            <a:avLst/>
            <a:gdLst/>
            <a:ahLst/>
            <a:rect l="l" t="t" r="r" b="b"/>
            <a:pathLst>
              <a:path w="984" h="2110">
                <a:moveTo>
                  <a:pt x="984" y="0"/>
                </a:moveTo>
                <a:cubicBezTo>
                  <a:pt x="841" y="137"/>
                  <a:pt x="248" y="470"/>
                  <a:pt x="124" y="822"/>
                </a:cubicBezTo>
                <a:cubicBezTo>
                  <a:pt x="0" y="1174"/>
                  <a:pt x="215" y="1842"/>
                  <a:pt x="239" y="211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Detalhes de Operação 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Pedido de actualização da BC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3564" name="Cloud"/>
          <p:cNvSpPr/>
          <p:nvPr/>
        </p:nvSpPr>
        <p:spPr>
          <a:xfrm>
            <a:off x="3505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65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1305000" y="124308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68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72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6896160" y="2230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76" name="laptop"/>
          <p:cNvSpPr/>
          <p:nvPr/>
        </p:nvSpPr>
        <p:spPr>
          <a:xfrm>
            <a:off x="6432480" y="1703520"/>
            <a:ext cx="914400" cy="53316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6337440" y="3398760"/>
            <a:ext cx="2730240" cy="3111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Quer o HA, quer o CN podem a qualquer momento pedir ao MN que lhe envie o seu actual CoA através de 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Binding Request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 (BR)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O MN responde usando um 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Binding Update 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(BU), sendo confirmado com BA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7044120" y="2917800"/>
            <a:ext cx="175716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PTBlissMedium"/>
              </a:rPr>
              <a:t>Binding Updat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PTBlissMedium"/>
              </a:rPr>
              <a:t>(BU)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3950280" y="1403280"/>
            <a:ext cx="184104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PTBlissMedium"/>
              </a:rPr>
              <a:t>Binding Request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PTBlissMedium"/>
              </a:rPr>
              <a:t>(BR)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7315200" y="2681280"/>
            <a:ext cx="554040" cy="25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7869240" y="2673360"/>
            <a:ext cx="40464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R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8273880" y="2670120"/>
            <a:ext cx="41292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8262720" y="243828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PTBlissMedium"/>
              </a:rPr>
              <a:t>DH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8305920" y="2693880"/>
            <a:ext cx="358560" cy="2160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BU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4114800" y="1963800"/>
            <a:ext cx="554040" cy="25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4668840" y="1955880"/>
            <a:ext cx="40464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R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5073480" y="1952640"/>
            <a:ext cx="41292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5062320" y="172080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PTBlissMedium"/>
              </a:rPr>
              <a:t>DH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5105520" y="1976400"/>
            <a:ext cx="358560" cy="2160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BR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5383080" y="2406600"/>
            <a:ext cx="1162080" cy="2895480"/>
          </a:xfrm>
          <a:custGeom>
            <a:avLst/>
            <a:gdLst/>
            <a:ahLst/>
            <a:rect l="l" t="t" r="r" b="b"/>
            <a:pathLst>
              <a:path w="732" h="1824">
                <a:moveTo>
                  <a:pt x="732" y="0"/>
                </a:moveTo>
                <a:cubicBezTo>
                  <a:pt x="626" y="128"/>
                  <a:pt x="196" y="462"/>
                  <a:pt x="98" y="766"/>
                </a:cubicBezTo>
                <a:cubicBezTo>
                  <a:pt x="0" y="1070"/>
                  <a:pt x="133" y="1604"/>
                  <a:pt x="142" y="1824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597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3598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602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3603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607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3608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612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3613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617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3618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622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3623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627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28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5000760" y="2265480"/>
            <a:ext cx="1412640" cy="3311280"/>
          </a:xfrm>
          <a:custGeom>
            <a:avLst/>
            <a:gdLst/>
            <a:ahLst/>
            <a:rect l="l" t="t" r="r" b="b"/>
            <a:pathLst>
              <a:path w="890" h="2086">
                <a:moveTo>
                  <a:pt x="890" y="0"/>
                </a:moveTo>
                <a:cubicBezTo>
                  <a:pt x="762" y="140"/>
                  <a:pt x="246" y="492"/>
                  <a:pt x="123" y="840"/>
                </a:cubicBezTo>
                <a:cubicBezTo>
                  <a:pt x="0" y="1188"/>
                  <a:pt x="145" y="1827"/>
                  <a:pt x="150" y="2086"/>
                </a:cubicBezTo>
              </a:path>
            </a:pathLst>
          </a:custGeom>
          <a:noFill/>
          <a:ln w="28440">
            <a:solidFill>
              <a:srgbClr val="00ae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2540160" y="1981080"/>
            <a:ext cx="3798720" cy="1106640"/>
          </a:xfrm>
          <a:custGeom>
            <a:avLst/>
            <a:gdLst/>
            <a:ahLst/>
            <a:rect l="l" t="t" r="r" b="b"/>
            <a:pathLst>
              <a:path w="2393" h="697">
                <a:moveTo>
                  <a:pt x="2393" y="0"/>
                </a:moveTo>
                <a:cubicBezTo>
                  <a:pt x="2250" y="97"/>
                  <a:pt x="1932" y="477"/>
                  <a:pt x="1533" y="587"/>
                </a:cubicBezTo>
                <a:cubicBezTo>
                  <a:pt x="1134" y="697"/>
                  <a:pt x="319" y="645"/>
                  <a:pt x="0" y="66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2489040" y="1938240"/>
            <a:ext cx="3911760" cy="933480"/>
          </a:xfrm>
          <a:custGeom>
            <a:avLst/>
            <a:gdLst/>
            <a:ahLst/>
            <a:rect l="l" t="t" r="r" b="b"/>
            <a:pathLst>
              <a:path w="2464" h="588">
                <a:moveTo>
                  <a:pt x="2464" y="0"/>
                </a:moveTo>
                <a:cubicBezTo>
                  <a:pt x="2296" y="81"/>
                  <a:pt x="1875" y="404"/>
                  <a:pt x="1464" y="496"/>
                </a:cubicBezTo>
                <a:cubicBezTo>
                  <a:pt x="1053" y="588"/>
                  <a:pt x="305" y="540"/>
                  <a:pt x="0" y="552"/>
                </a:cubicBezTo>
              </a:path>
            </a:pathLst>
          </a:custGeom>
          <a:noFill/>
          <a:ln w="28440">
            <a:solidFill>
              <a:srgbClr val="00ae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5597640" y="2286000"/>
            <a:ext cx="1412640" cy="3311640"/>
          </a:xfrm>
          <a:custGeom>
            <a:avLst/>
            <a:gdLst/>
            <a:ahLst/>
            <a:rect l="l" t="t" r="r" b="b"/>
            <a:pathLst>
              <a:path w="890" h="2086">
                <a:moveTo>
                  <a:pt x="890" y="0"/>
                </a:moveTo>
                <a:cubicBezTo>
                  <a:pt x="762" y="140"/>
                  <a:pt x="246" y="492"/>
                  <a:pt x="123" y="840"/>
                </a:cubicBezTo>
                <a:cubicBezTo>
                  <a:pt x="0" y="1188"/>
                  <a:pt x="145" y="1827"/>
                  <a:pt x="150" y="2086"/>
                </a:cubicBezTo>
              </a:path>
            </a:pathLst>
          </a:custGeom>
          <a:noFill/>
          <a:ln w="28440">
            <a:solidFill>
              <a:srgbClr val="ffff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2489040" y="2266920"/>
            <a:ext cx="3911760" cy="933480"/>
          </a:xfrm>
          <a:custGeom>
            <a:avLst/>
            <a:gdLst/>
            <a:ahLst/>
            <a:rect l="l" t="t" r="r" b="b"/>
            <a:pathLst>
              <a:path w="2464" h="588">
                <a:moveTo>
                  <a:pt x="2464" y="0"/>
                </a:moveTo>
                <a:cubicBezTo>
                  <a:pt x="2296" y="81"/>
                  <a:pt x="1875" y="404"/>
                  <a:pt x="1464" y="496"/>
                </a:cubicBezTo>
                <a:cubicBezTo>
                  <a:pt x="1053" y="588"/>
                  <a:pt x="305" y="540"/>
                  <a:pt x="0" y="552"/>
                </a:cubicBezTo>
              </a:path>
            </a:pathLst>
          </a:custGeom>
          <a:noFill/>
          <a:ln w="28440">
            <a:solidFill>
              <a:srgbClr val="ffff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1083600" y="3962520"/>
            <a:ext cx="237600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PTBlissMedium"/>
              </a:rPr>
              <a:t>Binding Acknowledg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PTBlissMedium"/>
              </a:rPr>
              <a:t>(BR)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1512720" y="4613400"/>
            <a:ext cx="554040" cy="258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2066760" y="4605480"/>
            <a:ext cx="40500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R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2471760" y="4602240"/>
            <a:ext cx="41256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2460600" y="437040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PTBlissMedium"/>
              </a:rPr>
              <a:t>DH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2503440" y="4626000"/>
            <a:ext cx="358920" cy="2160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B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Cloud"/>
          <p:cNvSpPr/>
          <p:nvPr/>
        </p:nvSpPr>
        <p:spPr>
          <a:xfrm>
            <a:off x="399420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41" name="Cloud"/>
          <p:cNvSpPr/>
          <p:nvPr/>
        </p:nvSpPr>
        <p:spPr>
          <a:xfrm>
            <a:off x="1981080" y="1700280"/>
            <a:ext cx="221004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6095880" y="1243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 1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2066760" y="124308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 2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44" name="Cloud"/>
          <p:cNvSpPr/>
          <p:nvPr/>
        </p:nvSpPr>
        <p:spPr>
          <a:xfrm>
            <a:off x="376560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3994200" y="3503520"/>
            <a:ext cx="12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 flipH="1">
            <a:off x="2362320" y="2557440"/>
            <a:ext cx="168408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281952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3282840" y="216360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49" name="Cloud"/>
          <p:cNvSpPr/>
          <p:nvPr/>
        </p:nvSpPr>
        <p:spPr>
          <a:xfrm>
            <a:off x="5975280" y="1658880"/>
            <a:ext cx="221004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 flipH="1">
            <a:off x="635652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4191120" y="2568600"/>
            <a:ext cx="228600" cy="4906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566892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5024520" y="3994200"/>
            <a:ext cx="27612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5024520" y="5748480"/>
            <a:ext cx="107136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530064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3735360" y="1635120"/>
            <a:ext cx="3143160" cy="376200"/>
          </a:xfrm>
          <a:custGeom>
            <a:avLst/>
            <a:gdLst/>
            <a:ahLst/>
            <a:rect l="l" t="t" r="r" b="b"/>
            <a:pathLst>
              <a:path w="1980" h="237">
                <a:moveTo>
                  <a:pt x="0" y="237"/>
                </a:moveTo>
                <a:cubicBezTo>
                  <a:pt x="159" y="198"/>
                  <a:pt x="624" y="6"/>
                  <a:pt x="954" y="3"/>
                </a:cubicBezTo>
                <a:cubicBezTo>
                  <a:pt x="1284" y="0"/>
                  <a:pt x="1766" y="173"/>
                  <a:pt x="1980" y="21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1824120" y="5748480"/>
            <a:ext cx="2214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6400800" y="3733920"/>
            <a:ext cx="2666880" cy="9903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Pode acontecer que o MN se desloque de uma FN para outra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727704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60" name="laptop"/>
          <p:cNvSpPr/>
          <p:nvPr/>
        </p:nvSpPr>
        <p:spPr>
          <a:xfrm>
            <a:off x="2819520" y="1676520"/>
            <a:ext cx="914400" cy="53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681372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62" name="laptop"/>
          <p:cNvSpPr/>
          <p:nvPr/>
        </p:nvSpPr>
        <p:spPr>
          <a:xfrm>
            <a:off x="6858000" y="1708200"/>
            <a:ext cx="914400" cy="533520"/>
          </a:xfrm>
          <a:prstGeom prst="pie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Detalhes de Operação 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Deslocação do MN para outra F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3664" name="Cloud"/>
          <p:cNvSpPr/>
          <p:nvPr/>
        </p:nvSpPr>
        <p:spPr>
          <a:xfrm>
            <a:off x="990720" y="403380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1039680" y="358128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 flipH="1">
            <a:off x="1371240" y="489096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1828800" y="489096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2292480" y="449748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3505320" y="4038120"/>
            <a:ext cx="380880" cy="6858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670" name=""/>
          <p:cNvGrpSpPr/>
          <p:nvPr/>
        </p:nvGrpSpPr>
        <p:grpSpPr>
          <a:xfrm>
            <a:off x="3581280" y="2328840"/>
            <a:ext cx="685800" cy="552600"/>
            <a:chOff x="3581280" y="2328840"/>
            <a:chExt cx="685800" cy="552600"/>
          </a:xfrm>
        </p:grpSpPr>
        <p:sp>
          <p:nvSpPr>
            <p:cNvPr id="3671" name=""/>
            <p:cNvSpPr/>
            <p:nvPr/>
          </p:nvSpPr>
          <p:spPr>
            <a:xfrm>
              <a:off x="358128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380988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 flipV="1">
              <a:off x="358128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358128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675" name=""/>
          <p:cNvGrpSpPr/>
          <p:nvPr/>
        </p:nvGrpSpPr>
        <p:grpSpPr>
          <a:xfrm>
            <a:off x="4191120" y="3044880"/>
            <a:ext cx="609480" cy="468720"/>
            <a:chOff x="4191120" y="3044880"/>
            <a:chExt cx="609480" cy="468720"/>
          </a:xfrm>
        </p:grpSpPr>
        <p:sp>
          <p:nvSpPr>
            <p:cNvPr id="3676" name=""/>
            <p:cNvSpPr/>
            <p:nvPr/>
          </p:nvSpPr>
          <p:spPr>
            <a:xfrm>
              <a:off x="4191120" y="304488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439416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 flipV="1">
              <a:off x="4191120" y="310824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4191120" y="311508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680" name=""/>
          <p:cNvGrpSpPr/>
          <p:nvPr/>
        </p:nvGrpSpPr>
        <p:grpSpPr>
          <a:xfrm>
            <a:off x="5334120" y="3124080"/>
            <a:ext cx="609480" cy="469080"/>
            <a:chOff x="5334120" y="3124080"/>
            <a:chExt cx="609480" cy="469080"/>
          </a:xfrm>
        </p:grpSpPr>
        <p:sp>
          <p:nvSpPr>
            <p:cNvPr id="3681" name=""/>
            <p:cNvSpPr/>
            <p:nvPr/>
          </p:nvSpPr>
          <p:spPr>
            <a:xfrm>
              <a:off x="5334120" y="3124080"/>
              <a:ext cx="60948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553716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 flipV="1">
              <a:off x="5334120" y="318780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5334120" y="319464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685" name=""/>
          <p:cNvGrpSpPr/>
          <p:nvPr/>
        </p:nvGrpSpPr>
        <p:grpSpPr>
          <a:xfrm>
            <a:off x="4800600" y="3962520"/>
            <a:ext cx="609480" cy="468720"/>
            <a:chOff x="4800600" y="3962520"/>
            <a:chExt cx="609480" cy="468720"/>
          </a:xfrm>
        </p:grpSpPr>
        <p:sp>
          <p:nvSpPr>
            <p:cNvPr id="3686" name=""/>
            <p:cNvSpPr/>
            <p:nvPr/>
          </p:nvSpPr>
          <p:spPr>
            <a:xfrm>
              <a:off x="480060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00364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V="1">
              <a:off x="480060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480060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690" name=""/>
          <p:cNvGrpSpPr/>
          <p:nvPr/>
        </p:nvGrpSpPr>
        <p:grpSpPr>
          <a:xfrm>
            <a:off x="3809880" y="3809880"/>
            <a:ext cx="609840" cy="469080"/>
            <a:chOff x="3809880" y="3809880"/>
            <a:chExt cx="609840" cy="469080"/>
          </a:xfrm>
        </p:grpSpPr>
        <p:sp>
          <p:nvSpPr>
            <p:cNvPr id="3691" name=""/>
            <p:cNvSpPr/>
            <p:nvPr/>
          </p:nvSpPr>
          <p:spPr>
            <a:xfrm>
              <a:off x="3809880" y="38098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012920" y="38098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 flipV="1">
              <a:off x="3809880" y="38736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3809880" y="38804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695" name=""/>
          <p:cNvGrpSpPr/>
          <p:nvPr/>
        </p:nvGrpSpPr>
        <p:grpSpPr>
          <a:xfrm>
            <a:off x="5737320" y="2220840"/>
            <a:ext cx="685800" cy="552600"/>
            <a:chOff x="5737320" y="2220840"/>
            <a:chExt cx="685800" cy="552600"/>
          </a:xfrm>
        </p:grpSpPr>
        <p:sp>
          <p:nvSpPr>
            <p:cNvPr id="3696" name=""/>
            <p:cNvSpPr/>
            <p:nvPr/>
          </p:nvSpPr>
          <p:spPr>
            <a:xfrm>
              <a:off x="573732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96592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 flipV="1">
              <a:off x="573732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573732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700" name=""/>
          <p:cNvGrpSpPr/>
          <p:nvPr/>
        </p:nvGrpSpPr>
        <p:grpSpPr>
          <a:xfrm>
            <a:off x="4941720" y="4797360"/>
            <a:ext cx="685800" cy="552600"/>
            <a:chOff x="4941720" y="4797360"/>
            <a:chExt cx="685800" cy="552600"/>
          </a:xfrm>
        </p:grpSpPr>
        <p:sp>
          <p:nvSpPr>
            <p:cNvPr id="3701" name=""/>
            <p:cNvSpPr/>
            <p:nvPr/>
          </p:nvSpPr>
          <p:spPr>
            <a:xfrm>
              <a:off x="494172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517032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494172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494172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705" name=""/>
          <p:cNvGrpSpPr/>
          <p:nvPr/>
        </p:nvGrpSpPr>
        <p:grpSpPr>
          <a:xfrm>
            <a:off x="2971800" y="4648320"/>
            <a:ext cx="685800" cy="552240"/>
            <a:chOff x="2971800" y="4648320"/>
            <a:chExt cx="685800" cy="552240"/>
          </a:xfrm>
        </p:grpSpPr>
        <p:sp>
          <p:nvSpPr>
            <p:cNvPr id="3706" name=""/>
            <p:cNvSpPr/>
            <p:nvPr/>
          </p:nvSpPr>
          <p:spPr>
            <a:xfrm>
              <a:off x="2971800" y="4648320"/>
              <a:ext cx="685800" cy="4568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200400" y="4648320"/>
              <a:ext cx="228600" cy="2282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 flipV="1">
              <a:off x="2971800" y="4724280"/>
              <a:ext cx="685800" cy="75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2971800" y="47415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710" name="laptop"/>
          <p:cNvSpPr/>
          <p:nvPr/>
        </p:nvSpPr>
        <p:spPr>
          <a:xfrm>
            <a:off x="1371600" y="5105520"/>
            <a:ext cx="914400" cy="53316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11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13" name="Cloud"/>
          <p:cNvSpPr/>
          <p:nvPr/>
        </p:nvSpPr>
        <p:spPr>
          <a:xfrm>
            <a:off x="160020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5715000" y="1243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 1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1685880" y="12430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 2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16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 flipH="1">
            <a:off x="198072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243828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2901960" y="216360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21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3809880" y="2568600"/>
            <a:ext cx="228600" cy="4906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6477120" y="3467160"/>
            <a:ext cx="2590560" cy="1409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Todo o processo de adquisição de CoA, 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binding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, etc.. se repete, tal como foi descrito atrá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31" name="laptop"/>
          <p:cNvSpPr/>
          <p:nvPr/>
        </p:nvSpPr>
        <p:spPr>
          <a:xfrm>
            <a:off x="2438280" y="1676520"/>
            <a:ext cx="914400" cy="53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Detalhes de Operação 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Deslocação do MN para outra F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3734" name="Cloud"/>
          <p:cNvSpPr/>
          <p:nvPr/>
        </p:nvSpPr>
        <p:spPr>
          <a:xfrm>
            <a:off x="609480" y="4033800"/>
            <a:ext cx="221004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876240" y="35812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 flipH="1">
            <a:off x="990720" y="4890960"/>
            <a:ext cx="168408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1447920" y="489096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1911240" y="449748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 flipV="1">
            <a:off x="3124080" y="4038120"/>
            <a:ext cx="381240" cy="6858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1852560" y="2514600"/>
            <a:ext cx="966960" cy="2755800"/>
          </a:xfrm>
          <a:custGeom>
            <a:avLst/>
            <a:gdLst/>
            <a:ahLst/>
            <a:rect l="l" t="t" r="r" b="b"/>
            <a:pathLst>
              <a:path w="793" h="1840">
                <a:moveTo>
                  <a:pt x="793" y="0"/>
                </a:moveTo>
                <a:cubicBezTo>
                  <a:pt x="763" y="138"/>
                  <a:pt x="752" y="520"/>
                  <a:pt x="620" y="827"/>
                </a:cubicBezTo>
                <a:cubicBezTo>
                  <a:pt x="488" y="1134"/>
                  <a:pt x="129" y="1629"/>
                  <a:pt x="0" y="184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3742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746" name=""/>
          <p:cNvSpPr/>
          <p:nvPr/>
        </p:nvSpPr>
        <p:spPr>
          <a:xfrm>
            <a:off x="2743200" y="2286000"/>
            <a:ext cx="401760" cy="201600"/>
          </a:xfrm>
          <a:custGeom>
            <a:avLst/>
            <a:gdLst/>
            <a:ahLst/>
            <a:rect l="l" t="t" r="r" b="b"/>
            <a:pathLst>
              <a:path w="253" h="127">
                <a:moveTo>
                  <a:pt x="0" y="0"/>
                </a:moveTo>
                <a:cubicBezTo>
                  <a:pt x="24" y="9"/>
                  <a:pt x="111" y="41"/>
                  <a:pt x="153" y="62"/>
                </a:cubicBezTo>
                <a:cubicBezTo>
                  <a:pt x="195" y="83"/>
                  <a:pt x="232" y="113"/>
                  <a:pt x="253" y="127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3429000" y="1981080"/>
            <a:ext cx="179280" cy="254160"/>
          </a:xfrm>
          <a:custGeom>
            <a:avLst/>
            <a:gdLst/>
            <a:ahLst/>
            <a:rect l="l" t="t" r="r" b="b"/>
            <a:pathLst>
              <a:path w="113" h="160">
                <a:moveTo>
                  <a:pt x="113" y="160"/>
                </a:moveTo>
                <a:cubicBezTo>
                  <a:pt x="104" y="143"/>
                  <a:pt x="72" y="87"/>
                  <a:pt x="53" y="60"/>
                </a:cubicBezTo>
                <a:cubicBezTo>
                  <a:pt x="34" y="33"/>
                  <a:pt x="11" y="12"/>
                  <a:pt x="0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748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3749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753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3754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758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3759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763" name=""/>
          <p:cNvGrpSpPr/>
          <p:nvPr/>
        </p:nvGrpSpPr>
        <p:grpSpPr>
          <a:xfrm>
            <a:off x="3429000" y="3809880"/>
            <a:ext cx="609480" cy="469080"/>
            <a:chOff x="3429000" y="3809880"/>
            <a:chExt cx="609480" cy="469080"/>
          </a:xfrm>
        </p:grpSpPr>
        <p:sp>
          <p:nvSpPr>
            <p:cNvPr id="3764" name=""/>
            <p:cNvSpPr/>
            <p:nvPr/>
          </p:nvSpPr>
          <p:spPr>
            <a:xfrm>
              <a:off x="3429000" y="3809880"/>
              <a:ext cx="60948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3632040" y="38098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 flipV="1">
              <a:off x="3429000" y="387360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3429000" y="388044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768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3769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773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3774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778" name=""/>
          <p:cNvGrpSpPr/>
          <p:nvPr/>
        </p:nvGrpSpPr>
        <p:grpSpPr>
          <a:xfrm>
            <a:off x="2590920" y="4648320"/>
            <a:ext cx="685800" cy="552240"/>
            <a:chOff x="2590920" y="4648320"/>
            <a:chExt cx="685800" cy="552240"/>
          </a:xfrm>
        </p:grpSpPr>
        <p:sp>
          <p:nvSpPr>
            <p:cNvPr id="3779" name=""/>
            <p:cNvSpPr/>
            <p:nvPr/>
          </p:nvSpPr>
          <p:spPr>
            <a:xfrm>
              <a:off x="2590920" y="4648320"/>
              <a:ext cx="685800" cy="4568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2819520" y="4648320"/>
              <a:ext cx="228600" cy="2282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 flipV="1">
              <a:off x="2590920" y="4724280"/>
              <a:ext cx="685800" cy="75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2590920" y="47415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783" name="laptop"/>
          <p:cNvSpPr/>
          <p:nvPr/>
        </p:nvSpPr>
        <p:spPr>
          <a:xfrm>
            <a:off x="990720" y="5105520"/>
            <a:ext cx="914400" cy="53316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84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3368880" y="1523880"/>
            <a:ext cx="301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Auto-configuração (stateless)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DHCPv6 (stateful)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1600920" y="2971440"/>
            <a:ext cx="4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BU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1109520" y="2670120"/>
            <a:ext cx="554040" cy="25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1663560" y="2662200"/>
            <a:ext cx="83844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1869840" y="243828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PTBlissMedium"/>
              </a:rPr>
              <a:t>DH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2098800" y="2682720"/>
            <a:ext cx="38088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H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1685880" y="2682720"/>
            <a:ext cx="38088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BU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2993040" y="352692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B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2863800" y="3290760"/>
            <a:ext cx="554040" cy="25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3417840" y="3282840"/>
            <a:ext cx="40500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R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3779640" y="304812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PTBlissMedium"/>
              </a:rPr>
              <a:t>DH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3780000" y="3282840"/>
            <a:ext cx="41256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3811680" y="3306600"/>
            <a:ext cx="358560" cy="2160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B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2004840" y="2590920"/>
            <a:ext cx="966960" cy="2755800"/>
          </a:xfrm>
          <a:custGeom>
            <a:avLst/>
            <a:gdLst/>
            <a:ahLst/>
            <a:rect l="l" t="t" r="r" b="b"/>
            <a:pathLst>
              <a:path w="793" h="1840">
                <a:moveTo>
                  <a:pt x="793" y="0"/>
                </a:moveTo>
                <a:cubicBezTo>
                  <a:pt x="763" y="138"/>
                  <a:pt x="752" y="520"/>
                  <a:pt x="620" y="827"/>
                </a:cubicBezTo>
                <a:cubicBezTo>
                  <a:pt x="488" y="1134"/>
                  <a:pt x="129" y="1629"/>
                  <a:pt x="0" y="184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Times New Roman"/>
              </a:rPr>
              <a:t>Sumário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04840" y="1343160"/>
            <a:ext cx="7734240" cy="49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imes New Roman"/>
              </a:rPr>
              <a:t>Introdução à mobilidade dos terminais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Mobilidade em redes IP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Descrição de funcionamento da MIPv6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Adições ao protocolo para conseguir o “always-on”.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Implicações da MIPv6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O que se faz na PTIN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Conclusões e estado da arte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00" name="Cloud"/>
          <p:cNvSpPr/>
          <p:nvPr/>
        </p:nvSpPr>
        <p:spPr>
          <a:xfrm>
            <a:off x="160020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5715000" y="1243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 1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1685880" y="12430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 2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03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 flipH="1">
            <a:off x="198072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243828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2901960" y="216360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08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3809880" y="2568600"/>
            <a:ext cx="228600" cy="4906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17" name="laptop"/>
          <p:cNvSpPr/>
          <p:nvPr/>
        </p:nvSpPr>
        <p:spPr>
          <a:xfrm>
            <a:off x="2438280" y="1676520"/>
            <a:ext cx="914400" cy="53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Medium"/>
              </a:rPr>
              <a:t>Mobilidade IPv6 - Detalhes de Operação </a:t>
            </a:r>
            <a:br>
              <a:rPr sz="3200"/>
            </a:br>
            <a:r>
              <a:rPr b="1" i="1" lang="pt-PT" sz="2200" spc="-1" strike="noStrike">
                <a:solidFill>
                  <a:srgbClr val="919191"/>
                </a:solidFill>
                <a:latin typeface="PTBlissMedium"/>
              </a:rPr>
              <a:t>Com reencaminhamento para o MN desde a F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3820" name="Cloud"/>
          <p:cNvSpPr/>
          <p:nvPr/>
        </p:nvSpPr>
        <p:spPr>
          <a:xfrm>
            <a:off x="609480" y="4033800"/>
            <a:ext cx="221004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876240" y="35812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 flipH="1">
            <a:off x="990720" y="4890960"/>
            <a:ext cx="168408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1447920" y="489096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1911240" y="449748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 flipV="1">
            <a:off x="3124080" y="4038120"/>
            <a:ext cx="381240" cy="6858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826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3827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831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3832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836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3837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841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3842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846" name=""/>
          <p:cNvGrpSpPr/>
          <p:nvPr/>
        </p:nvGrpSpPr>
        <p:grpSpPr>
          <a:xfrm>
            <a:off x="3429000" y="3809880"/>
            <a:ext cx="609480" cy="469080"/>
            <a:chOff x="3429000" y="3809880"/>
            <a:chExt cx="609480" cy="469080"/>
          </a:xfrm>
        </p:grpSpPr>
        <p:sp>
          <p:nvSpPr>
            <p:cNvPr id="3847" name=""/>
            <p:cNvSpPr/>
            <p:nvPr/>
          </p:nvSpPr>
          <p:spPr>
            <a:xfrm>
              <a:off x="3429000" y="3809880"/>
              <a:ext cx="60948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3632040" y="38098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 flipV="1">
              <a:off x="3429000" y="387360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3429000" y="388044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851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3852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856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3857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861" name=""/>
          <p:cNvGrpSpPr/>
          <p:nvPr/>
        </p:nvGrpSpPr>
        <p:grpSpPr>
          <a:xfrm>
            <a:off x="2590920" y="4648320"/>
            <a:ext cx="685800" cy="552240"/>
            <a:chOff x="2590920" y="4648320"/>
            <a:chExt cx="685800" cy="552240"/>
          </a:xfrm>
        </p:grpSpPr>
        <p:sp>
          <p:nvSpPr>
            <p:cNvPr id="3862" name=""/>
            <p:cNvSpPr/>
            <p:nvPr/>
          </p:nvSpPr>
          <p:spPr>
            <a:xfrm>
              <a:off x="2590920" y="4648320"/>
              <a:ext cx="685800" cy="4568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819520" y="4648320"/>
              <a:ext cx="228600" cy="2282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 flipV="1">
              <a:off x="2590920" y="4724280"/>
              <a:ext cx="685800" cy="75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2590920" y="47415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866" name="laptop"/>
          <p:cNvSpPr/>
          <p:nvPr/>
        </p:nvSpPr>
        <p:spPr>
          <a:xfrm>
            <a:off x="990720" y="5105520"/>
            <a:ext cx="914400" cy="53316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67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 flipH="1">
            <a:off x="2971080" y="2209680"/>
            <a:ext cx="2971800" cy="76320"/>
          </a:xfrm>
          <a:custGeom>
            <a:avLst/>
            <a:gdLst/>
            <a:ahLst/>
            <a:rect l="l" t="t" r="r" b="b"/>
            <a:pathLst>
              <a:path w="367" h="224">
                <a:moveTo>
                  <a:pt x="0" y="224"/>
                </a:moveTo>
                <a:cubicBezTo>
                  <a:pt x="27" y="206"/>
                  <a:pt x="104" y="147"/>
                  <a:pt x="165" y="110"/>
                </a:cubicBezTo>
                <a:cubicBezTo>
                  <a:pt x="226" y="73"/>
                  <a:pt x="325" y="22"/>
                  <a:pt x="367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4919760" y="1757520"/>
            <a:ext cx="685800" cy="272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PTBlissMedium"/>
              </a:rPr>
              <a:t>dado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3962520" y="1757520"/>
            <a:ext cx="554040" cy="272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4516560" y="1763640"/>
            <a:ext cx="40464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R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3429000" y="1752480"/>
            <a:ext cx="554040" cy="2732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’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 flipH="1" flipV="1">
            <a:off x="6019920" y="3276720"/>
            <a:ext cx="304560" cy="213336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74" name="laptop"/>
          <p:cNvSpPr/>
          <p:nvPr/>
        </p:nvSpPr>
        <p:spPr>
          <a:xfrm>
            <a:off x="6118200" y="2666880"/>
            <a:ext cx="81612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PTBlissMedium"/>
              </a:rPr>
              <a:t>HA</a:t>
            </a:r>
            <a:r>
              <a:rPr b="1" lang="en-US" sz="1400" spc="-1" strike="noStrike" baseline="-25000">
                <a:solidFill>
                  <a:srgbClr val="0033cc"/>
                </a:solidFill>
                <a:latin typeface="PTBlissMedium"/>
              </a:rPr>
              <a:t>V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8043840" y="2976480"/>
            <a:ext cx="685800" cy="2732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PTBlissMedium"/>
              </a:rPr>
              <a:t>dado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7086600" y="2976480"/>
            <a:ext cx="554040" cy="2732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7640640" y="2971800"/>
            <a:ext cx="40464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R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6477120" y="3260880"/>
            <a:ext cx="2590560" cy="3111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Caso implemente a possibilidade de utilizar os HAs das FNs para reencaminhar os pacotes, o MN depois enviará-lhes um BU para eliminarem a entrada na BC (como para o HA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80" name="Cloud"/>
          <p:cNvSpPr/>
          <p:nvPr/>
        </p:nvSpPr>
        <p:spPr>
          <a:xfrm>
            <a:off x="160020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5715000" y="1243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 1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1685880" y="12430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 2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83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 flipH="1">
            <a:off x="198072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243828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2901960" y="216360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88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3809880" y="2568600"/>
            <a:ext cx="228600" cy="4906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97" name="laptop"/>
          <p:cNvSpPr/>
          <p:nvPr/>
        </p:nvSpPr>
        <p:spPr>
          <a:xfrm>
            <a:off x="2438280" y="1676520"/>
            <a:ext cx="914400" cy="53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Medium"/>
              </a:rPr>
              <a:t>Mobilidade IPv6 - Detalhes de Operação </a:t>
            </a:r>
            <a:br>
              <a:rPr sz="3200"/>
            </a:br>
            <a:r>
              <a:rPr b="1" i="1" lang="pt-PT" sz="2200" spc="-1" strike="noStrike">
                <a:solidFill>
                  <a:srgbClr val="919191"/>
                </a:solidFill>
                <a:latin typeface="PTBlissMedium"/>
              </a:rPr>
              <a:t>Sem reencaminhamento para o MN desde a F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3900" name="Cloud"/>
          <p:cNvSpPr/>
          <p:nvPr/>
        </p:nvSpPr>
        <p:spPr>
          <a:xfrm>
            <a:off x="609480" y="4033800"/>
            <a:ext cx="221004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876240" y="35812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 flipH="1">
            <a:off x="990720" y="4890960"/>
            <a:ext cx="168408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1447920" y="489096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1911240" y="449748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 flipV="1">
            <a:off x="3124080" y="4038120"/>
            <a:ext cx="381240" cy="6858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906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3907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911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3912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916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3917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921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3922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926" name=""/>
          <p:cNvGrpSpPr/>
          <p:nvPr/>
        </p:nvGrpSpPr>
        <p:grpSpPr>
          <a:xfrm>
            <a:off x="3429000" y="3809880"/>
            <a:ext cx="609480" cy="469080"/>
            <a:chOff x="3429000" y="3809880"/>
            <a:chExt cx="609480" cy="469080"/>
          </a:xfrm>
        </p:grpSpPr>
        <p:sp>
          <p:nvSpPr>
            <p:cNvPr id="3927" name=""/>
            <p:cNvSpPr/>
            <p:nvPr/>
          </p:nvSpPr>
          <p:spPr>
            <a:xfrm>
              <a:off x="3429000" y="3809880"/>
              <a:ext cx="60948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3632040" y="38098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 flipV="1">
              <a:off x="3429000" y="387360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429000" y="388044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931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3932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936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3937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941" name=""/>
          <p:cNvGrpSpPr/>
          <p:nvPr/>
        </p:nvGrpSpPr>
        <p:grpSpPr>
          <a:xfrm>
            <a:off x="2590920" y="4648320"/>
            <a:ext cx="685800" cy="552240"/>
            <a:chOff x="2590920" y="4648320"/>
            <a:chExt cx="685800" cy="552240"/>
          </a:xfrm>
        </p:grpSpPr>
        <p:sp>
          <p:nvSpPr>
            <p:cNvPr id="3942" name=""/>
            <p:cNvSpPr/>
            <p:nvPr/>
          </p:nvSpPr>
          <p:spPr>
            <a:xfrm>
              <a:off x="2590920" y="4648320"/>
              <a:ext cx="685800" cy="4568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819520" y="4648320"/>
              <a:ext cx="228600" cy="2282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V="1">
              <a:off x="2590920" y="4724280"/>
              <a:ext cx="685800" cy="75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590920" y="47415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946" name="laptop"/>
          <p:cNvSpPr/>
          <p:nvPr/>
        </p:nvSpPr>
        <p:spPr>
          <a:xfrm>
            <a:off x="990720" y="5105520"/>
            <a:ext cx="914400" cy="53316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47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 flipH="1" flipV="1">
            <a:off x="6019920" y="3276720"/>
            <a:ext cx="304560" cy="213336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49" name="laptop"/>
          <p:cNvSpPr/>
          <p:nvPr/>
        </p:nvSpPr>
        <p:spPr>
          <a:xfrm>
            <a:off x="6118200" y="2666880"/>
            <a:ext cx="81612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PTBlissMedium"/>
              </a:rPr>
              <a:t>HA</a:t>
            </a:r>
            <a:r>
              <a:rPr b="1" lang="en-US" sz="1400" spc="-1" strike="noStrike" baseline="-25000">
                <a:solidFill>
                  <a:srgbClr val="0033cc"/>
                </a:solidFill>
                <a:latin typeface="PTBlissMedium"/>
              </a:rPr>
              <a:t>V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8043840" y="2976480"/>
            <a:ext cx="685800" cy="2732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PTBlissMedium"/>
              </a:rPr>
              <a:t>dado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086600" y="2976480"/>
            <a:ext cx="554040" cy="2732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7640640" y="2971800"/>
            <a:ext cx="40464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R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 flipH="1" flipV="1">
            <a:off x="6172200" y="2209680"/>
            <a:ext cx="457200" cy="45720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 flipV="1">
            <a:off x="6248520" y="2209680"/>
            <a:ext cx="304560" cy="45720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6477120" y="3533760"/>
            <a:ext cx="2590560" cy="2837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Caso não implemente este mecanismo, os pacotes perderam-se. Após um número pré-definido N de tentativas falhadas o CN começará a enviar pacotes para a sua HN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57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571500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1305000" y="12430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60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2521080" y="216360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65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2938320" y="1487520"/>
            <a:ext cx="3559320" cy="404640"/>
          </a:xfrm>
          <a:custGeom>
            <a:avLst/>
            <a:gdLst/>
            <a:ahLst/>
            <a:rect l="l" t="t" r="r" b="b"/>
            <a:pathLst>
              <a:path w="2242" h="255">
                <a:moveTo>
                  <a:pt x="0" y="255"/>
                </a:moveTo>
                <a:cubicBezTo>
                  <a:pt x="177" y="214"/>
                  <a:pt x="687" y="18"/>
                  <a:pt x="1061" y="9"/>
                </a:cubicBezTo>
                <a:cubicBezTo>
                  <a:pt x="1435" y="0"/>
                  <a:pt x="1996" y="164"/>
                  <a:pt x="2242" y="204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6477120" y="3352680"/>
            <a:ext cx="2590560" cy="20242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O MN regressa para a sua rede de origem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(HN), voltando à situação inicial, donde irá utilizar IPv6 standard, como se não fosse um MN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76" name="laptop"/>
          <p:cNvSpPr/>
          <p:nvPr/>
        </p:nvSpPr>
        <p:spPr>
          <a:xfrm>
            <a:off x="2057400" y="1676520"/>
            <a:ext cx="914400" cy="53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78" name="laptop"/>
          <p:cNvSpPr/>
          <p:nvPr/>
        </p:nvSpPr>
        <p:spPr>
          <a:xfrm>
            <a:off x="6477120" y="1600200"/>
            <a:ext cx="914400" cy="533520"/>
          </a:xfrm>
          <a:prstGeom prst="pie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Detalhes de Operação 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Regresso do MN à sua H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grpSp>
        <p:nvGrpSpPr>
          <p:cNvPr id="3980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3981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985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3986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990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3991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995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3996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000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4001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005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4006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4010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11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2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Detalhes de Operação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Regresso do MN à sua H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4013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14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1305000" y="124308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17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21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6324480" y="3352680"/>
            <a:ext cx="2743200" cy="17398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Tal como na quando se moveu para a FN, o MN vai detectar através de 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Neighbor Discovery 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que chegou à sua HN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 flipH="1">
            <a:off x="1479600" y="256536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2400480" y="217188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34" name="laptop"/>
          <p:cNvSpPr/>
          <p:nvPr/>
        </p:nvSpPr>
        <p:spPr>
          <a:xfrm>
            <a:off x="1936800" y="1752480"/>
            <a:ext cx="914400" cy="53352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 flipH="1">
            <a:off x="2819520" y="2286000"/>
            <a:ext cx="304560" cy="228600"/>
          </a:xfrm>
          <a:custGeom>
            <a:avLst/>
            <a:gdLst/>
            <a:ahLst/>
            <a:rect l="l" t="t" r="r" b="b"/>
            <a:pathLst>
              <a:path w="367" h="224">
                <a:moveTo>
                  <a:pt x="0" y="224"/>
                </a:moveTo>
                <a:cubicBezTo>
                  <a:pt x="27" y="206"/>
                  <a:pt x="104" y="147"/>
                  <a:pt x="165" y="110"/>
                </a:cubicBezTo>
                <a:cubicBezTo>
                  <a:pt x="226" y="73"/>
                  <a:pt x="325" y="22"/>
                  <a:pt x="367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 flipH="1">
            <a:off x="2894760" y="2057400"/>
            <a:ext cx="304920" cy="30492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4037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4038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042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4043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047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4048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052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4053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057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4058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062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4063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4067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68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2514600" y="2819520"/>
            <a:ext cx="901800" cy="258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CM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3063960" y="1523880"/>
            <a:ext cx="301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Auto-configuração (stateless)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DHCPv6 (stateful)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Detalhes de Operação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Regresso do MN à sua H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4072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73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1305000" y="124308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76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80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6629400" y="3321720"/>
            <a:ext cx="2438280" cy="2837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Ele envia um BU para o HA com o campo do CoA igual ao seu 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Home address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. O HA vai saber então que deverá eliminar a entrada na sua BC, deixando de ser 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proxy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 do endereço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 flipH="1">
            <a:off x="1479600" y="256536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2400480" y="217188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93" name="laptop"/>
          <p:cNvSpPr/>
          <p:nvPr/>
        </p:nvSpPr>
        <p:spPr>
          <a:xfrm>
            <a:off x="1936800" y="1752480"/>
            <a:ext cx="914400" cy="53352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2286000" y="2362320"/>
            <a:ext cx="76320" cy="380880"/>
          </a:xfrm>
          <a:custGeom>
            <a:avLst/>
            <a:gdLst/>
            <a:ahLst/>
            <a:rect l="l" t="t" r="r" b="b"/>
            <a:pathLst>
              <a:path w="367" h="224">
                <a:moveTo>
                  <a:pt x="0" y="224"/>
                </a:moveTo>
                <a:cubicBezTo>
                  <a:pt x="27" y="206"/>
                  <a:pt x="104" y="147"/>
                  <a:pt x="165" y="110"/>
                </a:cubicBezTo>
                <a:cubicBezTo>
                  <a:pt x="226" y="73"/>
                  <a:pt x="325" y="22"/>
                  <a:pt x="367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1981080" y="2362320"/>
            <a:ext cx="152640" cy="38088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4096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4097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101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4102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106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4107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111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4112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116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4117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121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4122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4126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27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3439440" y="167652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Binding Updat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(BU)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3556080" y="1442880"/>
            <a:ext cx="554040" cy="25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>
            <a:off x="4110120" y="1434960"/>
            <a:ext cx="83808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>
            <a:off x="4316400" y="121104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PTBlissMedium"/>
              </a:rPr>
              <a:t>DH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4545000" y="1455840"/>
            <a:ext cx="38088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H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4132440" y="1455840"/>
            <a:ext cx="38088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BU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1014480" y="3733920"/>
            <a:ext cx="223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Binding Acknowledg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PTBlissMedium"/>
              </a:rPr>
              <a:t>(BA)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1414440" y="3500280"/>
            <a:ext cx="554040" cy="2588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1968480" y="3492360"/>
            <a:ext cx="83808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2174760" y="326844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PTBlissMedium"/>
              </a:rPr>
              <a:t>DH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2403360" y="3513240"/>
            <a:ext cx="38124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H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1990800" y="3513240"/>
            <a:ext cx="38088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BA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41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>
            <a:off x="5715000" y="11430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1305000" y="12430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44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2521080" y="216360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49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6477120" y="3657600"/>
            <a:ext cx="2590560" cy="16765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As novas ligações entre o MN e o CN passam a ser feitas utilizando IPv6 normalmente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59" name="laptop"/>
          <p:cNvSpPr/>
          <p:nvPr/>
        </p:nvSpPr>
        <p:spPr>
          <a:xfrm>
            <a:off x="2057400" y="1676520"/>
            <a:ext cx="914400" cy="53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PTBlissMedium"/>
              </a:rPr>
              <a:t>Mobilidade IPv6 - Operação Básica </a:t>
            </a:r>
            <a:br>
              <a:rPr sz="3200"/>
            </a:br>
            <a:r>
              <a:rPr b="1" i="1" lang="en-US" sz="2200" spc="-1" strike="noStrike">
                <a:solidFill>
                  <a:srgbClr val="919191"/>
                </a:solidFill>
                <a:latin typeface="PTBlissMedium"/>
              </a:rPr>
              <a:t>Regresso do MN à sua H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grpSp>
        <p:nvGrpSpPr>
          <p:cNvPr id="4162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4163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167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4168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172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4173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177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4178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182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4183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187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4188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4192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93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2709720" y="2444760"/>
            <a:ext cx="2433960" cy="3154320"/>
          </a:xfrm>
          <a:custGeom>
            <a:avLst/>
            <a:gdLst/>
            <a:ahLst/>
            <a:rect l="l" t="t" r="r" b="b"/>
            <a:pathLst>
              <a:path w="1533" h="1987">
                <a:moveTo>
                  <a:pt x="0" y="0"/>
                </a:moveTo>
                <a:cubicBezTo>
                  <a:pt x="143" y="189"/>
                  <a:pt x="605" y="802"/>
                  <a:pt x="860" y="1133"/>
                </a:cubicBezTo>
                <a:cubicBezTo>
                  <a:pt x="1115" y="1464"/>
                  <a:pt x="1393" y="1809"/>
                  <a:pt x="1533" y="1987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2666880" y="3967200"/>
            <a:ext cx="685800" cy="272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PTBlissMedium"/>
              </a:rPr>
              <a:t>dado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133720" y="3967200"/>
            <a:ext cx="554040" cy="272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3352680" y="4527720"/>
            <a:ext cx="685800" cy="272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PTBlissMedium"/>
              </a:rPr>
              <a:t>dado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2819520" y="4527720"/>
            <a:ext cx="554040" cy="272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2433600" y="2687760"/>
            <a:ext cx="2551320" cy="3186000"/>
          </a:xfrm>
          <a:custGeom>
            <a:avLst/>
            <a:gdLst/>
            <a:ahLst/>
            <a:rect l="l" t="t" r="r" b="b"/>
            <a:pathLst>
              <a:path w="1607" h="2007">
                <a:moveTo>
                  <a:pt x="0" y="0"/>
                </a:moveTo>
                <a:cubicBezTo>
                  <a:pt x="134" y="171"/>
                  <a:pt x="539" y="693"/>
                  <a:pt x="807" y="1027"/>
                </a:cubicBezTo>
                <a:cubicBezTo>
                  <a:pt x="1075" y="1361"/>
                  <a:pt x="1440" y="1803"/>
                  <a:pt x="1607" y="2007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Medium"/>
              </a:rPr>
              <a:t>Mobilidade IPv6 - Detalhes de Operação</a:t>
            </a:r>
            <a:br>
              <a:rPr sz="3200"/>
            </a:br>
            <a:r>
              <a:rPr b="1" i="1" lang="pt-PT" sz="2200" spc="-1" strike="noStrike">
                <a:solidFill>
                  <a:srgbClr val="919191"/>
                </a:solidFill>
                <a:latin typeface="PTBlissMedium"/>
              </a:rPr>
              <a:t>Com reencaminhamento para o MN desde a F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4201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02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1305000" y="124308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05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09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6477120" y="3260880"/>
            <a:ext cx="2590560" cy="3111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Caso implemente a possibilidade de utilizar os HAs das FNs para reencaminhar os pacotes, o MN depois enviará-lhes um BU para eliminarem a entrada na BC (como para o HA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 flipH="1">
            <a:off x="1479600" y="256536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2400480" y="217188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22" name="laptop"/>
          <p:cNvSpPr/>
          <p:nvPr/>
        </p:nvSpPr>
        <p:spPr>
          <a:xfrm>
            <a:off x="1936800" y="1752480"/>
            <a:ext cx="914400" cy="53352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 flipH="1" flipV="1">
            <a:off x="6019920" y="3276720"/>
            <a:ext cx="304560" cy="213336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24" name="laptop"/>
          <p:cNvSpPr/>
          <p:nvPr/>
        </p:nvSpPr>
        <p:spPr>
          <a:xfrm>
            <a:off x="6118200" y="2666880"/>
            <a:ext cx="81612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PTBlissMedium"/>
              </a:rPr>
              <a:t>HA</a:t>
            </a:r>
            <a:r>
              <a:rPr b="1" lang="en-US" sz="1400" spc="-1" strike="noStrike" baseline="-25000">
                <a:solidFill>
                  <a:srgbClr val="0033cc"/>
                </a:solidFill>
                <a:latin typeface="PTBlissMedium"/>
              </a:rPr>
              <a:t>V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4225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4226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230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4231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235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4236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240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4241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245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4246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250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4251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4255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56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 flipH="1">
            <a:off x="2971080" y="2209680"/>
            <a:ext cx="2971800" cy="76320"/>
          </a:xfrm>
          <a:custGeom>
            <a:avLst/>
            <a:gdLst/>
            <a:ahLst/>
            <a:rect l="l" t="t" r="r" b="b"/>
            <a:pathLst>
              <a:path w="367" h="224">
                <a:moveTo>
                  <a:pt x="0" y="224"/>
                </a:moveTo>
                <a:cubicBezTo>
                  <a:pt x="27" y="206"/>
                  <a:pt x="104" y="147"/>
                  <a:pt x="165" y="110"/>
                </a:cubicBezTo>
                <a:cubicBezTo>
                  <a:pt x="226" y="73"/>
                  <a:pt x="325" y="22"/>
                  <a:pt x="367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8043840" y="2976480"/>
            <a:ext cx="685800" cy="2732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PTBlissMedium"/>
              </a:rPr>
              <a:t>dado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7086600" y="2976480"/>
            <a:ext cx="554040" cy="2732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7640640" y="2971800"/>
            <a:ext cx="40464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R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4919760" y="1757520"/>
            <a:ext cx="685800" cy="272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PTBlissMedium"/>
              </a:rPr>
              <a:t>dado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3962520" y="1757520"/>
            <a:ext cx="554040" cy="272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4516560" y="1763640"/>
            <a:ext cx="40464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R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3429000" y="1752480"/>
            <a:ext cx="554040" cy="2732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’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Medium"/>
              </a:rPr>
              <a:t>Mobilidade IPv6 - Detalhes de Operação</a:t>
            </a:r>
            <a:br>
              <a:rPr sz="3200"/>
            </a:br>
            <a:r>
              <a:rPr b="1" i="1" lang="pt-PT" sz="2200" spc="-1" strike="noStrike">
                <a:solidFill>
                  <a:srgbClr val="919191"/>
                </a:solidFill>
                <a:latin typeface="PTBlissMedium"/>
              </a:rPr>
              <a:t>Sem reencaminhamento para o MN desde a FN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4266" name="Cloud"/>
          <p:cNvSpPr/>
          <p:nvPr/>
        </p:nvSpPr>
        <p:spPr>
          <a:xfrm>
            <a:off x="361332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67" name="Cloud"/>
          <p:cNvSpPr/>
          <p:nvPr/>
        </p:nvSpPr>
        <p:spPr>
          <a:xfrm>
            <a:off x="12193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5715000" y="1243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1305000" y="124308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70" name="Cloud"/>
          <p:cNvSpPr/>
          <p:nvPr/>
        </p:nvSpPr>
        <p:spPr>
          <a:xfrm>
            <a:off x="3384720" y="2951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3613320" y="3503520"/>
            <a:ext cx="122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 flipH="1">
            <a:off x="15998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20574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74" name="Cloud"/>
          <p:cNvSpPr/>
          <p:nvPr/>
        </p:nvSpPr>
        <p:spPr>
          <a:xfrm>
            <a:off x="55944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 flipH="1">
            <a:off x="597528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643248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689616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3429000" y="2557440"/>
            <a:ext cx="754200" cy="70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 flipV="1">
            <a:off x="5288040" y="2557440"/>
            <a:ext cx="30636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4643280" y="3994200"/>
            <a:ext cx="27648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464328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491976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6477120" y="3230640"/>
            <a:ext cx="2590560" cy="2837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PTBlissMedium"/>
              </a:rPr>
              <a:t>Caso não implemente este mecanismo, os pacotes perderam-se. Após um número pré-definido N de tentativas falhadas o CN começará a enviar pacotes para a sua HN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144288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 flipH="1">
            <a:off x="1479600" y="256536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2400480" y="217188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87" name="laptop"/>
          <p:cNvSpPr/>
          <p:nvPr/>
        </p:nvSpPr>
        <p:spPr>
          <a:xfrm>
            <a:off x="1936800" y="1752480"/>
            <a:ext cx="914400" cy="53352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 flipH="1" flipV="1">
            <a:off x="6019920" y="3276720"/>
            <a:ext cx="304560" cy="213336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89" name="laptop"/>
          <p:cNvSpPr/>
          <p:nvPr/>
        </p:nvSpPr>
        <p:spPr>
          <a:xfrm>
            <a:off x="6118200" y="2666880"/>
            <a:ext cx="81612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PTBlissMedium"/>
              </a:rPr>
              <a:t>HA</a:t>
            </a:r>
            <a:r>
              <a:rPr b="1" lang="en-US" sz="1400" spc="-1" strike="noStrike" baseline="-25000">
                <a:solidFill>
                  <a:srgbClr val="0033cc"/>
                </a:solidFill>
                <a:latin typeface="PTBlissMedium"/>
              </a:rPr>
              <a:t>V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 flipH="1" flipV="1">
            <a:off x="6172200" y="2209680"/>
            <a:ext cx="457200" cy="45720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91" name=""/>
          <p:cNvSpPr/>
          <p:nvPr/>
        </p:nvSpPr>
        <p:spPr>
          <a:xfrm flipV="1">
            <a:off x="6248520" y="2209680"/>
            <a:ext cx="304560" cy="45720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4292" name=""/>
          <p:cNvGrpSpPr/>
          <p:nvPr/>
        </p:nvGrpSpPr>
        <p:grpSpPr>
          <a:xfrm>
            <a:off x="3200400" y="2328840"/>
            <a:ext cx="685800" cy="552600"/>
            <a:chOff x="3200400" y="2328840"/>
            <a:chExt cx="685800" cy="552600"/>
          </a:xfrm>
        </p:grpSpPr>
        <p:sp>
          <p:nvSpPr>
            <p:cNvPr id="4293" name=""/>
            <p:cNvSpPr/>
            <p:nvPr/>
          </p:nvSpPr>
          <p:spPr>
            <a:xfrm>
              <a:off x="320040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42900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 flipV="1">
              <a:off x="320040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20040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297" name=""/>
          <p:cNvGrpSpPr/>
          <p:nvPr/>
        </p:nvGrpSpPr>
        <p:grpSpPr>
          <a:xfrm>
            <a:off x="3809880" y="3044880"/>
            <a:ext cx="609840" cy="468720"/>
            <a:chOff x="3809880" y="3044880"/>
            <a:chExt cx="609840" cy="468720"/>
          </a:xfrm>
        </p:grpSpPr>
        <p:sp>
          <p:nvSpPr>
            <p:cNvPr id="4298" name=""/>
            <p:cNvSpPr/>
            <p:nvPr/>
          </p:nvSpPr>
          <p:spPr>
            <a:xfrm>
              <a:off x="3809880" y="30448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401292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 flipV="1">
              <a:off x="3809880" y="31082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3809880" y="31150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302" name=""/>
          <p:cNvGrpSpPr/>
          <p:nvPr/>
        </p:nvGrpSpPr>
        <p:grpSpPr>
          <a:xfrm>
            <a:off x="4952880" y="3124080"/>
            <a:ext cx="609840" cy="469080"/>
            <a:chOff x="4952880" y="3124080"/>
            <a:chExt cx="609840" cy="469080"/>
          </a:xfrm>
        </p:grpSpPr>
        <p:sp>
          <p:nvSpPr>
            <p:cNvPr id="4303" name=""/>
            <p:cNvSpPr/>
            <p:nvPr/>
          </p:nvSpPr>
          <p:spPr>
            <a:xfrm>
              <a:off x="4952880" y="3124080"/>
              <a:ext cx="60984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515592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V="1">
              <a:off x="4952880" y="318780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952880" y="319464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307" name=""/>
          <p:cNvGrpSpPr/>
          <p:nvPr/>
        </p:nvGrpSpPr>
        <p:grpSpPr>
          <a:xfrm>
            <a:off x="4419720" y="3962520"/>
            <a:ext cx="609480" cy="468720"/>
            <a:chOff x="4419720" y="3962520"/>
            <a:chExt cx="609480" cy="468720"/>
          </a:xfrm>
        </p:grpSpPr>
        <p:sp>
          <p:nvSpPr>
            <p:cNvPr id="4308" name=""/>
            <p:cNvSpPr/>
            <p:nvPr/>
          </p:nvSpPr>
          <p:spPr>
            <a:xfrm>
              <a:off x="4419720" y="396252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462276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 flipV="1">
              <a:off x="4419720" y="402588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4419720" y="403272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312" name=""/>
          <p:cNvGrpSpPr/>
          <p:nvPr/>
        </p:nvGrpSpPr>
        <p:grpSpPr>
          <a:xfrm>
            <a:off x="5356080" y="2220840"/>
            <a:ext cx="685800" cy="552600"/>
            <a:chOff x="5356080" y="2220840"/>
            <a:chExt cx="685800" cy="552600"/>
          </a:xfrm>
        </p:grpSpPr>
        <p:sp>
          <p:nvSpPr>
            <p:cNvPr id="4313" name=""/>
            <p:cNvSpPr/>
            <p:nvPr/>
          </p:nvSpPr>
          <p:spPr>
            <a:xfrm>
              <a:off x="535608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558468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V="1">
              <a:off x="535608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535608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317" name=""/>
          <p:cNvGrpSpPr/>
          <p:nvPr/>
        </p:nvGrpSpPr>
        <p:grpSpPr>
          <a:xfrm>
            <a:off x="4560840" y="4797360"/>
            <a:ext cx="685800" cy="552600"/>
            <a:chOff x="4560840" y="4797360"/>
            <a:chExt cx="685800" cy="552600"/>
          </a:xfrm>
        </p:grpSpPr>
        <p:sp>
          <p:nvSpPr>
            <p:cNvPr id="4318" name=""/>
            <p:cNvSpPr/>
            <p:nvPr/>
          </p:nvSpPr>
          <p:spPr>
            <a:xfrm>
              <a:off x="456084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478944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V="1">
              <a:off x="456084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456084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4322" name="laptop"/>
          <p:cNvSpPr/>
          <p:nvPr/>
        </p:nvSpPr>
        <p:spPr>
          <a:xfrm>
            <a:off x="1600200" y="2771640"/>
            <a:ext cx="914400" cy="53352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23" name="laptop"/>
          <p:cNvSpPr/>
          <p:nvPr/>
        </p:nvSpPr>
        <p:spPr>
          <a:xfrm>
            <a:off x="525780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5757840" y="4451400"/>
            <a:ext cx="685800" cy="272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PTBlissMedium"/>
              </a:rPr>
              <a:t>dado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4800600" y="4451400"/>
            <a:ext cx="554040" cy="272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IPv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5354640" y="4446720"/>
            <a:ext cx="404640" cy="2714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PTBlissMedium"/>
              </a:rPr>
              <a:t>RH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Heavy"/>
              </a:rPr>
              <a:t>Mobilidade IPv6 - Segurança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/>
          </p:nvPr>
        </p:nvSpPr>
        <p:spPr>
          <a:xfrm>
            <a:off x="1104480" y="1447920"/>
            <a:ext cx="8039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- O problema de segurança coloca-se quando o MN se encontra numa FN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- Deve ser garantido o mesmo nível de segurança que numa LAN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29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- Entre os vários nodos deve existir um associação segura (Binding 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Security Association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), de forma a garantir que o tráfego transportado pertence ao utilizador correcto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	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- Mecanismos utilizados </a:t>
            </a: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(ainda em discussão)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: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lvl="1" marL="713160" indent="-274320">
              <a:lnSpc>
                <a:spcPct val="150000"/>
              </a:lnSpc>
              <a:spcBef>
                <a:spcPts val="451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AH (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Athentication Header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)</a:t>
            </a: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.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ESP (</a:t>
            </a:r>
            <a:r>
              <a:rPr b="1" i="1" lang="pt-PT" sz="1800" spc="-1" strike="noStrike">
                <a:solidFill>
                  <a:srgbClr val="ffff99"/>
                </a:solidFill>
                <a:latin typeface="PTBlissMedium"/>
              </a:rPr>
              <a:t>Encapsulation Security Header</a:t>
            </a: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)</a:t>
            </a: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.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1800" spc="-1" strike="noStrike">
                <a:solidFill>
                  <a:srgbClr val="ffff99"/>
                </a:solidFill>
                <a:latin typeface="PTBlissMedium"/>
              </a:rPr>
              <a:t>IPSec</a:t>
            </a: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.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4330" name=""/>
          <p:cNvSpPr/>
          <p:nvPr/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Times New Roman"/>
              </a:rPr>
              <a:t>Sumário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1104840" y="1343160"/>
            <a:ext cx="7734240" cy="49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Introdução à mobilidade dos terminais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Mobilidade em redes IP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Descrição de funcionamento da MIPv6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imes New Roman"/>
              </a:rPr>
              <a:t>Adições ao protocolo para conseguir o “always-on”.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Implicações da MIPv6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O que se faz na PTIN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Conclusões e estado da arte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Heavy"/>
              </a:rPr>
              <a:t>Mobilidade de terminais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04840" y="1391760"/>
            <a:ext cx="7772400" cy="50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PTBlissMedium"/>
              </a:rPr>
              <a:t>Porquê ?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PTBlissMedium"/>
              </a:rPr>
              <a:t>Necessidade de acesso à informação a qualquer hora e em qualquer lugar.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PTBlissMedium"/>
              </a:rPr>
              <a:t>Necessidade de poder contactar e estar sempre contactável.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PTBlissMedium"/>
              </a:rPr>
              <a:t>Aumento da capacidade de transmissão das redes, permite novas aplicações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PTBlissMedium"/>
              </a:rPr>
              <a:t>Cada vez existem mais terminais e mais portáveis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PTBlissMedium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PTBlissMedium"/>
              </a:rPr>
              <a:t>Portáteis,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PTBlissMedium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PTBlissMedium"/>
              </a:rPr>
              <a:t>PDAs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PTBlissMedium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PTBlissMedium"/>
              </a:rPr>
              <a:t>Telemóveis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PTBlissMedium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PTBlissMedium"/>
              </a:rPr>
              <a:t>etc.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2" name="PlaceHolder 1"/>
          <p:cNvSpPr>
            <a:spLocks noGrp="1"/>
          </p:cNvSpPr>
          <p:nvPr>
            <p:ph/>
          </p:nvPr>
        </p:nvSpPr>
        <p:spPr>
          <a:xfrm>
            <a:off x="1104480" y="1490760"/>
            <a:ext cx="803916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Integração de redes implica inexistência de falhas no serviço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O principal problema acontece durante o handover, já que nesse intervalo de tempo o serviço é interrompido por instantes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Estão a ser definidas extensões para o MIPv6 de forma a minimizar o período de handover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Procura-se que este não seja perceptível (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seemless handover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)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A ideia é nunca perder a conectividade - ALWAYS-ON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A maior parte destas soluções aplicam-se apenas a handovers em redes wireless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 type="title"/>
          </p:nvPr>
        </p:nvSpPr>
        <p:spPr>
          <a:xfrm>
            <a:off x="1104840" y="380520"/>
            <a:ext cx="7886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Medium"/>
              </a:rPr>
              <a:t>Mobilidade IPv6 - Extensões ao MIPv6 </a:t>
            </a:r>
            <a:br>
              <a:rPr sz="3200"/>
            </a:br>
            <a:r>
              <a:rPr b="1" lang="pt-PT" sz="2200" spc="-1" strike="noStrike">
                <a:solidFill>
                  <a:srgbClr val="919191"/>
                </a:solidFill>
                <a:latin typeface="PTBlissMedium"/>
              </a:rPr>
              <a:t>Conceito “always-on”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1104840" y="380520"/>
            <a:ext cx="7886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Medium"/>
              </a:rPr>
              <a:t>Mobilidade IPv6 - Extensões ao MIPv6 </a:t>
            </a:r>
            <a:r>
              <a:rPr b="1" lang="pt-PT" sz="2200" spc="-1" strike="noStrike">
                <a:solidFill>
                  <a:srgbClr val="919191"/>
                </a:solidFill>
                <a:latin typeface="PTBlissMedium"/>
              </a:rPr>
              <a:t>FMIPv6 (Fast-handover MIPv6)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4335" name="Cloud"/>
          <p:cNvSpPr/>
          <p:nvPr/>
        </p:nvSpPr>
        <p:spPr>
          <a:xfrm>
            <a:off x="3003480" y="4791240"/>
            <a:ext cx="2743200" cy="183816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36" name="Cloud"/>
          <p:cNvSpPr/>
          <p:nvPr/>
        </p:nvSpPr>
        <p:spPr>
          <a:xfrm>
            <a:off x="990720" y="17002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4724280" y="1243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 1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1076400" y="124308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Visited Network 2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39" name="Cloud"/>
          <p:cNvSpPr/>
          <p:nvPr/>
        </p:nvSpPr>
        <p:spPr>
          <a:xfrm>
            <a:off x="2774880" y="2951280"/>
            <a:ext cx="221004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3003480" y="3503520"/>
            <a:ext cx="12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 flipH="1">
            <a:off x="1371240" y="2557440"/>
            <a:ext cx="16844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1828800" y="25574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2292480" y="216360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44" name="Cloud"/>
          <p:cNvSpPr/>
          <p:nvPr/>
        </p:nvSpPr>
        <p:spPr>
          <a:xfrm>
            <a:off x="4572000" y="1658880"/>
            <a:ext cx="220968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 flipH="1">
            <a:off x="4984920" y="251604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3200400" y="2568600"/>
            <a:ext cx="228600" cy="4906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 flipV="1">
            <a:off x="4678200" y="2557440"/>
            <a:ext cx="30672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4033800" y="3994200"/>
            <a:ext cx="27612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403380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430992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2744640" y="1635120"/>
            <a:ext cx="2818080" cy="270000"/>
          </a:xfrm>
          <a:custGeom>
            <a:avLst/>
            <a:gdLst/>
            <a:ahLst/>
            <a:rect l="l" t="t" r="r" b="b"/>
            <a:pathLst>
              <a:path w="1980" h="237">
                <a:moveTo>
                  <a:pt x="0" y="237"/>
                </a:moveTo>
                <a:cubicBezTo>
                  <a:pt x="159" y="198"/>
                  <a:pt x="624" y="6"/>
                  <a:pt x="954" y="3"/>
                </a:cubicBezTo>
                <a:cubicBezTo>
                  <a:pt x="1284" y="0"/>
                  <a:pt x="1766" y="173"/>
                  <a:pt x="1980" y="21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83340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590544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54" name="laptop"/>
          <p:cNvSpPr/>
          <p:nvPr/>
        </p:nvSpPr>
        <p:spPr>
          <a:xfrm>
            <a:off x="1828800" y="1676520"/>
            <a:ext cx="914400" cy="53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5442120" y="251604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56" name="laptop"/>
          <p:cNvSpPr/>
          <p:nvPr/>
        </p:nvSpPr>
        <p:spPr>
          <a:xfrm>
            <a:off x="5486400" y="1708200"/>
            <a:ext cx="914400" cy="53352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4357" name=""/>
          <p:cNvGrpSpPr/>
          <p:nvPr/>
        </p:nvGrpSpPr>
        <p:grpSpPr>
          <a:xfrm>
            <a:off x="2590920" y="2328840"/>
            <a:ext cx="685800" cy="552600"/>
            <a:chOff x="2590920" y="2328840"/>
            <a:chExt cx="685800" cy="552600"/>
          </a:xfrm>
        </p:grpSpPr>
        <p:sp>
          <p:nvSpPr>
            <p:cNvPr id="4358" name=""/>
            <p:cNvSpPr/>
            <p:nvPr/>
          </p:nvSpPr>
          <p:spPr>
            <a:xfrm>
              <a:off x="2590920" y="2328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819520" y="2328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V="1">
              <a:off x="2590920" y="2404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2590920" y="2422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362" name=""/>
          <p:cNvGrpSpPr/>
          <p:nvPr/>
        </p:nvGrpSpPr>
        <p:grpSpPr>
          <a:xfrm>
            <a:off x="3200400" y="3044880"/>
            <a:ext cx="609480" cy="468720"/>
            <a:chOff x="3200400" y="3044880"/>
            <a:chExt cx="609480" cy="468720"/>
          </a:xfrm>
        </p:grpSpPr>
        <p:sp>
          <p:nvSpPr>
            <p:cNvPr id="4363" name=""/>
            <p:cNvSpPr/>
            <p:nvPr/>
          </p:nvSpPr>
          <p:spPr>
            <a:xfrm>
              <a:off x="3200400" y="304488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403440" y="30448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V="1">
              <a:off x="3200400" y="310824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200400" y="311508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367" name=""/>
          <p:cNvGrpSpPr/>
          <p:nvPr/>
        </p:nvGrpSpPr>
        <p:grpSpPr>
          <a:xfrm>
            <a:off x="4343400" y="3124080"/>
            <a:ext cx="609480" cy="469080"/>
            <a:chOff x="4343400" y="3124080"/>
            <a:chExt cx="609480" cy="469080"/>
          </a:xfrm>
        </p:grpSpPr>
        <p:sp>
          <p:nvSpPr>
            <p:cNvPr id="4368" name=""/>
            <p:cNvSpPr/>
            <p:nvPr/>
          </p:nvSpPr>
          <p:spPr>
            <a:xfrm>
              <a:off x="4343400" y="3124080"/>
              <a:ext cx="609480" cy="3816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546440" y="3124080"/>
              <a:ext cx="203040" cy="1908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 flipV="1">
              <a:off x="4343400" y="318780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4343400" y="319464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372" name=""/>
          <p:cNvGrpSpPr/>
          <p:nvPr/>
        </p:nvGrpSpPr>
        <p:grpSpPr>
          <a:xfrm>
            <a:off x="3809880" y="3962520"/>
            <a:ext cx="609840" cy="468720"/>
            <a:chOff x="3809880" y="3962520"/>
            <a:chExt cx="609840" cy="468720"/>
          </a:xfrm>
        </p:grpSpPr>
        <p:sp>
          <p:nvSpPr>
            <p:cNvPr id="4373" name=""/>
            <p:cNvSpPr/>
            <p:nvPr/>
          </p:nvSpPr>
          <p:spPr>
            <a:xfrm>
              <a:off x="3809880" y="396252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4012920" y="396252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 flipV="1">
              <a:off x="3809880" y="402588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3809880" y="403272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377" name=""/>
          <p:cNvGrpSpPr/>
          <p:nvPr/>
        </p:nvGrpSpPr>
        <p:grpSpPr>
          <a:xfrm>
            <a:off x="4746600" y="2220840"/>
            <a:ext cx="685800" cy="552600"/>
            <a:chOff x="4746600" y="2220840"/>
            <a:chExt cx="685800" cy="552600"/>
          </a:xfrm>
        </p:grpSpPr>
        <p:sp>
          <p:nvSpPr>
            <p:cNvPr id="4378" name=""/>
            <p:cNvSpPr/>
            <p:nvPr/>
          </p:nvSpPr>
          <p:spPr>
            <a:xfrm>
              <a:off x="4746600" y="222084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4975200" y="222084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 flipV="1">
              <a:off x="4746600" y="229680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4746600" y="23144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382" name=""/>
          <p:cNvGrpSpPr/>
          <p:nvPr/>
        </p:nvGrpSpPr>
        <p:grpSpPr>
          <a:xfrm>
            <a:off x="3951360" y="4797360"/>
            <a:ext cx="685800" cy="552600"/>
            <a:chOff x="3951360" y="4797360"/>
            <a:chExt cx="685800" cy="552600"/>
          </a:xfrm>
        </p:grpSpPr>
        <p:sp>
          <p:nvSpPr>
            <p:cNvPr id="4383" name=""/>
            <p:cNvSpPr/>
            <p:nvPr/>
          </p:nvSpPr>
          <p:spPr>
            <a:xfrm>
              <a:off x="3951360" y="47973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4179960" y="47973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 flipV="1">
              <a:off x="3951360" y="48733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3951360" y="48909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4387" name="laptop"/>
          <p:cNvSpPr/>
          <p:nvPr/>
        </p:nvSpPr>
        <p:spPr>
          <a:xfrm>
            <a:off x="426708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6553080" y="2604240"/>
            <a:ext cx="2590920" cy="393444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PTBliss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 </a:t>
            </a: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Aplicável apenas em ambientes wireless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PTBliss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 </a:t>
            </a: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O MN está ligado simultaneamente a mais de 1 link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PTBliss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 </a:t>
            </a: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Pacotes do MN vão para as várias rede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PTBliss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 </a:t>
            </a: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AR1 encaminham os pacotes para o MN na sua rede e para a nova - o AR2 (</a:t>
            </a:r>
            <a:r>
              <a:rPr b="0" i="1" lang="pt-PT" sz="1800" spc="-1" strike="noStrike">
                <a:solidFill>
                  <a:srgbClr val="ffff99"/>
                </a:solidFill>
                <a:latin typeface="PTBlissMedium"/>
              </a:rPr>
              <a:t>bicasting</a:t>
            </a: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PTBliss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 </a:t>
            </a: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Utilização de triggers L2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 flipH="1" flipV="1">
            <a:off x="4648320" y="2743200"/>
            <a:ext cx="380880" cy="281952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5257800" y="1905120"/>
            <a:ext cx="304920" cy="30456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3124080" y="2286000"/>
            <a:ext cx="1524240" cy="7632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 flipV="1">
            <a:off x="2743200" y="1980360"/>
            <a:ext cx="228600" cy="30492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 flipV="1">
            <a:off x="3276720" y="2514600"/>
            <a:ext cx="1447560" cy="76320"/>
          </a:xfrm>
          <a:custGeom>
            <a:avLst/>
            <a:gdLst/>
            <a:ahLst/>
            <a:rect l="l" t="t" r="r" b="b"/>
            <a:pathLst>
              <a:path w="1980" h="237">
                <a:moveTo>
                  <a:pt x="0" y="237"/>
                </a:moveTo>
                <a:cubicBezTo>
                  <a:pt x="159" y="198"/>
                  <a:pt x="624" y="6"/>
                  <a:pt x="954" y="3"/>
                </a:cubicBezTo>
                <a:cubicBezTo>
                  <a:pt x="1284" y="0"/>
                  <a:pt x="1766" y="173"/>
                  <a:pt x="1980" y="218"/>
                </a:cubicBezTo>
              </a:path>
            </a:pathLst>
          </a:custGeom>
          <a:noFill/>
          <a:ln w="38160">
            <a:solidFill>
              <a:srgbClr val="919191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2590920" y="2286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PTBlissMedium"/>
              </a:rPr>
              <a:t>AR2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4724280" y="2178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PTBlissMedium"/>
              </a:rPr>
              <a:t>AR1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96" name="Cloud"/>
          <p:cNvSpPr/>
          <p:nvPr/>
        </p:nvSpPr>
        <p:spPr>
          <a:xfrm>
            <a:off x="1219320" y="4362480"/>
            <a:ext cx="1676160" cy="112392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 flipH="1">
            <a:off x="2514600" y="4354560"/>
            <a:ext cx="457200" cy="30492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1752480" y="466236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 flipH="1">
            <a:off x="1174680" y="467028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2095560" y="427680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4401" name=""/>
          <p:cNvGrpSpPr/>
          <p:nvPr/>
        </p:nvGrpSpPr>
        <p:grpSpPr>
          <a:xfrm>
            <a:off x="2819520" y="3962520"/>
            <a:ext cx="685800" cy="552240"/>
            <a:chOff x="2819520" y="3962520"/>
            <a:chExt cx="685800" cy="552240"/>
          </a:xfrm>
        </p:grpSpPr>
        <p:sp>
          <p:nvSpPr>
            <p:cNvPr id="4402" name=""/>
            <p:cNvSpPr/>
            <p:nvPr/>
          </p:nvSpPr>
          <p:spPr>
            <a:xfrm>
              <a:off x="2819520" y="3962520"/>
              <a:ext cx="685800" cy="4568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048120" y="3962520"/>
              <a:ext cx="228600" cy="2282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 flipV="1">
              <a:off x="2819520" y="4038480"/>
              <a:ext cx="685800" cy="75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2819520" y="40557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4406" name="laptop"/>
          <p:cNvSpPr/>
          <p:nvPr/>
        </p:nvSpPr>
        <p:spPr>
          <a:xfrm>
            <a:off x="1295280" y="4876920"/>
            <a:ext cx="914400" cy="53316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914400" y="3809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1104840" y="380520"/>
            <a:ext cx="7886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Medium"/>
              </a:rPr>
              <a:t>Mobilidade IPv6 - Extensões ao MIPv6 </a:t>
            </a:r>
            <a:r>
              <a:rPr b="1" lang="pt-PT" sz="2200" spc="-1" strike="noStrike">
                <a:solidFill>
                  <a:srgbClr val="919191"/>
                </a:solidFill>
                <a:latin typeface="PTBlissMedium"/>
              </a:rPr>
              <a:t>HMIPv6 (</a:t>
            </a:r>
            <a:r>
              <a:rPr b="1" lang="en-GB" sz="2200" spc="-1" strike="noStrike">
                <a:solidFill>
                  <a:srgbClr val="919191"/>
                </a:solidFill>
                <a:latin typeface="PTBlissMedium"/>
              </a:rPr>
              <a:t>Hierarchical</a:t>
            </a:r>
            <a:r>
              <a:rPr b="1" lang="pt-PT" sz="2200" spc="-1" strike="noStrike">
                <a:solidFill>
                  <a:srgbClr val="919191"/>
                </a:solidFill>
                <a:latin typeface="PTBlissMedium"/>
              </a:rPr>
              <a:t> MIP) e RR (Regional Registration)</a:t>
            </a:r>
            <a:endParaRPr b="1" i="1" lang="en-US" sz="2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4409" name=""/>
          <p:cNvSpPr/>
          <p:nvPr/>
        </p:nvSpPr>
        <p:spPr>
          <a:xfrm>
            <a:off x="6477120" y="2071440"/>
            <a:ext cx="2590560" cy="44830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PTBliss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 </a:t>
            </a: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Aproveita o facto de o handover ser a maior parte das vezes para redes próximas - no mesmo domínio (micro-mobilidade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PTBliss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 </a:t>
            </a: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O MN não sinaliza o HA na mudança de rede (no mesmo domínio)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PTBliss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 </a:t>
            </a: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RCoS endereço para todo o domínio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PTBliss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 </a:t>
            </a: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LCoS - endereço de cada rede no domínio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PTBliss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 </a:t>
            </a: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MAP / GMA - novas entidade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10" name="Cloud"/>
          <p:cNvSpPr/>
          <p:nvPr/>
        </p:nvSpPr>
        <p:spPr>
          <a:xfrm>
            <a:off x="3276720" y="4973760"/>
            <a:ext cx="2469960" cy="16556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5943600" y="1243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rede 1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12" name="Cloud"/>
          <p:cNvSpPr/>
          <p:nvPr/>
        </p:nvSpPr>
        <p:spPr>
          <a:xfrm>
            <a:off x="2774880" y="3243240"/>
            <a:ext cx="2210040" cy="148104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3003480" y="3795840"/>
            <a:ext cx="12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99"/>
                </a:solidFill>
                <a:latin typeface="PTBlissMedium"/>
              </a:rPr>
              <a:t>Intern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14" name="Cloud"/>
          <p:cNvSpPr/>
          <p:nvPr/>
        </p:nvSpPr>
        <p:spPr>
          <a:xfrm>
            <a:off x="2514600" y="1523880"/>
            <a:ext cx="3962520" cy="148140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4033800" y="3994200"/>
            <a:ext cx="276120" cy="949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4033800" y="5748480"/>
            <a:ext cx="107172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4309920" y="5172120"/>
            <a:ext cx="0" cy="576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833400" y="5748480"/>
            <a:ext cx="221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Corresponde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4419" name=""/>
          <p:cNvGrpSpPr/>
          <p:nvPr/>
        </p:nvGrpSpPr>
        <p:grpSpPr>
          <a:xfrm>
            <a:off x="3809880" y="4254480"/>
            <a:ext cx="609840" cy="468720"/>
            <a:chOff x="3809880" y="4254480"/>
            <a:chExt cx="609840" cy="468720"/>
          </a:xfrm>
        </p:grpSpPr>
        <p:sp>
          <p:nvSpPr>
            <p:cNvPr id="4420" name=""/>
            <p:cNvSpPr/>
            <p:nvPr/>
          </p:nvSpPr>
          <p:spPr>
            <a:xfrm>
              <a:off x="3809880" y="4254480"/>
              <a:ext cx="60984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4012920" y="425448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 flipV="1">
              <a:off x="3809880" y="4317840"/>
              <a:ext cx="60984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809880" y="4324680"/>
              <a:ext cx="6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424" name=""/>
          <p:cNvGrpSpPr/>
          <p:nvPr/>
        </p:nvGrpSpPr>
        <p:grpSpPr>
          <a:xfrm>
            <a:off x="3951360" y="4950000"/>
            <a:ext cx="685800" cy="552240"/>
            <a:chOff x="3951360" y="4950000"/>
            <a:chExt cx="685800" cy="552240"/>
          </a:xfrm>
        </p:grpSpPr>
        <p:sp>
          <p:nvSpPr>
            <p:cNvPr id="4425" name=""/>
            <p:cNvSpPr/>
            <p:nvPr/>
          </p:nvSpPr>
          <p:spPr>
            <a:xfrm>
              <a:off x="3951360" y="4950000"/>
              <a:ext cx="685800" cy="4568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4179960" y="4950000"/>
              <a:ext cx="228600" cy="2282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 flipV="1">
              <a:off x="3951360" y="5025960"/>
              <a:ext cx="685800" cy="75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951360" y="50432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4429" name="laptop"/>
          <p:cNvSpPr/>
          <p:nvPr/>
        </p:nvSpPr>
        <p:spPr>
          <a:xfrm>
            <a:off x="4267080" y="5562720"/>
            <a:ext cx="914400" cy="5331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C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2676600" y="127944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rede 2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 flipH="1">
            <a:off x="3048120" y="2176560"/>
            <a:ext cx="168408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>
            <a:off x="3809880" y="2176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>
            <a:off x="3968640" y="178272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 flipH="1" flipV="1">
            <a:off x="5257800" y="2514600"/>
            <a:ext cx="1098720" cy="14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 flipV="1">
            <a:off x="4678200" y="2666880"/>
            <a:ext cx="503280" cy="80496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>
            <a:off x="5905440" y="212256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37" name="laptop"/>
          <p:cNvSpPr/>
          <p:nvPr/>
        </p:nvSpPr>
        <p:spPr>
          <a:xfrm>
            <a:off x="3505320" y="1295280"/>
            <a:ext cx="914400" cy="533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38" name="laptop"/>
          <p:cNvSpPr/>
          <p:nvPr/>
        </p:nvSpPr>
        <p:spPr>
          <a:xfrm>
            <a:off x="5486400" y="1708200"/>
            <a:ext cx="914400" cy="533520"/>
          </a:xfrm>
          <a:prstGeom prst="pi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TBlissMedium"/>
              </a:rPr>
              <a:t>MN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4439" name=""/>
          <p:cNvGrpSpPr/>
          <p:nvPr/>
        </p:nvGrpSpPr>
        <p:grpSpPr>
          <a:xfrm>
            <a:off x="3581280" y="2282760"/>
            <a:ext cx="685800" cy="552600"/>
            <a:chOff x="3581280" y="2282760"/>
            <a:chExt cx="685800" cy="552600"/>
          </a:xfrm>
        </p:grpSpPr>
        <p:sp>
          <p:nvSpPr>
            <p:cNvPr id="4440" name=""/>
            <p:cNvSpPr/>
            <p:nvPr/>
          </p:nvSpPr>
          <p:spPr>
            <a:xfrm>
              <a:off x="3581280" y="22827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3809880" y="22827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 flipV="1">
              <a:off x="3581280" y="23587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3581280" y="23763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444" name=""/>
          <p:cNvGrpSpPr/>
          <p:nvPr/>
        </p:nvGrpSpPr>
        <p:grpSpPr>
          <a:xfrm>
            <a:off x="3200400" y="3336840"/>
            <a:ext cx="609480" cy="468720"/>
            <a:chOff x="3200400" y="3336840"/>
            <a:chExt cx="609480" cy="468720"/>
          </a:xfrm>
        </p:grpSpPr>
        <p:sp>
          <p:nvSpPr>
            <p:cNvPr id="4445" name=""/>
            <p:cNvSpPr/>
            <p:nvPr/>
          </p:nvSpPr>
          <p:spPr>
            <a:xfrm>
              <a:off x="3200400" y="333684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403440" y="333684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V="1">
              <a:off x="3200400" y="340020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3200400" y="340704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449" name=""/>
          <p:cNvGrpSpPr/>
          <p:nvPr/>
        </p:nvGrpSpPr>
        <p:grpSpPr>
          <a:xfrm>
            <a:off x="4343400" y="3416400"/>
            <a:ext cx="609480" cy="468720"/>
            <a:chOff x="4343400" y="3416400"/>
            <a:chExt cx="609480" cy="468720"/>
          </a:xfrm>
        </p:grpSpPr>
        <p:sp>
          <p:nvSpPr>
            <p:cNvPr id="4450" name=""/>
            <p:cNvSpPr/>
            <p:nvPr/>
          </p:nvSpPr>
          <p:spPr>
            <a:xfrm>
              <a:off x="4343400" y="3416400"/>
              <a:ext cx="609480" cy="3812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4546440" y="3416400"/>
              <a:ext cx="203040" cy="190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 flipV="1">
              <a:off x="4343400" y="3479760"/>
              <a:ext cx="609480" cy="63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4343400" y="3486600"/>
              <a:ext cx="6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454" name=""/>
          <p:cNvGrpSpPr/>
          <p:nvPr/>
        </p:nvGrpSpPr>
        <p:grpSpPr>
          <a:xfrm>
            <a:off x="5181480" y="2282760"/>
            <a:ext cx="685800" cy="552600"/>
            <a:chOff x="5181480" y="2282760"/>
            <a:chExt cx="685800" cy="552600"/>
          </a:xfrm>
        </p:grpSpPr>
        <p:sp>
          <p:nvSpPr>
            <p:cNvPr id="4455" name=""/>
            <p:cNvSpPr/>
            <p:nvPr/>
          </p:nvSpPr>
          <p:spPr>
            <a:xfrm>
              <a:off x="5181480" y="2282760"/>
              <a:ext cx="685800" cy="457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5410080" y="2282760"/>
              <a:ext cx="22860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 flipV="1">
              <a:off x="5181480" y="2358720"/>
              <a:ext cx="6858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5181480" y="23763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4459" name=""/>
          <p:cNvSpPr/>
          <p:nvPr/>
        </p:nvSpPr>
        <p:spPr>
          <a:xfrm>
            <a:off x="3559320" y="223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PTBlissMedium"/>
              </a:rPr>
              <a:t>AR2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5181480" y="2251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PTBlissMedium"/>
              </a:rPr>
              <a:t>AR1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4461" name=""/>
          <p:cNvGrpSpPr/>
          <p:nvPr/>
        </p:nvGrpSpPr>
        <p:grpSpPr>
          <a:xfrm>
            <a:off x="4419720" y="2709720"/>
            <a:ext cx="990000" cy="461520"/>
            <a:chOff x="4419720" y="2709720"/>
            <a:chExt cx="990000" cy="461520"/>
          </a:xfrm>
        </p:grpSpPr>
        <p:sp>
          <p:nvSpPr>
            <p:cNvPr id="4462" name=""/>
            <p:cNvSpPr/>
            <p:nvPr/>
          </p:nvSpPr>
          <p:spPr>
            <a:xfrm>
              <a:off x="4419720" y="2709720"/>
              <a:ext cx="990000" cy="457200"/>
            </a:xfrm>
            <a:prstGeom prst="can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4749480" y="2709720"/>
              <a:ext cx="32976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 flipV="1">
              <a:off x="4419720" y="2785680"/>
              <a:ext cx="990000" cy="759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4419720" y="2894760"/>
              <a:ext cx="990000" cy="276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MAP/GMA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4466" name=""/>
          <p:cNvSpPr/>
          <p:nvPr/>
        </p:nvSpPr>
        <p:spPr>
          <a:xfrm>
            <a:off x="4419720" y="1635120"/>
            <a:ext cx="1143000" cy="74520"/>
          </a:xfrm>
          <a:custGeom>
            <a:avLst/>
            <a:gdLst/>
            <a:ahLst/>
            <a:rect l="l" t="t" r="r" b="b"/>
            <a:pathLst>
              <a:path w="1980" h="237">
                <a:moveTo>
                  <a:pt x="0" y="237"/>
                </a:moveTo>
                <a:cubicBezTo>
                  <a:pt x="159" y="198"/>
                  <a:pt x="624" y="6"/>
                  <a:pt x="954" y="3"/>
                </a:cubicBezTo>
                <a:cubicBezTo>
                  <a:pt x="1284" y="0"/>
                  <a:pt x="1766" y="173"/>
                  <a:pt x="1980" y="21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4191120" y="2666880"/>
            <a:ext cx="380880" cy="87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 flipH="1" flipV="1">
            <a:off x="4876920" y="3211560"/>
            <a:ext cx="304560" cy="228600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5181480" y="3168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c0128"/>
                </a:solidFill>
                <a:latin typeface="PTBlissMedium"/>
              </a:rPr>
              <a:t>RCoS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4724280" y="1873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c0128"/>
                </a:solidFill>
                <a:latin typeface="PTBlissMedium"/>
              </a:rPr>
              <a:t>LCoS 1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365760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c0128"/>
                </a:solidFill>
                <a:latin typeface="PTBlissMedium"/>
              </a:rPr>
              <a:t>LCoS 2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 flipH="1" flipV="1">
            <a:off x="5105520" y="2208960"/>
            <a:ext cx="304560" cy="38124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 flipV="1">
            <a:off x="4419720" y="2133000"/>
            <a:ext cx="228600" cy="533160"/>
          </a:xfrm>
          <a:custGeom>
            <a:avLst/>
            <a:gdLst/>
            <a:ahLst/>
            <a:rect l="l" t="t" r="r" b="b"/>
            <a:pathLst>
              <a:path w="278" h="190">
                <a:moveTo>
                  <a:pt x="278" y="0"/>
                </a:moveTo>
                <a:cubicBezTo>
                  <a:pt x="260" y="17"/>
                  <a:pt x="213" y="71"/>
                  <a:pt x="167" y="103"/>
                </a:cubicBezTo>
                <a:cubicBezTo>
                  <a:pt x="121" y="135"/>
                  <a:pt x="35" y="172"/>
                  <a:pt x="0" y="19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4419720" y="1143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Domínio X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75" name="Cloud"/>
          <p:cNvSpPr/>
          <p:nvPr/>
        </p:nvSpPr>
        <p:spPr>
          <a:xfrm>
            <a:off x="1219320" y="4362480"/>
            <a:ext cx="1676160" cy="1123920"/>
          </a:xfrm>
          <a:prstGeom prst="pi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 flipH="1">
            <a:off x="2514600" y="4354560"/>
            <a:ext cx="457200" cy="30492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1752480" y="4662360"/>
            <a:ext cx="0" cy="393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 flipH="1">
            <a:off x="1174680" y="4670280"/>
            <a:ext cx="1371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79" name=""/>
          <p:cNvSpPr/>
          <p:nvPr/>
        </p:nvSpPr>
        <p:spPr>
          <a:xfrm>
            <a:off x="2095560" y="4276800"/>
            <a:ext cx="0" cy="393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4480" name=""/>
          <p:cNvGrpSpPr/>
          <p:nvPr/>
        </p:nvGrpSpPr>
        <p:grpSpPr>
          <a:xfrm>
            <a:off x="2819520" y="3962520"/>
            <a:ext cx="685800" cy="552240"/>
            <a:chOff x="2819520" y="3962520"/>
            <a:chExt cx="685800" cy="552240"/>
          </a:xfrm>
        </p:grpSpPr>
        <p:sp>
          <p:nvSpPr>
            <p:cNvPr id="4481" name=""/>
            <p:cNvSpPr/>
            <p:nvPr/>
          </p:nvSpPr>
          <p:spPr>
            <a:xfrm>
              <a:off x="2819520" y="3962520"/>
              <a:ext cx="685800" cy="4568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048120" y="3962520"/>
              <a:ext cx="228600" cy="2282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 flipV="1">
              <a:off x="2819520" y="4038480"/>
              <a:ext cx="685800" cy="75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 anchorCtr="1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2819520" y="405576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PTBlissMedium"/>
                </a:rPr>
                <a:t>Router</a:t>
              </a:r>
              <a:endParaRPr b="0" lang="en-US" sz="12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4485" name="laptop"/>
          <p:cNvSpPr/>
          <p:nvPr/>
        </p:nvSpPr>
        <p:spPr>
          <a:xfrm>
            <a:off x="1295280" y="4876920"/>
            <a:ext cx="914400" cy="53316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PTBlissMedium"/>
              </a:rPr>
              <a:t>HA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86" name=""/>
          <p:cNvSpPr/>
          <p:nvPr/>
        </p:nvSpPr>
        <p:spPr>
          <a:xfrm>
            <a:off x="914400" y="3809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99"/>
                </a:solidFill>
                <a:latin typeface="PTBlissMedium"/>
              </a:rPr>
              <a:t>Home Network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4488" name=""/>
          <p:cNvSpPr/>
          <p:nvPr/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Times New Roman"/>
              </a:rPr>
              <a:t>Sumário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89" name="PlaceHolder 2"/>
          <p:cNvSpPr>
            <a:spLocks noGrp="1"/>
          </p:cNvSpPr>
          <p:nvPr>
            <p:ph/>
          </p:nvPr>
        </p:nvSpPr>
        <p:spPr>
          <a:xfrm>
            <a:off x="1104840" y="1343160"/>
            <a:ext cx="7734240" cy="49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Introdução à mobilidade dos terminais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Mobilidade em redes IP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Descrição de funcionamento da MIPv6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Adições ao protocolo para conseguir o “always-on”.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imes New Roman"/>
              </a:rPr>
              <a:t>Implicações da MIPv6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O que se faz na PTIN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Conclusões e estado da arte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0" name="PlaceHolder 1"/>
          <p:cNvSpPr>
            <a:spLocks noGrp="1"/>
          </p:cNvSpPr>
          <p:nvPr>
            <p:ph/>
          </p:nvPr>
        </p:nvSpPr>
        <p:spPr>
          <a:xfrm>
            <a:off x="1104480" y="1294920"/>
            <a:ext cx="80391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A Mobilidade levanta alguns problemas ..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Qualidade de Serviço (QoS)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2" marL="1131480" indent="-226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alterações nos endereços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2" marL="1131480" indent="-226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quebra de reservas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2" marL="1131480" indent="-226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alteração do percurso dos pacotes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2" marL="1131480" indent="-226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soluções passam por utilizar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3" marL="1584000" indent="-226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600" spc="-1" strike="noStrike">
                <a:solidFill>
                  <a:srgbClr val="ffff99"/>
                </a:solidFill>
                <a:latin typeface="PTBlissMedium"/>
              </a:rPr>
              <a:t>BBs, Policy Brokers, etc.</a:t>
            </a:r>
            <a:endParaRPr b="0" lang="en-US" sz="1600" spc="-1" strike="noStrike">
              <a:solidFill>
                <a:srgbClr val="ffff99"/>
              </a:solidFill>
              <a:latin typeface="PTBlissMedium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Autenticação nas diversas redes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Facturação de serviços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Dimensionamento e previsão de larguras de banda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ffff99"/>
                </a:solidFill>
                <a:latin typeface="PTBlissMedium"/>
              </a:rPr>
              <a:t>entre outros. </a:t>
            </a:r>
            <a:endParaRPr b="0" lang="en-US" sz="1800" spc="-1" strike="noStrike">
              <a:solidFill>
                <a:srgbClr val="ffff99"/>
              </a:solidFill>
              <a:latin typeface="PTBlissMedium"/>
            </a:endParaRPr>
          </a:p>
        </p:txBody>
      </p:sp>
      <p:sp>
        <p:nvSpPr>
          <p:cNvPr id="4491" name=""/>
          <p:cNvSpPr/>
          <p:nvPr/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Medium"/>
              </a:rPr>
              <a:t>Mobilidade IPv6 - </a:t>
            </a:r>
            <a:r>
              <a:rPr b="1" i="1" lang="pt-PT" sz="3200" spc="-1" strike="noStrike">
                <a:solidFill>
                  <a:srgbClr val="ffff66"/>
                </a:solidFill>
                <a:latin typeface="Times New Roman"/>
              </a:rPr>
              <a:t>Implicações da MIPv6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2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4493" name=""/>
          <p:cNvSpPr/>
          <p:nvPr/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Times New Roman"/>
              </a:rPr>
              <a:t>Sumário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94" name="PlaceHolder 2"/>
          <p:cNvSpPr>
            <a:spLocks noGrp="1"/>
          </p:cNvSpPr>
          <p:nvPr>
            <p:ph/>
          </p:nvPr>
        </p:nvSpPr>
        <p:spPr>
          <a:xfrm>
            <a:off x="1104840" y="1343160"/>
            <a:ext cx="7734240" cy="49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Introdução à mobilidade dos terminais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Mobilidade em redes IP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Descrição de funcionamento da MIPv6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Adições ao protocolo para conseguir o “always-on”.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Implicações da MIPv6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imes New Roman"/>
              </a:rPr>
              <a:t>O que se faz na PTIN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Conclusões e estado da arte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Times New Roman"/>
              </a:rPr>
              <a:t>O que se faz na PTIN - Projectos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pic>
        <p:nvPicPr>
          <p:cNvPr id="4496" name="" descr=""/>
          <p:cNvPicPr/>
          <p:nvPr/>
        </p:nvPicPr>
        <p:blipFill>
          <a:blip r:embed="rId1"/>
          <a:stretch/>
        </p:blipFill>
        <p:spPr>
          <a:xfrm>
            <a:off x="1165320" y="2819520"/>
            <a:ext cx="1447560" cy="12078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4497" name="" descr=""/>
          <p:cNvPicPr/>
          <p:nvPr/>
        </p:nvPicPr>
        <p:blipFill>
          <a:blip r:embed="rId2"/>
          <a:stretch/>
        </p:blipFill>
        <p:spPr>
          <a:xfrm>
            <a:off x="1143000" y="1176480"/>
            <a:ext cx="1600200" cy="118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98" name="" descr=""/>
          <p:cNvPicPr/>
          <p:nvPr/>
        </p:nvPicPr>
        <p:blipFill>
          <a:blip r:embed="rId3"/>
          <a:stretch/>
        </p:blipFill>
        <p:spPr>
          <a:xfrm>
            <a:off x="2743200" y="2819520"/>
            <a:ext cx="5810400" cy="36385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graphicFrame>
        <p:nvGraphicFramePr>
          <p:cNvPr id="4499" name=""/>
          <p:cNvGraphicFramePr/>
          <p:nvPr/>
        </p:nvGraphicFramePr>
        <p:xfrm>
          <a:off x="5932440" y="1182600"/>
          <a:ext cx="1523880" cy="117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32440" y="1182600"/>
                    <a:ext cx="1523880" cy="1179720"/>
                  </a:xfrm>
                  <a:prstGeom prst="rect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01" name="logo-LONG" descr=""/>
          <p:cNvPicPr/>
          <p:nvPr/>
        </p:nvPicPr>
        <p:blipFill>
          <a:blip r:embed="rId6"/>
          <a:stretch/>
        </p:blipFill>
        <p:spPr>
          <a:xfrm>
            <a:off x="3962520" y="1447920"/>
            <a:ext cx="1828800" cy="565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4502" name=""/>
          <p:cNvSpPr/>
          <p:nvPr/>
        </p:nvSpPr>
        <p:spPr>
          <a:xfrm>
            <a:off x="2971800" y="2666880"/>
            <a:ext cx="59436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503" name="" descr=""/>
          <p:cNvPicPr/>
          <p:nvPr/>
        </p:nvPicPr>
        <p:blipFill>
          <a:blip r:embed="rId7"/>
          <a:stretch/>
        </p:blipFill>
        <p:spPr>
          <a:xfrm>
            <a:off x="7620120" y="1195560"/>
            <a:ext cx="1371600" cy="11556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4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Times New Roman"/>
              </a:rPr>
              <a:t>O que se faz na PTIN - Cenários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4505" name=""/>
          <p:cNvSpPr/>
          <p:nvPr/>
        </p:nvSpPr>
        <p:spPr>
          <a:xfrm>
            <a:off x="1219320" y="1295280"/>
            <a:ext cx="274320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ffff00"/>
                </a:solidFill>
                <a:uFillTx/>
                <a:latin typeface="Arial"/>
              </a:rPr>
              <a:t>Cenários</a:t>
            </a: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00"/>
                </a:solidFill>
                <a:latin typeface="Arial"/>
              </a:rPr>
              <a:t>- LANs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00"/>
                </a:solidFill>
                <a:latin typeface="Arial"/>
              </a:rPr>
              <a:t>- Wireless LANs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00"/>
                </a:solidFill>
                <a:latin typeface="Arial"/>
              </a:rPr>
              <a:t>- 3G (futuramente)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 flipH="1">
            <a:off x="3886200" y="5410080"/>
            <a:ext cx="76320" cy="4572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3505320" y="3124080"/>
            <a:ext cx="457200" cy="129564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508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637920" cy="422280"/>
          </a:xfrm>
          <a:prstGeom prst="rect">
            <a:avLst/>
          </a:prstGeom>
          <a:ln w="0">
            <a:noFill/>
          </a:ln>
        </p:spPr>
      </p:pic>
      <p:sp>
        <p:nvSpPr>
          <p:cNvPr id="4509" name=""/>
          <p:cNvSpPr/>
          <p:nvPr/>
        </p:nvSpPr>
        <p:spPr>
          <a:xfrm>
            <a:off x="2590920" y="3352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99"/>
                </a:solidFill>
                <a:latin typeface="Arial"/>
              </a:rPr>
              <a:t>Telebit AXI162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510" name="" descr=""/>
          <p:cNvPicPr/>
          <p:nvPr/>
        </p:nvPicPr>
        <p:blipFill>
          <a:blip r:embed="rId2"/>
          <a:stretch/>
        </p:blipFill>
        <p:spPr>
          <a:xfrm>
            <a:off x="2697120" y="4351320"/>
            <a:ext cx="2286000" cy="1189080"/>
          </a:xfrm>
          <a:prstGeom prst="rect">
            <a:avLst/>
          </a:prstGeom>
          <a:ln w="0">
            <a:noFill/>
          </a:ln>
        </p:spPr>
      </p:pic>
      <p:pic>
        <p:nvPicPr>
          <p:cNvPr id="4511" name="" descr=""/>
          <p:cNvPicPr/>
          <p:nvPr/>
        </p:nvPicPr>
        <p:blipFill>
          <a:blip r:embed="rId3"/>
          <a:stretch/>
        </p:blipFill>
        <p:spPr>
          <a:xfrm>
            <a:off x="5410080" y="5135400"/>
            <a:ext cx="2286000" cy="1189080"/>
          </a:xfrm>
          <a:prstGeom prst="rect">
            <a:avLst/>
          </a:prstGeom>
          <a:ln w="0">
            <a:noFill/>
          </a:ln>
        </p:spPr>
      </p:pic>
      <p:sp>
        <p:nvSpPr>
          <p:cNvPr id="4512" name=""/>
          <p:cNvSpPr/>
          <p:nvPr/>
        </p:nvSpPr>
        <p:spPr>
          <a:xfrm flipV="1">
            <a:off x="3581280" y="1447560"/>
            <a:ext cx="685800" cy="14475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>
            <a:off x="3886200" y="1143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99"/>
                </a:solidFill>
                <a:latin typeface="Arial"/>
              </a:rPr>
              <a:t>6Bone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>
            <a:off x="5518080" y="4502160"/>
            <a:ext cx="6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c0128"/>
                </a:solidFill>
                <a:latin typeface="Arial"/>
              </a:rPr>
              <a:t>HA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4515" name=""/>
          <p:cNvGraphicFramePr/>
          <p:nvPr/>
        </p:nvGraphicFramePr>
        <p:xfrm>
          <a:off x="3809880" y="5715000"/>
          <a:ext cx="53352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5715000"/>
                    <a:ext cx="533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7" name=""/>
          <p:cNvSpPr/>
          <p:nvPr/>
        </p:nvSpPr>
        <p:spPr>
          <a:xfrm>
            <a:off x="3657600" y="5486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99"/>
                </a:solidFill>
                <a:latin typeface="Arial"/>
              </a:rPr>
              <a:t>DNS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3170160" y="4830840"/>
            <a:ext cx="16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3ffe:3103:0:10::/64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5851440" y="5592600"/>
            <a:ext cx="16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3ffe:3103:0:202::/64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520" name="EndUserCiscoWks" descr=""/>
          <p:cNvPicPr/>
          <p:nvPr/>
        </p:nvPicPr>
        <p:blipFill>
          <a:blip r:embed="rId6"/>
          <a:stretch/>
        </p:blipFill>
        <p:spPr>
          <a:xfrm>
            <a:off x="6477120" y="4830840"/>
            <a:ext cx="568080" cy="772920"/>
          </a:xfrm>
          <a:prstGeom prst="rect">
            <a:avLst/>
          </a:prstGeom>
          <a:ln w="0">
            <a:noFill/>
          </a:ln>
        </p:spPr>
      </p:pic>
      <p:pic>
        <p:nvPicPr>
          <p:cNvPr id="4521" name="EndUserCiscoWks" descr=""/>
          <p:cNvPicPr/>
          <p:nvPr/>
        </p:nvPicPr>
        <p:blipFill>
          <a:blip r:embed="rId7"/>
          <a:stretch/>
        </p:blipFill>
        <p:spPr>
          <a:xfrm>
            <a:off x="3230640" y="3863880"/>
            <a:ext cx="568080" cy="773280"/>
          </a:xfrm>
          <a:prstGeom prst="rect">
            <a:avLst/>
          </a:prstGeom>
          <a:ln w="0">
            <a:noFill/>
          </a:ln>
        </p:spPr>
      </p:pic>
      <p:pic>
        <p:nvPicPr>
          <p:cNvPr id="4522" name="EndUser%20Female" descr=""/>
          <p:cNvPicPr/>
          <p:nvPr/>
        </p:nvPicPr>
        <p:blipFill>
          <a:blip r:embed="rId8"/>
          <a:stretch/>
        </p:blipFill>
        <p:spPr>
          <a:xfrm>
            <a:off x="6964200" y="4906800"/>
            <a:ext cx="551160" cy="871560"/>
          </a:xfrm>
          <a:prstGeom prst="rect">
            <a:avLst/>
          </a:prstGeom>
          <a:ln w="0">
            <a:noFill/>
          </a:ln>
        </p:spPr>
      </p:pic>
      <p:pic>
        <p:nvPicPr>
          <p:cNvPr id="4523" name="EndUser%20Female" descr=""/>
          <p:cNvPicPr/>
          <p:nvPr/>
        </p:nvPicPr>
        <p:blipFill>
          <a:blip r:embed="rId9"/>
          <a:stretch/>
        </p:blipFill>
        <p:spPr>
          <a:xfrm>
            <a:off x="4038480" y="3809880"/>
            <a:ext cx="551160" cy="87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4" name=""/>
          <p:cNvGraphicFramePr/>
          <p:nvPr/>
        </p:nvGraphicFramePr>
        <p:xfrm>
          <a:off x="7315200" y="3352680"/>
          <a:ext cx="971640" cy="71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5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315200" y="3352680"/>
                    <a:ext cx="97164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6" name=""/>
          <p:cNvSpPr/>
          <p:nvPr/>
        </p:nvSpPr>
        <p:spPr>
          <a:xfrm flipV="1">
            <a:off x="4952880" y="3885840"/>
            <a:ext cx="2362320" cy="762120"/>
          </a:xfrm>
          <a:prstGeom prst="line">
            <a:avLst/>
          </a:prstGeom>
          <a:ln w="9360">
            <a:solidFill>
              <a:srgbClr val="99ff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>
            <a:off x="4952880" y="1676520"/>
            <a:ext cx="2438640" cy="1904760"/>
          </a:xfrm>
          <a:prstGeom prst="line">
            <a:avLst/>
          </a:prstGeom>
          <a:ln w="9360">
            <a:solidFill>
              <a:srgbClr val="99ff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>
            <a:off x="6629400" y="1752480"/>
            <a:ext cx="1066680" cy="1447920"/>
          </a:xfrm>
          <a:prstGeom prst="line">
            <a:avLst/>
          </a:prstGeom>
          <a:ln w="9360">
            <a:solidFill>
              <a:srgbClr val="99ff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7774200" y="41133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99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 flipV="1">
            <a:off x="7086600" y="4038120"/>
            <a:ext cx="533520" cy="762120"/>
          </a:xfrm>
          <a:prstGeom prst="line">
            <a:avLst/>
          </a:prstGeom>
          <a:ln w="9360">
            <a:solidFill>
              <a:srgbClr val="99ff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 flipV="1">
            <a:off x="3581280" y="1447560"/>
            <a:ext cx="1219320" cy="14475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4495680" y="1143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99"/>
                </a:solidFill>
                <a:latin typeface="Arial"/>
              </a:rPr>
              <a:t>FCCN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 flipV="1">
            <a:off x="3657600" y="1447920"/>
            <a:ext cx="1752480" cy="13716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5181480" y="1143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99"/>
                </a:solidFill>
                <a:latin typeface="Arial"/>
              </a:rPr>
              <a:t>PT Com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 flipV="1">
            <a:off x="3657600" y="1447920"/>
            <a:ext cx="2362320" cy="13716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 flipV="1">
            <a:off x="3657600" y="1599840"/>
            <a:ext cx="2895480" cy="12193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 flipV="1">
            <a:off x="3581280" y="1904760"/>
            <a:ext cx="3810240" cy="9903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538" name="" descr=""/>
          <p:cNvPicPr/>
          <p:nvPr/>
        </p:nvPicPr>
        <p:blipFill>
          <a:blip r:embed="rId12"/>
          <a:stretch/>
        </p:blipFill>
        <p:spPr>
          <a:xfrm>
            <a:off x="3048120" y="2819520"/>
            <a:ext cx="637920" cy="422280"/>
          </a:xfrm>
          <a:prstGeom prst="rect">
            <a:avLst/>
          </a:prstGeom>
          <a:ln w="0">
            <a:noFill/>
          </a:ln>
        </p:spPr>
      </p:pic>
      <p:sp>
        <p:nvSpPr>
          <p:cNvPr id="4539" name=""/>
          <p:cNvSpPr/>
          <p:nvPr/>
        </p:nvSpPr>
        <p:spPr>
          <a:xfrm>
            <a:off x="5867280" y="11732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99"/>
                </a:solidFill>
                <a:latin typeface="Arial"/>
              </a:rPr>
              <a:t>Euro6IX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6477120" y="14018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99"/>
                </a:solidFill>
                <a:latin typeface="Arial"/>
              </a:rPr>
              <a:t>LONG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7315200" y="1782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99"/>
                </a:solidFill>
                <a:latin typeface="Arial"/>
              </a:rPr>
              <a:t>Moby Dick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>
            <a:off x="3657600" y="3124080"/>
            <a:ext cx="1828800" cy="18288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543" name="" descr=""/>
          <p:cNvPicPr/>
          <p:nvPr/>
        </p:nvPicPr>
        <p:blipFill>
          <a:blip r:embed="rId13"/>
          <a:stretch/>
        </p:blipFill>
        <p:spPr>
          <a:xfrm>
            <a:off x="5334120" y="4830840"/>
            <a:ext cx="823680" cy="547560"/>
          </a:xfrm>
          <a:prstGeom prst="rect">
            <a:avLst/>
          </a:prstGeom>
          <a:ln w="0">
            <a:noFill/>
          </a:ln>
        </p:spPr>
      </p:pic>
      <p:sp>
        <p:nvSpPr>
          <p:cNvPr id="4544" name=""/>
          <p:cNvSpPr/>
          <p:nvPr/>
        </p:nvSpPr>
        <p:spPr>
          <a:xfrm>
            <a:off x="5410080" y="1600200"/>
            <a:ext cx="2057400" cy="1828800"/>
          </a:xfrm>
          <a:prstGeom prst="line">
            <a:avLst/>
          </a:prstGeom>
          <a:ln w="9360">
            <a:solidFill>
              <a:srgbClr val="99ff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6095880" y="1523880"/>
            <a:ext cx="1447920" cy="1752840"/>
          </a:xfrm>
          <a:prstGeom prst="line">
            <a:avLst/>
          </a:prstGeom>
          <a:ln w="9360">
            <a:solidFill>
              <a:srgbClr val="99ff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46" name=""/>
          <p:cNvSpPr/>
          <p:nvPr/>
        </p:nvSpPr>
        <p:spPr>
          <a:xfrm>
            <a:off x="7315200" y="1981080"/>
            <a:ext cx="609480" cy="1295640"/>
          </a:xfrm>
          <a:prstGeom prst="line">
            <a:avLst/>
          </a:prstGeom>
          <a:ln w="9360">
            <a:solidFill>
              <a:srgbClr val="99ff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47" name=""/>
          <p:cNvSpPr/>
          <p:nvPr/>
        </p:nvSpPr>
        <p:spPr>
          <a:xfrm flipH="1">
            <a:off x="3352680" y="5334120"/>
            <a:ext cx="76320" cy="4572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4548" name=""/>
          <p:cNvGraphicFramePr/>
          <p:nvPr/>
        </p:nvGraphicFramePr>
        <p:xfrm>
          <a:off x="3276720" y="5638680"/>
          <a:ext cx="533160" cy="609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54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76720" y="5638680"/>
                    <a:ext cx="5331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0" name=""/>
          <p:cNvSpPr/>
          <p:nvPr/>
        </p:nvSpPr>
        <p:spPr>
          <a:xfrm>
            <a:off x="3124080" y="5410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99"/>
                </a:solidFill>
                <a:latin typeface="Arial"/>
              </a:rPr>
              <a:t>IRC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 flipH="1">
            <a:off x="2819160" y="5257800"/>
            <a:ext cx="75960" cy="4572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4552" name=""/>
          <p:cNvGraphicFramePr/>
          <p:nvPr/>
        </p:nvGraphicFramePr>
        <p:xfrm>
          <a:off x="2743200" y="5562720"/>
          <a:ext cx="533520" cy="609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55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743200" y="5562720"/>
                    <a:ext cx="533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4" name=""/>
          <p:cNvSpPr/>
          <p:nvPr/>
        </p:nvSpPr>
        <p:spPr>
          <a:xfrm>
            <a:off x="2590920" y="5334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99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 flipH="1">
            <a:off x="2209680" y="4876920"/>
            <a:ext cx="533520" cy="4572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4556" name=""/>
          <p:cNvGraphicFramePr/>
          <p:nvPr/>
        </p:nvGraphicFramePr>
        <p:xfrm>
          <a:off x="2133720" y="5181480"/>
          <a:ext cx="533160" cy="609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55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133720" y="5181480"/>
                    <a:ext cx="5331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8" name=""/>
          <p:cNvSpPr/>
          <p:nvPr/>
        </p:nvSpPr>
        <p:spPr>
          <a:xfrm>
            <a:off x="1981080" y="4952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99"/>
                </a:solidFill>
                <a:latin typeface="Arial"/>
              </a:rPr>
              <a:t>WEB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 flipH="1">
            <a:off x="5943600" y="5923080"/>
            <a:ext cx="76320" cy="4572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4560" name=""/>
          <p:cNvGraphicFramePr/>
          <p:nvPr/>
        </p:nvGraphicFramePr>
        <p:xfrm>
          <a:off x="5638680" y="6227640"/>
          <a:ext cx="533520" cy="609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56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638680" y="6227640"/>
                    <a:ext cx="5335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2" name=""/>
          <p:cNvSpPr/>
          <p:nvPr/>
        </p:nvSpPr>
        <p:spPr>
          <a:xfrm flipH="1">
            <a:off x="5410080" y="5846760"/>
            <a:ext cx="76320" cy="4572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4563" name=""/>
          <p:cNvGraphicFramePr/>
          <p:nvPr/>
        </p:nvGraphicFramePr>
        <p:xfrm>
          <a:off x="5105520" y="6151680"/>
          <a:ext cx="533160" cy="609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56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105520" y="6151680"/>
                    <a:ext cx="533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5" name=""/>
          <p:cNvSpPr/>
          <p:nvPr/>
        </p:nvSpPr>
        <p:spPr>
          <a:xfrm>
            <a:off x="4964040" y="5923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99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 flipH="1">
            <a:off x="4800600" y="5715000"/>
            <a:ext cx="838080" cy="2080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4567" name=""/>
          <p:cNvGraphicFramePr/>
          <p:nvPr/>
        </p:nvGraphicFramePr>
        <p:xfrm>
          <a:off x="4724280" y="5770440"/>
          <a:ext cx="533520" cy="6098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568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724280" y="5770440"/>
                    <a:ext cx="5335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9" name=""/>
          <p:cNvSpPr/>
          <p:nvPr/>
        </p:nvSpPr>
        <p:spPr>
          <a:xfrm>
            <a:off x="4572000" y="55418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99"/>
                </a:solidFill>
                <a:latin typeface="Arial"/>
              </a:rPr>
              <a:t>WEB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5867280" y="6354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99"/>
                </a:solidFill>
                <a:latin typeface="Arial"/>
              </a:rPr>
              <a:t>IRC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 flipH="1">
            <a:off x="2361960" y="4800600"/>
            <a:ext cx="75960" cy="4572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 flipH="1">
            <a:off x="1752120" y="4724280"/>
            <a:ext cx="1219320" cy="15264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4573" name=""/>
          <p:cNvGraphicFramePr/>
          <p:nvPr/>
        </p:nvGraphicFramePr>
        <p:xfrm>
          <a:off x="1676520" y="4724280"/>
          <a:ext cx="533160" cy="6098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574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676520" y="4724280"/>
                    <a:ext cx="5331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5" name=""/>
          <p:cNvSpPr/>
          <p:nvPr/>
        </p:nvSpPr>
        <p:spPr>
          <a:xfrm>
            <a:off x="1295280" y="4419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99"/>
                </a:solidFill>
                <a:latin typeface="Arial"/>
              </a:rPr>
              <a:t>MULTIMÉDIA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4576" name=""/>
          <p:cNvGrpSpPr/>
          <p:nvPr/>
        </p:nvGrpSpPr>
        <p:grpSpPr>
          <a:xfrm>
            <a:off x="8099280" y="3298320"/>
            <a:ext cx="206640" cy="153000"/>
            <a:chOff x="8099280" y="3298320"/>
            <a:chExt cx="206640" cy="153000"/>
          </a:xfrm>
        </p:grpSpPr>
        <p:sp>
          <p:nvSpPr>
            <p:cNvPr id="4577" name=""/>
            <p:cNvSpPr/>
            <p:nvPr/>
          </p:nvSpPr>
          <p:spPr>
            <a:xfrm>
              <a:off x="8148240" y="3329640"/>
              <a:ext cx="107280" cy="2232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8122680" y="3321000"/>
              <a:ext cx="157320" cy="3852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8188920" y="3298680"/>
              <a:ext cx="25200" cy="152640"/>
            </a:xfrm>
            <a:custGeom>
              <a:avLst/>
              <a:gdLst/>
              <a:ahLst/>
              <a:rect l="l" t="t" r="r" b="b"/>
              <a:pathLst>
                <a:path w="30" h="182">
                  <a:moveTo>
                    <a:pt x="2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0" y="182"/>
                  </a:lnTo>
                  <a:lnTo>
                    <a:pt x="20" y="182"/>
                  </a:lnTo>
                  <a:lnTo>
                    <a:pt x="30" y="182"/>
                  </a:lnTo>
                  <a:lnTo>
                    <a:pt x="30" y="172"/>
                  </a:lnTo>
                  <a:lnTo>
                    <a:pt x="3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8188920" y="3298680"/>
              <a:ext cx="25200" cy="75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0" y="9"/>
                  </a:lnTo>
                  <a:lnTo>
                    <a:pt x="10" y="9"/>
                  </a:lnTo>
                  <a:lnTo>
                    <a:pt x="20" y="9"/>
                  </a:lnTo>
                  <a:lnTo>
                    <a:pt x="30" y="9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8188920" y="3359160"/>
              <a:ext cx="165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8188920" y="3351240"/>
              <a:ext cx="165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8188920" y="3343680"/>
              <a:ext cx="165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 flipV="1">
              <a:off x="8214120" y="3350880"/>
              <a:ext cx="720" cy="9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 flipV="1">
              <a:off x="8188920" y="3359160"/>
              <a:ext cx="720" cy="9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8099280" y="3313440"/>
              <a:ext cx="206640" cy="5436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8188920" y="3298680"/>
              <a:ext cx="33480" cy="316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 flipV="1">
              <a:off x="8214120" y="3298320"/>
              <a:ext cx="720" cy="3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 flipV="1">
              <a:off x="8188920" y="3298320"/>
              <a:ext cx="720" cy="3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590" name=""/>
          <p:cNvGrpSpPr/>
          <p:nvPr/>
        </p:nvGrpSpPr>
        <p:grpSpPr>
          <a:xfrm>
            <a:off x="2895480" y="4266720"/>
            <a:ext cx="387360" cy="353520"/>
            <a:chOff x="2895480" y="4266720"/>
            <a:chExt cx="387360" cy="353520"/>
          </a:xfrm>
        </p:grpSpPr>
        <p:sp>
          <p:nvSpPr>
            <p:cNvPr id="4591" name=""/>
            <p:cNvSpPr/>
            <p:nvPr/>
          </p:nvSpPr>
          <p:spPr>
            <a:xfrm>
              <a:off x="3095280" y="4525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6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3095280" y="4525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6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2923920" y="452592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2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4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2923920" y="452592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2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4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3095280" y="4525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7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3095280" y="4525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7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2923920" y="452592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3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5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2923920" y="452592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3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5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2987280" y="4326120"/>
              <a:ext cx="201600" cy="4284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2939760" y="4309920"/>
              <a:ext cx="295200" cy="7308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3063600" y="4267080"/>
              <a:ext cx="47520" cy="289080"/>
            </a:xfrm>
            <a:custGeom>
              <a:avLst/>
              <a:gdLst/>
              <a:ahLst/>
              <a:rect l="l" t="t" r="r" b="b"/>
              <a:pathLst>
                <a:path w="30" h="182">
                  <a:moveTo>
                    <a:pt x="2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0" y="182"/>
                  </a:lnTo>
                  <a:lnTo>
                    <a:pt x="20" y="182"/>
                  </a:lnTo>
                  <a:lnTo>
                    <a:pt x="30" y="182"/>
                  </a:lnTo>
                  <a:lnTo>
                    <a:pt x="30" y="172"/>
                  </a:lnTo>
                  <a:lnTo>
                    <a:pt x="3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3063600" y="4267080"/>
              <a:ext cx="47520" cy="144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0" y="9"/>
                  </a:lnTo>
                  <a:lnTo>
                    <a:pt x="10" y="9"/>
                  </a:lnTo>
                  <a:lnTo>
                    <a:pt x="20" y="9"/>
                  </a:lnTo>
                  <a:lnTo>
                    <a:pt x="30" y="9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3063600" y="438156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3063600" y="436716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3063600" y="435276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 flipV="1">
              <a:off x="3111120" y="4366800"/>
              <a:ext cx="1800" cy="173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 flipV="1">
              <a:off x="3063600" y="4381200"/>
              <a:ext cx="1440" cy="174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2895480" y="4295880"/>
              <a:ext cx="387360" cy="10296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3063600" y="4267080"/>
              <a:ext cx="63360" cy="604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 flipV="1">
              <a:off x="3111120" y="4266720"/>
              <a:ext cx="1800" cy="7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 flipV="1">
              <a:off x="3063600" y="4266720"/>
              <a:ext cx="1440" cy="7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2930400" y="4448160"/>
              <a:ext cx="307800" cy="15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2974680" y="4437000"/>
              <a:ext cx="23832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6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tio</a:t>
              </a:r>
              <a:endParaRPr b="0" lang="en-US" sz="6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614" name=""/>
          <p:cNvGrpSpPr/>
          <p:nvPr/>
        </p:nvGrpSpPr>
        <p:grpSpPr>
          <a:xfrm>
            <a:off x="7543800" y="5436720"/>
            <a:ext cx="387360" cy="353520"/>
            <a:chOff x="7543800" y="5436720"/>
            <a:chExt cx="387360" cy="353520"/>
          </a:xfrm>
        </p:grpSpPr>
        <p:sp>
          <p:nvSpPr>
            <p:cNvPr id="4615" name=""/>
            <p:cNvSpPr/>
            <p:nvPr/>
          </p:nvSpPr>
          <p:spPr>
            <a:xfrm>
              <a:off x="7743600" y="5695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6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7743600" y="5695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6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7572240" y="569592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2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4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7572240" y="569592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2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4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7743600" y="5695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7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7743600" y="5695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7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7572240" y="569592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3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5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7572240" y="569592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3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5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7635600" y="5496120"/>
              <a:ext cx="201600" cy="4284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7588080" y="5479920"/>
              <a:ext cx="295200" cy="7308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7711920" y="5437080"/>
              <a:ext cx="47520" cy="289080"/>
            </a:xfrm>
            <a:custGeom>
              <a:avLst/>
              <a:gdLst/>
              <a:ahLst/>
              <a:rect l="l" t="t" r="r" b="b"/>
              <a:pathLst>
                <a:path w="30" h="182">
                  <a:moveTo>
                    <a:pt x="2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0" y="182"/>
                  </a:lnTo>
                  <a:lnTo>
                    <a:pt x="20" y="182"/>
                  </a:lnTo>
                  <a:lnTo>
                    <a:pt x="30" y="182"/>
                  </a:lnTo>
                  <a:lnTo>
                    <a:pt x="30" y="172"/>
                  </a:lnTo>
                  <a:lnTo>
                    <a:pt x="3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7711920" y="5437080"/>
              <a:ext cx="47520" cy="144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0" y="9"/>
                  </a:lnTo>
                  <a:lnTo>
                    <a:pt x="10" y="9"/>
                  </a:lnTo>
                  <a:lnTo>
                    <a:pt x="20" y="9"/>
                  </a:lnTo>
                  <a:lnTo>
                    <a:pt x="30" y="9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7711920" y="555156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7711920" y="553716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7711920" y="552276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 flipV="1">
              <a:off x="7759440" y="5536800"/>
              <a:ext cx="1800" cy="173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 flipV="1">
              <a:off x="7711920" y="5551200"/>
              <a:ext cx="1440" cy="174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7543800" y="5465880"/>
              <a:ext cx="387360" cy="10296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7711920" y="5437080"/>
              <a:ext cx="63360" cy="604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 flipV="1">
              <a:off x="7759440" y="5436720"/>
              <a:ext cx="1800" cy="7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 flipV="1">
              <a:off x="7711920" y="5436720"/>
              <a:ext cx="1440" cy="7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7578720" y="5618160"/>
              <a:ext cx="307800" cy="15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7623000" y="5607000"/>
              <a:ext cx="23832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6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tio</a:t>
              </a:r>
              <a:endParaRPr b="0" lang="en-US" sz="6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Times New Roman"/>
              </a:rPr>
              <a:t>O que se faz na PTIN - Exemplos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grpSp>
        <p:nvGrpSpPr>
          <p:cNvPr id="4639" name=""/>
          <p:cNvGrpSpPr/>
          <p:nvPr/>
        </p:nvGrpSpPr>
        <p:grpSpPr>
          <a:xfrm>
            <a:off x="1219320" y="1023840"/>
            <a:ext cx="5181480" cy="3853080"/>
            <a:chOff x="1219320" y="1023840"/>
            <a:chExt cx="5181480" cy="3853080"/>
          </a:xfrm>
        </p:grpSpPr>
        <p:sp>
          <p:nvSpPr>
            <p:cNvPr id="4640" name=""/>
            <p:cNvSpPr/>
            <p:nvPr/>
          </p:nvSpPr>
          <p:spPr>
            <a:xfrm>
              <a:off x="1219320" y="1023840"/>
              <a:ext cx="213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00"/>
                  </a:solidFill>
                  <a:uFillTx/>
                  <a:latin typeface="Arial"/>
                </a:rPr>
                <a:t>Exemplo1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pic>
          <p:nvPicPr>
            <p:cNvPr id="4641" name="" descr=""/>
            <p:cNvPicPr/>
            <p:nvPr/>
          </p:nvPicPr>
          <p:blipFill>
            <a:blip r:embed="rId1"/>
            <a:stretch/>
          </p:blipFill>
          <p:spPr>
            <a:xfrm>
              <a:off x="1219320" y="1371600"/>
              <a:ext cx="5181480" cy="35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2" name="" descr=""/>
            <p:cNvPicPr/>
            <p:nvPr/>
          </p:nvPicPr>
          <p:blipFill>
            <a:blip r:embed="rId2"/>
            <a:stretch/>
          </p:blipFill>
          <p:spPr>
            <a:xfrm>
              <a:off x="1228680" y="2127240"/>
              <a:ext cx="4856040" cy="1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3" name="" descr=""/>
            <p:cNvPicPr/>
            <p:nvPr/>
          </p:nvPicPr>
          <p:blipFill>
            <a:blip r:embed="rId3"/>
            <a:stretch/>
          </p:blipFill>
          <p:spPr>
            <a:xfrm>
              <a:off x="1238400" y="2249640"/>
              <a:ext cx="486396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4" name="" descr=""/>
            <p:cNvPicPr/>
            <p:nvPr/>
          </p:nvPicPr>
          <p:blipFill>
            <a:blip r:embed="rId4"/>
            <a:stretch/>
          </p:blipFill>
          <p:spPr>
            <a:xfrm>
              <a:off x="1247760" y="2382840"/>
              <a:ext cx="484812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5" name="" descr=""/>
            <p:cNvPicPr/>
            <p:nvPr/>
          </p:nvPicPr>
          <p:blipFill>
            <a:blip r:embed="rId5"/>
            <a:stretch/>
          </p:blipFill>
          <p:spPr>
            <a:xfrm>
              <a:off x="1238400" y="2502000"/>
              <a:ext cx="4873320" cy="1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6" name="" descr=""/>
            <p:cNvPicPr/>
            <p:nvPr/>
          </p:nvPicPr>
          <p:blipFill>
            <a:blip r:embed="rId6"/>
            <a:stretch/>
          </p:blipFill>
          <p:spPr>
            <a:xfrm>
              <a:off x="1238400" y="2633760"/>
              <a:ext cx="48830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7" name="" descr=""/>
            <p:cNvPicPr/>
            <p:nvPr/>
          </p:nvPicPr>
          <p:blipFill>
            <a:blip r:embed="rId7"/>
            <a:stretch/>
          </p:blipFill>
          <p:spPr>
            <a:xfrm>
              <a:off x="1257480" y="2744640"/>
              <a:ext cx="484812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8" name="" descr=""/>
            <p:cNvPicPr/>
            <p:nvPr/>
          </p:nvPicPr>
          <p:blipFill>
            <a:blip r:embed="rId8"/>
            <a:stretch/>
          </p:blipFill>
          <p:spPr>
            <a:xfrm>
              <a:off x="1228680" y="2865600"/>
              <a:ext cx="486576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9" name="" descr=""/>
            <p:cNvPicPr/>
            <p:nvPr/>
          </p:nvPicPr>
          <p:blipFill>
            <a:blip r:embed="rId9"/>
            <a:stretch/>
          </p:blipFill>
          <p:spPr>
            <a:xfrm>
              <a:off x="1262160" y="1774800"/>
              <a:ext cx="491004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0" name="" descr=""/>
            <p:cNvPicPr/>
            <p:nvPr/>
          </p:nvPicPr>
          <p:blipFill>
            <a:blip r:embed="rId10"/>
            <a:stretch/>
          </p:blipFill>
          <p:spPr>
            <a:xfrm>
              <a:off x="1251000" y="2992320"/>
              <a:ext cx="362592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1" name="" descr=""/>
            <p:cNvPicPr/>
            <p:nvPr/>
          </p:nvPicPr>
          <p:blipFill>
            <a:blip r:embed="rId11"/>
            <a:stretch/>
          </p:blipFill>
          <p:spPr>
            <a:xfrm>
              <a:off x="4807080" y="4670280"/>
              <a:ext cx="9180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2" name="" descr=""/>
            <p:cNvPicPr/>
            <p:nvPr/>
          </p:nvPicPr>
          <p:blipFill>
            <a:blip r:embed="rId12"/>
            <a:stretch/>
          </p:blipFill>
          <p:spPr>
            <a:xfrm>
              <a:off x="4888080" y="4681440"/>
              <a:ext cx="87120" cy="1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3" name="" descr=""/>
            <p:cNvPicPr/>
            <p:nvPr/>
          </p:nvPicPr>
          <p:blipFill>
            <a:blip r:embed="rId13"/>
            <a:stretch/>
          </p:blipFill>
          <p:spPr>
            <a:xfrm>
              <a:off x="4964040" y="4678200"/>
              <a:ext cx="87480" cy="1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4" name="" descr=""/>
            <p:cNvPicPr/>
            <p:nvPr/>
          </p:nvPicPr>
          <p:blipFill>
            <a:blip r:embed="rId14"/>
            <a:stretch/>
          </p:blipFill>
          <p:spPr>
            <a:xfrm>
              <a:off x="5049720" y="4681440"/>
              <a:ext cx="87480" cy="1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5" name="" descr=""/>
            <p:cNvPicPr/>
            <p:nvPr/>
          </p:nvPicPr>
          <p:blipFill>
            <a:blip r:embed="rId15"/>
            <a:stretch/>
          </p:blipFill>
          <p:spPr>
            <a:xfrm>
              <a:off x="5127480" y="4672080"/>
              <a:ext cx="9216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6" name="" descr=""/>
            <p:cNvPicPr/>
            <p:nvPr/>
          </p:nvPicPr>
          <p:blipFill>
            <a:blip r:embed="rId16"/>
            <a:stretch/>
          </p:blipFill>
          <p:spPr>
            <a:xfrm>
              <a:off x="5208480" y="4683240"/>
              <a:ext cx="87480" cy="1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7" name="" descr=""/>
            <p:cNvPicPr/>
            <p:nvPr/>
          </p:nvPicPr>
          <p:blipFill>
            <a:blip r:embed="rId17"/>
            <a:stretch/>
          </p:blipFill>
          <p:spPr>
            <a:xfrm>
              <a:off x="5284800" y="4680000"/>
              <a:ext cx="87480" cy="1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8" name="" descr=""/>
            <p:cNvPicPr/>
            <p:nvPr/>
          </p:nvPicPr>
          <p:blipFill>
            <a:blip r:embed="rId18"/>
            <a:stretch/>
          </p:blipFill>
          <p:spPr>
            <a:xfrm>
              <a:off x="5370480" y="4683240"/>
              <a:ext cx="87480" cy="1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9" name="" descr=""/>
            <p:cNvPicPr/>
            <p:nvPr/>
          </p:nvPicPr>
          <p:blipFill>
            <a:blip r:embed="rId19"/>
            <a:stretch/>
          </p:blipFill>
          <p:spPr>
            <a:xfrm>
              <a:off x="5448240" y="4673520"/>
              <a:ext cx="9216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0" name="" descr=""/>
            <p:cNvPicPr/>
            <p:nvPr/>
          </p:nvPicPr>
          <p:blipFill>
            <a:blip r:embed="rId20"/>
            <a:stretch/>
          </p:blipFill>
          <p:spPr>
            <a:xfrm>
              <a:off x="5529240" y="4673520"/>
              <a:ext cx="87480" cy="1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61" name=""/>
          <p:cNvGrpSpPr/>
          <p:nvPr/>
        </p:nvGrpSpPr>
        <p:grpSpPr>
          <a:xfrm>
            <a:off x="3929040" y="1328760"/>
            <a:ext cx="5214960" cy="5232240"/>
            <a:chOff x="3929040" y="1328760"/>
            <a:chExt cx="5214960" cy="5232240"/>
          </a:xfrm>
        </p:grpSpPr>
        <p:sp>
          <p:nvSpPr>
            <p:cNvPr id="4662" name=""/>
            <p:cNvSpPr/>
            <p:nvPr/>
          </p:nvSpPr>
          <p:spPr>
            <a:xfrm>
              <a:off x="7696080" y="1328760"/>
              <a:ext cx="144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00"/>
                  </a:solidFill>
                  <a:uFillTx/>
                  <a:latin typeface="Arial"/>
                </a:rPr>
                <a:t>Exemplo2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pic>
          <p:nvPicPr>
            <p:cNvPr id="4663" name="" descr=""/>
            <p:cNvPicPr/>
            <p:nvPr/>
          </p:nvPicPr>
          <p:blipFill>
            <a:blip r:embed="rId21"/>
            <a:stretch/>
          </p:blipFill>
          <p:spPr>
            <a:xfrm>
              <a:off x="3929040" y="1676520"/>
              <a:ext cx="5181480" cy="48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4" name="" descr=""/>
            <p:cNvPicPr/>
            <p:nvPr/>
          </p:nvPicPr>
          <p:blipFill>
            <a:blip r:embed="rId22"/>
            <a:stretch/>
          </p:blipFill>
          <p:spPr>
            <a:xfrm>
              <a:off x="4800600" y="3657600"/>
              <a:ext cx="3567240" cy="121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5" name="PlaceHolder 1"/>
          <p:cNvSpPr>
            <a:spLocks noGrp="1"/>
          </p:cNvSpPr>
          <p:nvPr>
            <p:ph type="title"/>
          </p:nvPr>
        </p:nvSpPr>
        <p:spPr>
          <a:xfrm>
            <a:off x="1104840" y="347040"/>
            <a:ext cx="78868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4666" name=""/>
          <p:cNvSpPr/>
          <p:nvPr/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Times New Roman"/>
              </a:rPr>
              <a:t>Sumário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1104840" y="1343160"/>
            <a:ext cx="7734240" cy="49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Introdução à mobilidade dos terminais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Mobilidade em redes IP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Descrição de funcionamento da MIPv6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Adições ao protocolo para conseguir o “always-on”.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Implicações da MIPv6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O que se faz na PTIN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imes New Roman"/>
              </a:rPr>
              <a:t>Conclusões e estado da arte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Times New Roman"/>
              </a:rPr>
              <a:t>Sumário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4840" y="1343160"/>
            <a:ext cx="7734240" cy="49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Introdução à mobilidade dos terminais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imes New Roman"/>
              </a:rPr>
              <a:t>Mobilidade em redes IP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Descrição de funcionamento da MIPv6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Adições ao protocolo para conseguir o “always-on”.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Implicações da MIPv6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O que se faz na PTIN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400" spc="-1" strike="noStrike">
                <a:solidFill>
                  <a:srgbClr val="cecece"/>
                </a:solidFill>
                <a:latin typeface="Times New Roman"/>
              </a:rPr>
              <a:t>Conclusões e estado da arte</a:t>
            </a:r>
            <a:endParaRPr b="0" lang="en-US" sz="24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Times New Roman"/>
              </a:rPr>
              <a:t>Conclusões e estado da arte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/>
          </p:nvPr>
        </p:nvSpPr>
        <p:spPr>
          <a:xfrm>
            <a:off x="1104480" y="1523880"/>
            <a:ext cx="80391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IPv6 e MIPv6 poderão ser uma boa solução para a mobilidade em redes integradas (nova geração)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As extensões ao protocolo (seemless handover - FMIP, HMIP, etc.) serão importantes para a sua implantação no terreno (ainda não existem implementações)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Na verdade, a maior parte da mobilidade deverá ser feita ao nível 2 (rádio) nos operadores 3G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É quase a única solução possível para efectuar mobilidade inter-tecnologia L2 - LAN, WLAN, etc.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O mesmo acontece no </a:t>
            </a:r>
            <a:r>
              <a:rPr b="0" lang="en-GB" sz="2000" spc="-1" strike="noStrike">
                <a:solidFill>
                  <a:srgbClr val="ffff99"/>
                </a:solidFill>
                <a:latin typeface="PTBlissMedium"/>
              </a:rPr>
              <a:t>roaming IP 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entre operadores, quer nacionais quer internacionais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0" name=""/>
          <p:cNvSpPr/>
          <p:nvPr/>
        </p:nvSpPr>
        <p:spPr>
          <a:xfrm>
            <a:off x="1752480" y="1836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cece"/>
                </a:solidFill>
                <a:latin typeface="Times New Roman"/>
              </a:rPr>
              <a:t>Obrigado.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4800600" y="5315040"/>
            <a:ext cx="426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rlos Parada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>
            <a:off x="1905120" y="333684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ecece"/>
                </a:solidFill>
                <a:latin typeface="Times New Roman"/>
              </a:rPr>
              <a:t>Questões ?</a:t>
            </a:r>
            <a:endParaRPr b="0" lang="en-US" sz="6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Heavy"/>
              </a:rPr>
              <a:t>Mobilidade IPv6 - Objectivos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04840" y="1383840"/>
            <a:ext cx="7810560" cy="509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200" spc="-1" strike="noStrike">
                <a:solidFill>
                  <a:srgbClr val="ffff99"/>
                </a:solidFill>
                <a:latin typeface="PTBlissMedium"/>
              </a:rPr>
              <a:t>Solução para o encaminhamento de pacotes de e para nós móveis, transparente à camadas superiores (e.g. TCP, aplicações, etc.).</a:t>
            </a:r>
            <a:endParaRPr b="0" lang="en-US" sz="2200" spc="-1" strike="noStrike">
              <a:solidFill>
                <a:srgbClr val="ffff99"/>
              </a:solidFill>
              <a:latin typeface="PTBlissMedium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200" spc="-1" strike="noStrike">
                <a:solidFill>
                  <a:srgbClr val="ffff99"/>
                </a:solidFill>
                <a:latin typeface="PTBlissMedium"/>
              </a:rPr>
              <a:t>Permitir conectividade global sem reconfiguração do nó móvel (este será sempre identificado pelo mesmo endereço).</a:t>
            </a:r>
            <a:endParaRPr b="0" lang="en-US" sz="2200" spc="-1" strike="noStrike">
              <a:solidFill>
                <a:srgbClr val="ffff99"/>
              </a:solidFill>
              <a:latin typeface="PTBlissMedium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200" spc="-1" strike="noStrike">
                <a:solidFill>
                  <a:srgbClr val="ffff99"/>
                </a:solidFill>
                <a:latin typeface="PTBlissMedium"/>
              </a:rPr>
              <a:t>Acesso transparente do nó móvel a todos os recursos da rede de origem, mantendo a sua acessibilidade, como se estivesse na rede origem.</a:t>
            </a:r>
            <a:endParaRPr b="0" lang="en-US" sz="2200" spc="-1" strike="noStrike">
              <a:solidFill>
                <a:srgbClr val="ffff99"/>
              </a:solidFill>
              <a:latin typeface="PTBlissMedium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200" spc="-1" strike="noStrike">
                <a:solidFill>
                  <a:srgbClr val="ffff99"/>
                </a:solidFill>
                <a:latin typeface="PTBlissMedium"/>
              </a:rPr>
              <a:t>Permitir a deslocação dos terminais através de várias redes ou </a:t>
            </a:r>
            <a:r>
              <a:rPr b="0" i="1" lang="pt-PT" sz="2200" spc="-1" strike="noStrike">
                <a:solidFill>
                  <a:srgbClr val="ffff99"/>
                </a:solidFill>
                <a:latin typeface="PTBlissMedium"/>
              </a:rPr>
              <a:t>links</a:t>
            </a:r>
            <a:r>
              <a:rPr b="0" lang="pt-PT" sz="2200" spc="-1" strike="noStrike">
                <a:solidFill>
                  <a:srgbClr val="ffff99"/>
                </a:solidFill>
                <a:latin typeface="PTBlissMedium"/>
              </a:rPr>
              <a:t> sem interrupções - </a:t>
            </a:r>
            <a:r>
              <a:rPr b="0" i="1" lang="pt-PT" sz="2200" spc="-1" strike="noStrike">
                <a:solidFill>
                  <a:srgbClr val="ffff99"/>
                </a:solidFill>
                <a:latin typeface="PTBlissMedium"/>
              </a:rPr>
              <a:t>através da adição de outros mecanismos!</a:t>
            </a:r>
            <a:endParaRPr b="0" lang="en-US" sz="22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Heavy"/>
              </a:rPr>
              <a:t>Mobilidade IPv6 - Problemas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4840" y="1370160"/>
            <a:ext cx="7886880" cy="50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550"/>
              </a:spcBef>
              <a:buClr>
                <a:srgbClr val="ffff99"/>
              </a:buClr>
              <a:buFont typeface="PTBlissMedium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200" spc="-1" strike="noStrike">
                <a:solidFill>
                  <a:srgbClr val="ffff99"/>
                </a:solidFill>
                <a:latin typeface="PTBlissMedium"/>
              </a:rPr>
              <a:t>O que acontece em IP(v6):</a:t>
            </a:r>
            <a:endParaRPr b="0" lang="en-US" sz="2200" spc="-1" strike="noStrike">
              <a:solidFill>
                <a:srgbClr val="ffff99"/>
              </a:solidFill>
              <a:latin typeface="PTBlissMedium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000" spc="-1" strike="noStrike" u="sng">
                <a:solidFill>
                  <a:srgbClr val="ffff99"/>
                </a:solidFill>
                <a:uFillTx/>
                <a:latin typeface="PTBlissMedium"/>
              </a:rPr>
              <a:t>Encaminhamento</a:t>
            </a:r>
            <a:r>
              <a:rPr b="1" lang="pt-PT" sz="2000" spc="-1" strike="noStrike">
                <a:solidFill>
                  <a:srgbClr val="ffff99"/>
                </a:solidFill>
                <a:latin typeface="PTBlissMedium"/>
              </a:rPr>
              <a:t>: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 Quando um nó móvel se desloca para fora, da seu rede (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link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), perde conectividade, já que o encaminhamento é baseado no prefixo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000" spc="-1" strike="noStrike" u="sng">
                <a:solidFill>
                  <a:srgbClr val="ffff99"/>
                </a:solidFill>
                <a:uFillTx/>
                <a:latin typeface="PTBlissMedium"/>
              </a:rPr>
              <a:t>Transparência</a:t>
            </a:r>
            <a:r>
              <a:rPr b="1" lang="pt-PT" sz="2000" spc="-1" strike="noStrike">
                <a:solidFill>
                  <a:srgbClr val="ffff99"/>
                </a:solidFill>
                <a:latin typeface="PTBlissMedium"/>
              </a:rPr>
              <a:t>: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 A solução de alterar o prefixo faz com que o endereço IPv6 se altere, não sendo possível manter as conexões com as camadas superiores (e.g. TCP, aplicações, etc.)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ffff99"/>
              </a:buClr>
              <a:buFont typeface="PTBlissMedium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000" spc="-1" strike="noStrike" u="sng">
                <a:solidFill>
                  <a:srgbClr val="ffff99"/>
                </a:solidFill>
                <a:uFillTx/>
                <a:latin typeface="PTBlissMedium"/>
              </a:rPr>
              <a:t>Heterogeneidade</a:t>
            </a:r>
            <a:r>
              <a:rPr b="1" lang="pt-PT" sz="2000" spc="-1" strike="noStrike">
                <a:solidFill>
                  <a:srgbClr val="ffff99"/>
                </a:solidFill>
                <a:latin typeface="PTBlissMedium"/>
              </a:rPr>
              <a:t>: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 O funcionamento deve ser independente da camada de ligação (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L2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) utilizada (e.g. 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Ethernet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, </a:t>
            </a:r>
            <a:r>
              <a:rPr b="0" i="1" lang="pt-PT" sz="2000" spc="-1" strike="noStrike">
                <a:solidFill>
                  <a:srgbClr val="ffff99"/>
                </a:solidFill>
                <a:latin typeface="PTBlissMedium"/>
              </a:rPr>
              <a:t>Wireless LAN</a:t>
            </a:r>
            <a:r>
              <a:rPr b="0" lang="pt-PT" sz="2000" spc="-1" strike="noStrike">
                <a:solidFill>
                  <a:srgbClr val="ffff99"/>
                </a:solidFill>
                <a:latin typeface="PTBlissMedium"/>
              </a:rPr>
              <a:t>, etc.). Para isso as soluções devem depender apenas da camada L3; i.e. do IPv6.</a:t>
            </a:r>
            <a:endParaRPr b="0" lang="en-US" sz="2000" spc="-1" strike="noStrike">
              <a:solidFill>
                <a:srgbClr val="ffff99"/>
              </a:solidFill>
              <a:latin typeface="PTBliss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867280" y="6248520"/>
            <a:ext cx="1143000" cy="7596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819080" y="4038480"/>
            <a:ext cx="20628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4400" y="3962520"/>
            <a:ext cx="17460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32000" y="3505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038480" y="5715000"/>
            <a:ext cx="76320" cy="30492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600200" y="4648320"/>
            <a:ext cx="1143000" cy="76176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324320" y="4724280"/>
            <a:ext cx="76320" cy="53352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714840" y="4800600"/>
            <a:ext cx="152280" cy="53352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105000" y="4800600"/>
            <a:ext cx="228600" cy="53352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5715000"/>
            <a:ext cx="1143000" cy="45720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8229600" y="4266360"/>
            <a:ext cx="479520" cy="129564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391520" y="4952880"/>
            <a:ext cx="152280" cy="56520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192720" y="5409360"/>
            <a:ext cx="762120" cy="30492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077320" y="3691080"/>
            <a:ext cx="457200" cy="27144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8762400" y="3123360"/>
            <a:ext cx="152280" cy="68580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469360" y="3463200"/>
            <a:ext cx="141120" cy="36828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923160" y="4419720"/>
            <a:ext cx="315720" cy="30456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326360" y="4233240"/>
            <a:ext cx="76320" cy="36972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562720" y="4789440"/>
            <a:ext cx="152280" cy="31608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943600" y="4582440"/>
            <a:ext cx="76320" cy="36972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1880" y="4040280"/>
            <a:ext cx="601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010280" y="4757760"/>
            <a:ext cx="60192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04840" y="406440"/>
            <a:ext cx="7886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PT" sz="3200" spc="-1" strike="noStrike">
                <a:solidFill>
                  <a:srgbClr val="ffff66"/>
                </a:solidFill>
                <a:latin typeface="PTBlissHeavy"/>
              </a:rPr>
              <a:t>Cenários de Mobilidade IP (IPv6)</a:t>
            </a:r>
            <a:endParaRPr b="1" i="1" lang="en-US" sz="3200" spc="-1" strike="noStrike">
              <a:solidFill>
                <a:srgbClr val="ffff66"/>
              </a:solidFill>
              <a:latin typeface="PTBlissHeavy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564520" y="3930480"/>
            <a:ext cx="607680" cy="658080"/>
            <a:chOff x="5564520" y="3930480"/>
            <a:chExt cx="607680" cy="658080"/>
          </a:xfrm>
        </p:grpSpPr>
        <p:sp>
          <p:nvSpPr>
            <p:cNvPr id="154" name=""/>
            <p:cNvSpPr/>
            <p:nvPr/>
          </p:nvSpPr>
          <p:spPr>
            <a:xfrm>
              <a:off x="5978520" y="4012920"/>
              <a:ext cx="27000" cy="3672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6" y="11"/>
                  </a:moveTo>
                  <a:lnTo>
                    <a:pt x="19" y="0"/>
                  </a:lnTo>
                  <a:lnTo>
                    <a:pt x="29" y="11"/>
                  </a:lnTo>
                  <a:lnTo>
                    <a:pt x="35" y="41"/>
                  </a:lnTo>
                  <a:lnTo>
                    <a:pt x="19" y="50"/>
                  </a:lnTo>
                  <a:lnTo>
                    <a:pt x="0" y="4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19840" y="4297320"/>
              <a:ext cx="144360" cy="28440"/>
            </a:xfrm>
            <a:custGeom>
              <a:avLst/>
              <a:gdLst/>
              <a:ahLst/>
              <a:rect l="l" t="t" r="r" b="b"/>
              <a:pathLst>
                <a:path w="189" h="40">
                  <a:moveTo>
                    <a:pt x="0" y="40"/>
                  </a:moveTo>
                  <a:lnTo>
                    <a:pt x="95" y="0"/>
                  </a:lnTo>
                  <a:lnTo>
                    <a:pt x="189" y="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19840" y="3997080"/>
              <a:ext cx="144360" cy="360360"/>
            </a:xfrm>
            <a:custGeom>
              <a:avLst/>
              <a:gdLst/>
              <a:ahLst/>
              <a:rect l="l" t="t" r="r" b="b"/>
              <a:pathLst>
                <a:path w="189" h="479">
                  <a:moveTo>
                    <a:pt x="95" y="0"/>
                  </a:moveTo>
                  <a:lnTo>
                    <a:pt x="95" y="479"/>
                  </a:lnTo>
                  <a:lnTo>
                    <a:pt x="0" y="438"/>
                  </a:lnTo>
                  <a:lnTo>
                    <a:pt x="95" y="0"/>
                  </a:lnTo>
                  <a:lnTo>
                    <a:pt x="189" y="438"/>
                  </a:lnTo>
                  <a:lnTo>
                    <a:pt x="95" y="4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73840" y="4081320"/>
              <a:ext cx="36360" cy="648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0" y="0"/>
                  </a:moveTo>
                  <a:lnTo>
                    <a:pt x="25" y="9"/>
                  </a:lnTo>
                  <a:lnTo>
                    <a:pt x="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67360" y="4106520"/>
              <a:ext cx="47880" cy="11160"/>
            </a:xfrm>
            <a:custGeom>
              <a:avLst/>
              <a:gdLst/>
              <a:ahLst/>
              <a:rect l="l" t="t" r="r" b="b"/>
              <a:pathLst>
                <a:path w="63" h="14">
                  <a:moveTo>
                    <a:pt x="0" y="0"/>
                  </a:moveTo>
                  <a:lnTo>
                    <a:pt x="33" y="14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61240" y="4133520"/>
              <a:ext cx="58680" cy="14400"/>
            </a:xfrm>
            <a:custGeom>
              <a:avLst/>
              <a:gdLst/>
              <a:ahLst/>
              <a:rect l="l" t="t" r="r" b="b"/>
              <a:pathLst>
                <a:path w="77" h="18">
                  <a:moveTo>
                    <a:pt x="0" y="0"/>
                  </a:moveTo>
                  <a:lnTo>
                    <a:pt x="41" y="18"/>
                  </a:lnTo>
                  <a:lnTo>
                    <a:pt x="7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54760" y="4163760"/>
              <a:ext cx="73080" cy="1296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0" y="0"/>
                  </a:moveTo>
                  <a:lnTo>
                    <a:pt x="50" y="19"/>
                  </a:lnTo>
                  <a:lnTo>
                    <a:pt x="9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50080" y="4189320"/>
              <a:ext cx="84240" cy="17280"/>
            </a:xfrm>
            <a:custGeom>
              <a:avLst/>
              <a:gdLst/>
              <a:ahLst/>
              <a:rect l="l" t="t" r="r" b="b"/>
              <a:pathLst>
                <a:path w="109" h="23">
                  <a:moveTo>
                    <a:pt x="0" y="0"/>
                  </a:moveTo>
                  <a:lnTo>
                    <a:pt x="56" y="23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43600" y="4216320"/>
              <a:ext cx="95400" cy="20520"/>
            </a:xfrm>
            <a:custGeom>
              <a:avLst/>
              <a:gdLst/>
              <a:ahLst/>
              <a:rect l="l" t="t" r="r" b="b"/>
              <a:pathLst>
                <a:path w="125" h="28">
                  <a:moveTo>
                    <a:pt x="0" y="1"/>
                  </a:moveTo>
                  <a:lnTo>
                    <a:pt x="64" y="28"/>
                  </a:lnTo>
                  <a:lnTo>
                    <a:pt x="12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37480" y="4243320"/>
              <a:ext cx="107640" cy="23760"/>
            </a:xfrm>
            <a:custGeom>
              <a:avLst/>
              <a:gdLst/>
              <a:ahLst/>
              <a:rect l="l" t="t" r="r" b="b"/>
              <a:pathLst>
                <a:path w="141" h="31">
                  <a:moveTo>
                    <a:pt x="0" y="0"/>
                  </a:moveTo>
                  <a:lnTo>
                    <a:pt x="72" y="31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2440" y="4271760"/>
              <a:ext cx="119160" cy="25560"/>
            </a:xfrm>
            <a:custGeom>
              <a:avLst/>
              <a:gdLst/>
              <a:ahLst/>
              <a:rect l="l" t="t" r="r" b="b"/>
              <a:pathLst>
                <a:path w="157" h="33">
                  <a:moveTo>
                    <a:pt x="0" y="0"/>
                  </a:moveTo>
                  <a:lnTo>
                    <a:pt x="80" y="33"/>
                  </a:lnTo>
                  <a:lnTo>
                    <a:pt x="1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26320" y="4298760"/>
              <a:ext cx="131760" cy="27000"/>
            </a:xfrm>
            <a:custGeom>
              <a:avLst/>
              <a:gdLst/>
              <a:ahLst/>
              <a:rect l="l" t="t" r="r" b="b"/>
              <a:pathLst>
                <a:path w="174" h="37">
                  <a:moveTo>
                    <a:pt x="0" y="1"/>
                  </a:moveTo>
                  <a:lnTo>
                    <a:pt x="88" y="37"/>
                  </a:lnTo>
                  <a:lnTo>
                    <a:pt x="17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19840" y="3983040"/>
              <a:ext cx="54000" cy="1404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70" y="20"/>
                  </a:moveTo>
                  <a:lnTo>
                    <a:pt x="23" y="18"/>
                  </a:lnTo>
                  <a:lnTo>
                    <a:pt x="48" y="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00840" y="3981240"/>
              <a:ext cx="63360" cy="19080"/>
            </a:xfrm>
            <a:custGeom>
              <a:avLst/>
              <a:gdLst/>
              <a:ahLst/>
              <a:rect l="l" t="t" r="r" b="b"/>
              <a:pathLst>
                <a:path w="84" h="25">
                  <a:moveTo>
                    <a:pt x="84" y="2"/>
                  </a:moveTo>
                  <a:lnTo>
                    <a:pt x="35" y="25"/>
                  </a:lnTo>
                  <a:lnTo>
                    <a:pt x="49" y="0"/>
                  </a:lnTo>
                  <a:lnTo>
                    <a:pt x="0" y="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83200" y="3930480"/>
              <a:ext cx="17640" cy="60480"/>
            </a:xfrm>
            <a:custGeom>
              <a:avLst/>
              <a:gdLst/>
              <a:ahLst/>
              <a:rect l="l" t="t" r="r" b="b"/>
              <a:pathLst>
                <a:path w="23" h="80">
                  <a:moveTo>
                    <a:pt x="13" y="80"/>
                  </a:moveTo>
                  <a:lnTo>
                    <a:pt x="0" y="30"/>
                  </a:lnTo>
                  <a:lnTo>
                    <a:pt x="23" y="49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11840" y="4341600"/>
              <a:ext cx="360360" cy="238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34160" y="4344840"/>
              <a:ext cx="31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160000">
              <a:off x="5559480" y="4166640"/>
              <a:ext cx="324000" cy="44640"/>
            </a:xfrm>
            <a:custGeom>
              <a:avLst/>
              <a:gdLst/>
              <a:ahLst/>
              <a:rect l="l" t="t" r="r" b="b"/>
              <a:pathLst>
                <a:path w="566" h="89">
                  <a:moveTo>
                    <a:pt x="0" y="45"/>
                  </a:moveTo>
                  <a:lnTo>
                    <a:pt x="335" y="0"/>
                  </a:lnTo>
                  <a:lnTo>
                    <a:pt x="296" y="62"/>
                  </a:lnTo>
                  <a:lnTo>
                    <a:pt x="566" y="45"/>
                  </a:lnTo>
                  <a:lnTo>
                    <a:pt x="229" y="89"/>
                  </a:lnTo>
                  <a:lnTo>
                    <a:pt x="270" y="2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034240" y="4141800"/>
            <a:ext cx="607680" cy="658080"/>
            <a:chOff x="5034240" y="4141800"/>
            <a:chExt cx="607680" cy="658080"/>
          </a:xfrm>
        </p:grpSpPr>
        <p:sp>
          <p:nvSpPr>
            <p:cNvPr id="173" name=""/>
            <p:cNvSpPr/>
            <p:nvPr/>
          </p:nvSpPr>
          <p:spPr>
            <a:xfrm>
              <a:off x="5448240" y="4224240"/>
              <a:ext cx="27000" cy="3672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6" y="11"/>
                  </a:moveTo>
                  <a:lnTo>
                    <a:pt x="19" y="0"/>
                  </a:lnTo>
                  <a:lnTo>
                    <a:pt x="29" y="11"/>
                  </a:lnTo>
                  <a:lnTo>
                    <a:pt x="35" y="41"/>
                  </a:lnTo>
                  <a:lnTo>
                    <a:pt x="19" y="50"/>
                  </a:lnTo>
                  <a:lnTo>
                    <a:pt x="0" y="4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89560" y="4508640"/>
              <a:ext cx="144360" cy="28440"/>
            </a:xfrm>
            <a:custGeom>
              <a:avLst/>
              <a:gdLst/>
              <a:ahLst/>
              <a:rect l="l" t="t" r="r" b="b"/>
              <a:pathLst>
                <a:path w="189" h="40">
                  <a:moveTo>
                    <a:pt x="0" y="40"/>
                  </a:moveTo>
                  <a:lnTo>
                    <a:pt x="95" y="0"/>
                  </a:lnTo>
                  <a:lnTo>
                    <a:pt x="189" y="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89560" y="4208400"/>
              <a:ext cx="144360" cy="360360"/>
            </a:xfrm>
            <a:custGeom>
              <a:avLst/>
              <a:gdLst/>
              <a:ahLst/>
              <a:rect l="l" t="t" r="r" b="b"/>
              <a:pathLst>
                <a:path w="189" h="479">
                  <a:moveTo>
                    <a:pt x="95" y="0"/>
                  </a:moveTo>
                  <a:lnTo>
                    <a:pt x="95" y="479"/>
                  </a:lnTo>
                  <a:lnTo>
                    <a:pt x="0" y="438"/>
                  </a:lnTo>
                  <a:lnTo>
                    <a:pt x="95" y="0"/>
                  </a:lnTo>
                  <a:lnTo>
                    <a:pt x="189" y="438"/>
                  </a:lnTo>
                  <a:lnTo>
                    <a:pt x="95" y="4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43560" y="4292640"/>
              <a:ext cx="36360" cy="648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0" y="0"/>
                  </a:moveTo>
                  <a:lnTo>
                    <a:pt x="25" y="9"/>
                  </a:lnTo>
                  <a:lnTo>
                    <a:pt x="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37080" y="4317840"/>
              <a:ext cx="47880" cy="11160"/>
            </a:xfrm>
            <a:custGeom>
              <a:avLst/>
              <a:gdLst/>
              <a:ahLst/>
              <a:rect l="l" t="t" r="r" b="b"/>
              <a:pathLst>
                <a:path w="63" h="14">
                  <a:moveTo>
                    <a:pt x="0" y="0"/>
                  </a:moveTo>
                  <a:lnTo>
                    <a:pt x="33" y="14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30960" y="4344840"/>
              <a:ext cx="58680" cy="14400"/>
            </a:xfrm>
            <a:custGeom>
              <a:avLst/>
              <a:gdLst/>
              <a:ahLst/>
              <a:rect l="l" t="t" r="r" b="b"/>
              <a:pathLst>
                <a:path w="77" h="18">
                  <a:moveTo>
                    <a:pt x="0" y="0"/>
                  </a:moveTo>
                  <a:lnTo>
                    <a:pt x="41" y="18"/>
                  </a:lnTo>
                  <a:lnTo>
                    <a:pt x="7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4480" y="4375080"/>
              <a:ext cx="73080" cy="1296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0" y="0"/>
                  </a:moveTo>
                  <a:lnTo>
                    <a:pt x="50" y="19"/>
                  </a:lnTo>
                  <a:lnTo>
                    <a:pt x="9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19800" y="4400640"/>
              <a:ext cx="84240" cy="17280"/>
            </a:xfrm>
            <a:custGeom>
              <a:avLst/>
              <a:gdLst/>
              <a:ahLst/>
              <a:rect l="l" t="t" r="r" b="b"/>
              <a:pathLst>
                <a:path w="109" h="23">
                  <a:moveTo>
                    <a:pt x="0" y="0"/>
                  </a:moveTo>
                  <a:lnTo>
                    <a:pt x="56" y="23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13320" y="4427640"/>
              <a:ext cx="95400" cy="20520"/>
            </a:xfrm>
            <a:custGeom>
              <a:avLst/>
              <a:gdLst/>
              <a:ahLst/>
              <a:rect l="l" t="t" r="r" b="b"/>
              <a:pathLst>
                <a:path w="125" h="28">
                  <a:moveTo>
                    <a:pt x="0" y="1"/>
                  </a:moveTo>
                  <a:lnTo>
                    <a:pt x="64" y="28"/>
                  </a:lnTo>
                  <a:lnTo>
                    <a:pt x="12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07200" y="4454640"/>
              <a:ext cx="107640" cy="23760"/>
            </a:xfrm>
            <a:custGeom>
              <a:avLst/>
              <a:gdLst/>
              <a:ahLst/>
              <a:rect l="l" t="t" r="r" b="b"/>
              <a:pathLst>
                <a:path w="141" h="31">
                  <a:moveTo>
                    <a:pt x="0" y="0"/>
                  </a:moveTo>
                  <a:lnTo>
                    <a:pt x="72" y="31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02160" y="4483080"/>
              <a:ext cx="119160" cy="25560"/>
            </a:xfrm>
            <a:custGeom>
              <a:avLst/>
              <a:gdLst/>
              <a:ahLst/>
              <a:rect l="l" t="t" r="r" b="b"/>
              <a:pathLst>
                <a:path w="157" h="33">
                  <a:moveTo>
                    <a:pt x="0" y="0"/>
                  </a:moveTo>
                  <a:lnTo>
                    <a:pt x="80" y="33"/>
                  </a:lnTo>
                  <a:lnTo>
                    <a:pt x="1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040" y="4510080"/>
              <a:ext cx="131760" cy="27000"/>
            </a:xfrm>
            <a:custGeom>
              <a:avLst/>
              <a:gdLst/>
              <a:ahLst/>
              <a:rect l="l" t="t" r="r" b="b"/>
              <a:pathLst>
                <a:path w="174" h="37">
                  <a:moveTo>
                    <a:pt x="0" y="1"/>
                  </a:moveTo>
                  <a:lnTo>
                    <a:pt x="88" y="37"/>
                  </a:lnTo>
                  <a:lnTo>
                    <a:pt x="17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89560" y="4194360"/>
              <a:ext cx="54000" cy="1404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70" y="20"/>
                  </a:moveTo>
                  <a:lnTo>
                    <a:pt x="23" y="18"/>
                  </a:lnTo>
                  <a:lnTo>
                    <a:pt x="48" y="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70560" y="4192560"/>
              <a:ext cx="63360" cy="19080"/>
            </a:xfrm>
            <a:custGeom>
              <a:avLst/>
              <a:gdLst/>
              <a:ahLst/>
              <a:rect l="l" t="t" r="r" b="b"/>
              <a:pathLst>
                <a:path w="84" h="25">
                  <a:moveTo>
                    <a:pt x="84" y="2"/>
                  </a:moveTo>
                  <a:lnTo>
                    <a:pt x="35" y="25"/>
                  </a:lnTo>
                  <a:lnTo>
                    <a:pt x="49" y="0"/>
                  </a:lnTo>
                  <a:lnTo>
                    <a:pt x="0" y="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52920" y="4141800"/>
              <a:ext cx="17640" cy="60480"/>
            </a:xfrm>
            <a:custGeom>
              <a:avLst/>
              <a:gdLst/>
              <a:ahLst/>
              <a:rect l="l" t="t" r="r" b="b"/>
              <a:pathLst>
                <a:path w="23" h="80">
                  <a:moveTo>
                    <a:pt x="13" y="80"/>
                  </a:moveTo>
                  <a:lnTo>
                    <a:pt x="0" y="30"/>
                  </a:lnTo>
                  <a:lnTo>
                    <a:pt x="23" y="49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81560" y="4552920"/>
              <a:ext cx="360360" cy="238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03880" y="4556160"/>
              <a:ext cx="31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160000">
              <a:off x="5029200" y="4377960"/>
              <a:ext cx="324000" cy="44640"/>
            </a:xfrm>
            <a:custGeom>
              <a:avLst/>
              <a:gdLst/>
              <a:ahLst/>
              <a:rect l="l" t="t" r="r" b="b"/>
              <a:pathLst>
                <a:path w="566" h="89">
                  <a:moveTo>
                    <a:pt x="0" y="45"/>
                  </a:moveTo>
                  <a:lnTo>
                    <a:pt x="335" y="0"/>
                  </a:lnTo>
                  <a:lnTo>
                    <a:pt x="296" y="62"/>
                  </a:lnTo>
                  <a:lnTo>
                    <a:pt x="566" y="45"/>
                  </a:lnTo>
                  <a:lnTo>
                    <a:pt x="229" y="89"/>
                  </a:lnTo>
                  <a:lnTo>
                    <a:pt x="270" y="2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905600" y="1752480"/>
            <a:ext cx="628920" cy="533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610320" y="2373480"/>
            <a:ext cx="628560" cy="533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181480" y="2895480"/>
            <a:ext cx="628920" cy="53352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6936120" y="3581280"/>
            <a:ext cx="607680" cy="658080"/>
            <a:chOff x="6936120" y="3581280"/>
            <a:chExt cx="607680" cy="658080"/>
          </a:xfrm>
        </p:grpSpPr>
        <p:sp>
          <p:nvSpPr>
            <p:cNvPr id="195" name=""/>
            <p:cNvSpPr/>
            <p:nvPr/>
          </p:nvSpPr>
          <p:spPr>
            <a:xfrm>
              <a:off x="7350120" y="3663720"/>
              <a:ext cx="27000" cy="3672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6" y="11"/>
                  </a:moveTo>
                  <a:lnTo>
                    <a:pt x="19" y="0"/>
                  </a:lnTo>
                  <a:lnTo>
                    <a:pt x="29" y="11"/>
                  </a:lnTo>
                  <a:lnTo>
                    <a:pt x="35" y="41"/>
                  </a:lnTo>
                  <a:lnTo>
                    <a:pt x="19" y="50"/>
                  </a:lnTo>
                  <a:lnTo>
                    <a:pt x="0" y="4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91440" y="3948120"/>
              <a:ext cx="144360" cy="28440"/>
            </a:xfrm>
            <a:custGeom>
              <a:avLst/>
              <a:gdLst/>
              <a:ahLst/>
              <a:rect l="l" t="t" r="r" b="b"/>
              <a:pathLst>
                <a:path w="189" h="40">
                  <a:moveTo>
                    <a:pt x="0" y="40"/>
                  </a:moveTo>
                  <a:lnTo>
                    <a:pt x="95" y="0"/>
                  </a:lnTo>
                  <a:lnTo>
                    <a:pt x="189" y="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91440" y="3647880"/>
              <a:ext cx="144360" cy="360360"/>
            </a:xfrm>
            <a:custGeom>
              <a:avLst/>
              <a:gdLst/>
              <a:ahLst/>
              <a:rect l="l" t="t" r="r" b="b"/>
              <a:pathLst>
                <a:path w="189" h="479">
                  <a:moveTo>
                    <a:pt x="95" y="0"/>
                  </a:moveTo>
                  <a:lnTo>
                    <a:pt x="95" y="479"/>
                  </a:lnTo>
                  <a:lnTo>
                    <a:pt x="0" y="438"/>
                  </a:lnTo>
                  <a:lnTo>
                    <a:pt x="95" y="0"/>
                  </a:lnTo>
                  <a:lnTo>
                    <a:pt x="189" y="438"/>
                  </a:lnTo>
                  <a:lnTo>
                    <a:pt x="95" y="4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45440" y="3732120"/>
              <a:ext cx="36360" cy="648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0" y="0"/>
                  </a:moveTo>
                  <a:lnTo>
                    <a:pt x="25" y="9"/>
                  </a:lnTo>
                  <a:lnTo>
                    <a:pt x="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38960" y="3757320"/>
              <a:ext cx="47880" cy="11160"/>
            </a:xfrm>
            <a:custGeom>
              <a:avLst/>
              <a:gdLst/>
              <a:ahLst/>
              <a:rect l="l" t="t" r="r" b="b"/>
              <a:pathLst>
                <a:path w="63" h="14">
                  <a:moveTo>
                    <a:pt x="0" y="0"/>
                  </a:moveTo>
                  <a:lnTo>
                    <a:pt x="33" y="14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32840" y="3784320"/>
              <a:ext cx="58680" cy="14400"/>
            </a:xfrm>
            <a:custGeom>
              <a:avLst/>
              <a:gdLst/>
              <a:ahLst/>
              <a:rect l="l" t="t" r="r" b="b"/>
              <a:pathLst>
                <a:path w="77" h="18">
                  <a:moveTo>
                    <a:pt x="0" y="0"/>
                  </a:moveTo>
                  <a:lnTo>
                    <a:pt x="41" y="18"/>
                  </a:lnTo>
                  <a:lnTo>
                    <a:pt x="7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26360" y="3814560"/>
              <a:ext cx="73080" cy="1296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0" y="0"/>
                  </a:moveTo>
                  <a:lnTo>
                    <a:pt x="50" y="19"/>
                  </a:lnTo>
                  <a:lnTo>
                    <a:pt x="9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21680" y="3840120"/>
              <a:ext cx="84240" cy="17280"/>
            </a:xfrm>
            <a:custGeom>
              <a:avLst/>
              <a:gdLst/>
              <a:ahLst/>
              <a:rect l="l" t="t" r="r" b="b"/>
              <a:pathLst>
                <a:path w="109" h="23">
                  <a:moveTo>
                    <a:pt x="0" y="0"/>
                  </a:moveTo>
                  <a:lnTo>
                    <a:pt x="56" y="23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15200" y="3867120"/>
              <a:ext cx="95400" cy="20520"/>
            </a:xfrm>
            <a:custGeom>
              <a:avLst/>
              <a:gdLst/>
              <a:ahLst/>
              <a:rect l="l" t="t" r="r" b="b"/>
              <a:pathLst>
                <a:path w="125" h="28">
                  <a:moveTo>
                    <a:pt x="0" y="1"/>
                  </a:moveTo>
                  <a:lnTo>
                    <a:pt x="64" y="28"/>
                  </a:lnTo>
                  <a:lnTo>
                    <a:pt x="12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09080" y="3894120"/>
              <a:ext cx="107640" cy="23760"/>
            </a:xfrm>
            <a:custGeom>
              <a:avLst/>
              <a:gdLst/>
              <a:ahLst/>
              <a:rect l="l" t="t" r="r" b="b"/>
              <a:pathLst>
                <a:path w="141" h="31">
                  <a:moveTo>
                    <a:pt x="0" y="0"/>
                  </a:moveTo>
                  <a:lnTo>
                    <a:pt x="72" y="31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04040" y="3922560"/>
              <a:ext cx="119160" cy="25560"/>
            </a:xfrm>
            <a:custGeom>
              <a:avLst/>
              <a:gdLst/>
              <a:ahLst/>
              <a:rect l="l" t="t" r="r" b="b"/>
              <a:pathLst>
                <a:path w="157" h="33">
                  <a:moveTo>
                    <a:pt x="0" y="0"/>
                  </a:moveTo>
                  <a:lnTo>
                    <a:pt x="80" y="33"/>
                  </a:lnTo>
                  <a:lnTo>
                    <a:pt x="1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97920" y="3949560"/>
              <a:ext cx="131760" cy="27000"/>
            </a:xfrm>
            <a:custGeom>
              <a:avLst/>
              <a:gdLst/>
              <a:ahLst/>
              <a:rect l="l" t="t" r="r" b="b"/>
              <a:pathLst>
                <a:path w="174" h="37">
                  <a:moveTo>
                    <a:pt x="0" y="1"/>
                  </a:moveTo>
                  <a:lnTo>
                    <a:pt x="88" y="37"/>
                  </a:lnTo>
                  <a:lnTo>
                    <a:pt x="17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91440" y="3633840"/>
              <a:ext cx="54000" cy="1404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70" y="20"/>
                  </a:moveTo>
                  <a:lnTo>
                    <a:pt x="23" y="18"/>
                  </a:lnTo>
                  <a:lnTo>
                    <a:pt x="48" y="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72440" y="3632040"/>
              <a:ext cx="63360" cy="19080"/>
            </a:xfrm>
            <a:custGeom>
              <a:avLst/>
              <a:gdLst/>
              <a:ahLst/>
              <a:rect l="l" t="t" r="r" b="b"/>
              <a:pathLst>
                <a:path w="84" h="25">
                  <a:moveTo>
                    <a:pt x="84" y="2"/>
                  </a:moveTo>
                  <a:lnTo>
                    <a:pt x="35" y="25"/>
                  </a:lnTo>
                  <a:lnTo>
                    <a:pt x="49" y="0"/>
                  </a:lnTo>
                  <a:lnTo>
                    <a:pt x="0" y="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54800" y="3581280"/>
              <a:ext cx="17640" cy="60480"/>
            </a:xfrm>
            <a:custGeom>
              <a:avLst/>
              <a:gdLst/>
              <a:ahLst/>
              <a:rect l="l" t="t" r="r" b="b"/>
              <a:pathLst>
                <a:path w="23" h="80">
                  <a:moveTo>
                    <a:pt x="13" y="80"/>
                  </a:moveTo>
                  <a:lnTo>
                    <a:pt x="0" y="30"/>
                  </a:lnTo>
                  <a:lnTo>
                    <a:pt x="23" y="49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3440" y="3992400"/>
              <a:ext cx="360360" cy="238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05760" y="3995640"/>
              <a:ext cx="31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160000">
              <a:off x="6931080" y="3817440"/>
              <a:ext cx="324000" cy="44640"/>
            </a:xfrm>
            <a:custGeom>
              <a:avLst/>
              <a:gdLst/>
              <a:ahLst/>
              <a:rect l="l" t="t" r="r" b="b"/>
              <a:pathLst>
                <a:path w="566" h="89">
                  <a:moveTo>
                    <a:pt x="0" y="45"/>
                  </a:moveTo>
                  <a:lnTo>
                    <a:pt x="335" y="0"/>
                  </a:lnTo>
                  <a:lnTo>
                    <a:pt x="296" y="62"/>
                  </a:lnTo>
                  <a:lnTo>
                    <a:pt x="566" y="45"/>
                  </a:lnTo>
                  <a:lnTo>
                    <a:pt x="229" y="89"/>
                  </a:lnTo>
                  <a:lnTo>
                    <a:pt x="270" y="2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402600" y="3836880"/>
            <a:ext cx="607680" cy="658080"/>
            <a:chOff x="6402600" y="3836880"/>
            <a:chExt cx="607680" cy="658080"/>
          </a:xfrm>
        </p:grpSpPr>
        <p:sp>
          <p:nvSpPr>
            <p:cNvPr id="214" name=""/>
            <p:cNvSpPr/>
            <p:nvPr/>
          </p:nvSpPr>
          <p:spPr>
            <a:xfrm>
              <a:off x="6816600" y="3919320"/>
              <a:ext cx="27000" cy="3672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6" y="11"/>
                  </a:moveTo>
                  <a:lnTo>
                    <a:pt x="19" y="0"/>
                  </a:lnTo>
                  <a:lnTo>
                    <a:pt x="29" y="11"/>
                  </a:lnTo>
                  <a:lnTo>
                    <a:pt x="35" y="41"/>
                  </a:lnTo>
                  <a:lnTo>
                    <a:pt x="19" y="50"/>
                  </a:lnTo>
                  <a:lnTo>
                    <a:pt x="0" y="4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57920" y="4203720"/>
              <a:ext cx="144360" cy="28440"/>
            </a:xfrm>
            <a:custGeom>
              <a:avLst/>
              <a:gdLst/>
              <a:ahLst/>
              <a:rect l="l" t="t" r="r" b="b"/>
              <a:pathLst>
                <a:path w="189" h="40">
                  <a:moveTo>
                    <a:pt x="0" y="40"/>
                  </a:moveTo>
                  <a:lnTo>
                    <a:pt x="95" y="0"/>
                  </a:lnTo>
                  <a:lnTo>
                    <a:pt x="189" y="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57920" y="3903480"/>
              <a:ext cx="144360" cy="360360"/>
            </a:xfrm>
            <a:custGeom>
              <a:avLst/>
              <a:gdLst/>
              <a:ahLst/>
              <a:rect l="l" t="t" r="r" b="b"/>
              <a:pathLst>
                <a:path w="189" h="479">
                  <a:moveTo>
                    <a:pt x="95" y="0"/>
                  </a:moveTo>
                  <a:lnTo>
                    <a:pt x="95" y="479"/>
                  </a:lnTo>
                  <a:lnTo>
                    <a:pt x="0" y="438"/>
                  </a:lnTo>
                  <a:lnTo>
                    <a:pt x="95" y="0"/>
                  </a:lnTo>
                  <a:lnTo>
                    <a:pt x="189" y="438"/>
                  </a:lnTo>
                  <a:lnTo>
                    <a:pt x="95" y="4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11920" y="3987720"/>
              <a:ext cx="36360" cy="648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0" y="0"/>
                  </a:moveTo>
                  <a:lnTo>
                    <a:pt x="25" y="9"/>
                  </a:lnTo>
                  <a:lnTo>
                    <a:pt x="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05440" y="4012920"/>
              <a:ext cx="47880" cy="11160"/>
            </a:xfrm>
            <a:custGeom>
              <a:avLst/>
              <a:gdLst/>
              <a:ahLst/>
              <a:rect l="l" t="t" r="r" b="b"/>
              <a:pathLst>
                <a:path w="63" h="14">
                  <a:moveTo>
                    <a:pt x="0" y="0"/>
                  </a:moveTo>
                  <a:lnTo>
                    <a:pt x="33" y="14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99320" y="4039920"/>
              <a:ext cx="58680" cy="14400"/>
            </a:xfrm>
            <a:custGeom>
              <a:avLst/>
              <a:gdLst/>
              <a:ahLst/>
              <a:rect l="l" t="t" r="r" b="b"/>
              <a:pathLst>
                <a:path w="77" h="18">
                  <a:moveTo>
                    <a:pt x="0" y="0"/>
                  </a:moveTo>
                  <a:lnTo>
                    <a:pt x="41" y="18"/>
                  </a:lnTo>
                  <a:lnTo>
                    <a:pt x="7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92840" y="4070160"/>
              <a:ext cx="73080" cy="1296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0" y="0"/>
                  </a:moveTo>
                  <a:lnTo>
                    <a:pt x="50" y="19"/>
                  </a:lnTo>
                  <a:lnTo>
                    <a:pt x="9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8160" y="4095720"/>
              <a:ext cx="84240" cy="17280"/>
            </a:xfrm>
            <a:custGeom>
              <a:avLst/>
              <a:gdLst/>
              <a:ahLst/>
              <a:rect l="l" t="t" r="r" b="b"/>
              <a:pathLst>
                <a:path w="109" h="23">
                  <a:moveTo>
                    <a:pt x="0" y="0"/>
                  </a:moveTo>
                  <a:lnTo>
                    <a:pt x="56" y="23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81680" y="4122720"/>
              <a:ext cx="95400" cy="20520"/>
            </a:xfrm>
            <a:custGeom>
              <a:avLst/>
              <a:gdLst/>
              <a:ahLst/>
              <a:rect l="l" t="t" r="r" b="b"/>
              <a:pathLst>
                <a:path w="125" h="28">
                  <a:moveTo>
                    <a:pt x="0" y="1"/>
                  </a:moveTo>
                  <a:lnTo>
                    <a:pt x="64" y="28"/>
                  </a:lnTo>
                  <a:lnTo>
                    <a:pt x="12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75560" y="4149720"/>
              <a:ext cx="107640" cy="23760"/>
            </a:xfrm>
            <a:custGeom>
              <a:avLst/>
              <a:gdLst/>
              <a:ahLst/>
              <a:rect l="l" t="t" r="r" b="b"/>
              <a:pathLst>
                <a:path w="141" h="31">
                  <a:moveTo>
                    <a:pt x="0" y="0"/>
                  </a:moveTo>
                  <a:lnTo>
                    <a:pt x="72" y="31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70520" y="4178160"/>
              <a:ext cx="119160" cy="25560"/>
            </a:xfrm>
            <a:custGeom>
              <a:avLst/>
              <a:gdLst/>
              <a:ahLst/>
              <a:rect l="l" t="t" r="r" b="b"/>
              <a:pathLst>
                <a:path w="157" h="33">
                  <a:moveTo>
                    <a:pt x="0" y="0"/>
                  </a:moveTo>
                  <a:lnTo>
                    <a:pt x="80" y="33"/>
                  </a:lnTo>
                  <a:lnTo>
                    <a:pt x="1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64400" y="4205160"/>
              <a:ext cx="131760" cy="27000"/>
            </a:xfrm>
            <a:custGeom>
              <a:avLst/>
              <a:gdLst/>
              <a:ahLst/>
              <a:rect l="l" t="t" r="r" b="b"/>
              <a:pathLst>
                <a:path w="174" h="37">
                  <a:moveTo>
                    <a:pt x="0" y="1"/>
                  </a:moveTo>
                  <a:lnTo>
                    <a:pt x="88" y="37"/>
                  </a:lnTo>
                  <a:lnTo>
                    <a:pt x="17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920" y="3889440"/>
              <a:ext cx="54000" cy="1404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70" y="20"/>
                  </a:moveTo>
                  <a:lnTo>
                    <a:pt x="23" y="18"/>
                  </a:lnTo>
                  <a:lnTo>
                    <a:pt x="48" y="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38920" y="3887640"/>
              <a:ext cx="63360" cy="19080"/>
            </a:xfrm>
            <a:custGeom>
              <a:avLst/>
              <a:gdLst/>
              <a:ahLst/>
              <a:rect l="l" t="t" r="r" b="b"/>
              <a:pathLst>
                <a:path w="84" h="25">
                  <a:moveTo>
                    <a:pt x="84" y="2"/>
                  </a:moveTo>
                  <a:lnTo>
                    <a:pt x="35" y="25"/>
                  </a:lnTo>
                  <a:lnTo>
                    <a:pt x="49" y="0"/>
                  </a:lnTo>
                  <a:lnTo>
                    <a:pt x="0" y="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1280" y="3836880"/>
              <a:ext cx="17640" cy="60480"/>
            </a:xfrm>
            <a:custGeom>
              <a:avLst/>
              <a:gdLst/>
              <a:ahLst/>
              <a:rect l="l" t="t" r="r" b="b"/>
              <a:pathLst>
                <a:path w="23" h="80">
                  <a:moveTo>
                    <a:pt x="13" y="80"/>
                  </a:moveTo>
                  <a:lnTo>
                    <a:pt x="0" y="30"/>
                  </a:lnTo>
                  <a:lnTo>
                    <a:pt x="23" y="49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9920" y="4248000"/>
              <a:ext cx="360360" cy="238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72240" y="4251240"/>
              <a:ext cx="31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20160000">
              <a:off x="6397560" y="4073040"/>
              <a:ext cx="324000" cy="44640"/>
            </a:xfrm>
            <a:custGeom>
              <a:avLst/>
              <a:gdLst/>
              <a:ahLst/>
              <a:rect l="l" t="t" r="r" b="b"/>
              <a:pathLst>
                <a:path w="566" h="89">
                  <a:moveTo>
                    <a:pt x="0" y="45"/>
                  </a:moveTo>
                  <a:lnTo>
                    <a:pt x="335" y="0"/>
                  </a:lnTo>
                  <a:lnTo>
                    <a:pt x="296" y="62"/>
                  </a:lnTo>
                  <a:lnTo>
                    <a:pt x="566" y="45"/>
                  </a:lnTo>
                  <a:lnTo>
                    <a:pt x="229" y="89"/>
                  </a:lnTo>
                  <a:lnTo>
                    <a:pt x="270" y="2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079120" y="2819520"/>
            <a:ext cx="607680" cy="658080"/>
            <a:chOff x="8079120" y="2819520"/>
            <a:chExt cx="607680" cy="658080"/>
          </a:xfrm>
        </p:grpSpPr>
        <p:sp>
          <p:nvSpPr>
            <p:cNvPr id="233" name=""/>
            <p:cNvSpPr/>
            <p:nvPr/>
          </p:nvSpPr>
          <p:spPr>
            <a:xfrm>
              <a:off x="8493120" y="2901960"/>
              <a:ext cx="27000" cy="3672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6" y="11"/>
                  </a:moveTo>
                  <a:lnTo>
                    <a:pt x="19" y="0"/>
                  </a:lnTo>
                  <a:lnTo>
                    <a:pt x="29" y="11"/>
                  </a:lnTo>
                  <a:lnTo>
                    <a:pt x="35" y="41"/>
                  </a:lnTo>
                  <a:lnTo>
                    <a:pt x="19" y="50"/>
                  </a:lnTo>
                  <a:lnTo>
                    <a:pt x="0" y="4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34440" y="3186360"/>
              <a:ext cx="144360" cy="28440"/>
            </a:xfrm>
            <a:custGeom>
              <a:avLst/>
              <a:gdLst/>
              <a:ahLst/>
              <a:rect l="l" t="t" r="r" b="b"/>
              <a:pathLst>
                <a:path w="189" h="40">
                  <a:moveTo>
                    <a:pt x="0" y="40"/>
                  </a:moveTo>
                  <a:lnTo>
                    <a:pt x="95" y="0"/>
                  </a:lnTo>
                  <a:lnTo>
                    <a:pt x="189" y="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34440" y="2886120"/>
              <a:ext cx="144360" cy="360360"/>
            </a:xfrm>
            <a:custGeom>
              <a:avLst/>
              <a:gdLst/>
              <a:ahLst/>
              <a:rect l="l" t="t" r="r" b="b"/>
              <a:pathLst>
                <a:path w="189" h="479">
                  <a:moveTo>
                    <a:pt x="95" y="0"/>
                  </a:moveTo>
                  <a:lnTo>
                    <a:pt x="95" y="479"/>
                  </a:lnTo>
                  <a:lnTo>
                    <a:pt x="0" y="438"/>
                  </a:lnTo>
                  <a:lnTo>
                    <a:pt x="95" y="0"/>
                  </a:lnTo>
                  <a:lnTo>
                    <a:pt x="189" y="438"/>
                  </a:lnTo>
                  <a:lnTo>
                    <a:pt x="95" y="4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488440" y="2970360"/>
              <a:ext cx="36360" cy="648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0" y="0"/>
                  </a:moveTo>
                  <a:lnTo>
                    <a:pt x="25" y="9"/>
                  </a:lnTo>
                  <a:lnTo>
                    <a:pt x="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81960" y="2995560"/>
              <a:ext cx="47880" cy="11160"/>
            </a:xfrm>
            <a:custGeom>
              <a:avLst/>
              <a:gdLst/>
              <a:ahLst/>
              <a:rect l="l" t="t" r="r" b="b"/>
              <a:pathLst>
                <a:path w="63" h="14">
                  <a:moveTo>
                    <a:pt x="0" y="0"/>
                  </a:moveTo>
                  <a:lnTo>
                    <a:pt x="33" y="14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475840" y="3022560"/>
              <a:ext cx="58680" cy="14400"/>
            </a:xfrm>
            <a:custGeom>
              <a:avLst/>
              <a:gdLst/>
              <a:ahLst/>
              <a:rect l="l" t="t" r="r" b="b"/>
              <a:pathLst>
                <a:path w="77" h="18">
                  <a:moveTo>
                    <a:pt x="0" y="0"/>
                  </a:moveTo>
                  <a:lnTo>
                    <a:pt x="41" y="18"/>
                  </a:lnTo>
                  <a:lnTo>
                    <a:pt x="7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469360" y="3052800"/>
              <a:ext cx="73080" cy="1296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0" y="0"/>
                  </a:moveTo>
                  <a:lnTo>
                    <a:pt x="50" y="19"/>
                  </a:lnTo>
                  <a:lnTo>
                    <a:pt x="9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64680" y="3078360"/>
              <a:ext cx="84240" cy="17280"/>
            </a:xfrm>
            <a:custGeom>
              <a:avLst/>
              <a:gdLst/>
              <a:ahLst/>
              <a:rect l="l" t="t" r="r" b="b"/>
              <a:pathLst>
                <a:path w="109" h="23">
                  <a:moveTo>
                    <a:pt x="0" y="0"/>
                  </a:moveTo>
                  <a:lnTo>
                    <a:pt x="56" y="23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58200" y="3105360"/>
              <a:ext cx="95400" cy="20520"/>
            </a:xfrm>
            <a:custGeom>
              <a:avLst/>
              <a:gdLst/>
              <a:ahLst/>
              <a:rect l="l" t="t" r="r" b="b"/>
              <a:pathLst>
                <a:path w="125" h="28">
                  <a:moveTo>
                    <a:pt x="0" y="1"/>
                  </a:moveTo>
                  <a:lnTo>
                    <a:pt x="64" y="28"/>
                  </a:lnTo>
                  <a:lnTo>
                    <a:pt x="12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52080" y="3132360"/>
              <a:ext cx="107640" cy="23760"/>
            </a:xfrm>
            <a:custGeom>
              <a:avLst/>
              <a:gdLst/>
              <a:ahLst/>
              <a:rect l="l" t="t" r="r" b="b"/>
              <a:pathLst>
                <a:path w="141" h="31">
                  <a:moveTo>
                    <a:pt x="0" y="0"/>
                  </a:moveTo>
                  <a:lnTo>
                    <a:pt x="72" y="31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47040" y="3160800"/>
              <a:ext cx="119160" cy="25560"/>
            </a:xfrm>
            <a:custGeom>
              <a:avLst/>
              <a:gdLst/>
              <a:ahLst/>
              <a:rect l="l" t="t" r="r" b="b"/>
              <a:pathLst>
                <a:path w="157" h="33">
                  <a:moveTo>
                    <a:pt x="0" y="0"/>
                  </a:moveTo>
                  <a:lnTo>
                    <a:pt x="80" y="33"/>
                  </a:lnTo>
                  <a:lnTo>
                    <a:pt x="1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440920" y="3187800"/>
              <a:ext cx="131760" cy="27000"/>
            </a:xfrm>
            <a:custGeom>
              <a:avLst/>
              <a:gdLst/>
              <a:ahLst/>
              <a:rect l="l" t="t" r="r" b="b"/>
              <a:pathLst>
                <a:path w="174" h="37">
                  <a:moveTo>
                    <a:pt x="0" y="1"/>
                  </a:moveTo>
                  <a:lnTo>
                    <a:pt x="88" y="37"/>
                  </a:lnTo>
                  <a:lnTo>
                    <a:pt x="17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34440" y="2872080"/>
              <a:ext cx="54000" cy="1404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70" y="20"/>
                  </a:moveTo>
                  <a:lnTo>
                    <a:pt x="23" y="18"/>
                  </a:lnTo>
                  <a:lnTo>
                    <a:pt x="48" y="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515440" y="2870280"/>
              <a:ext cx="63360" cy="19080"/>
            </a:xfrm>
            <a:custGeom>
              <a:avLst/>
              <a:gdLst/>
              <a:ahLst/>
              <a:rect l="l" t="t" r="r" b="b"/>
              <a:pathLst>
                <a:path w="84" h="25">
                  <a:moveTo>
                    <a:pt x="84" y="2"/>
                  </a:moveTo>
                  <a:lnTo>
                    <a:pt x="35" y="25"/>
                  </a:lnTo>
                  <a:lnTo>
                    <a:pt x="49" y="0"/>
                  </a:lnTo>
                  <a:lnTo>
                    <a:pt x="0" y="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497800" y="2819520"/>
              <a:ext cx="17640" cy="60480"/>
            </a:xfrm>
            <a:custGeom>
              <a:avLst/>
              <a:gdLst/>
              <a:ahLst/>
              <a:rect l="l" t="t" r="r" b="b"/>
              <a:pathLst>
                <a:path w="23" h="80">
                  <a:moveTo>
                    <a:pt x="13" y="80"/>
                  </a:moveTo>
                  <a:lnTo>
                    <a:pt x="0" y="30"/>
                  </a:lnTo>
                  <a:lnTo>
                    <a:pt x="23" y="49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26440" y="3230640"/>
              <a:ext cx="360360" cy="238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48760" y="3233880"/>
              <a:ext cx="31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0160000">
              <a:off x="8074080" y="3055680"/>
              <a:ext cx="324000" cy="44640"/>
            </a:xfrm>
            <a:custGeom>
              <a:avLst/>
              <a:gdLst/>
              <a:ahLst/>
              <a:rect l="l" t="t" r="r" b="b"/>
              <a:pathLst>
                <a:path w="566" h="89">
                  <a:moveTo>
                    <a:pt x="0" y="45"/>
                  </a:moveTo>
                  <a:lnTo>
                    <a:pt x="335" y="0"/>
                  </a:lnTo>
                  <a:lnTo>
                    <a:pt x="296" y="62"/>
                  </a:lnTo>
                  <a:lnTo>
                    <a:pt x="566" y="45"/>
                  </a:lnTo>
                  <a:lnTo>
                    <a:pt x="229" y="89"/>
                  </a:lnTo>
                  <a:lnTo>
                    <a:pt x="270" y="2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621920" y="3048120"/>
            <a:ext cx="607680" cy="658080"/>
            <a:chOff x="7621920" y="3048120"/>
            <a:chExt cx="607680" cy="658080"/>
          </a:xfrm>
        </p:grpSpPr>
        <p:sp>
          <p:nvSpPr>
            <p:cNvPr id="252" name=""/>
            <p:cNvSpPr/>
            <p:nvPr/>
          </p:nvSpPr>
          <p:spPr>
            <a:xfrm>
              <a:off x="8035920" y="3130560"/>
              <a:ext cx="27000" cy="3672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6" y="11"/>
                  </a:moveTo>
                  <a:lnTo>
                    <a:pt x="19" y="0"/>
                  </a:lnTo>
                  <a:lnTo>
                    <a:pt x="29" y="11"/>
                  </a:lnTo>
                  <a:lnTo>
                    <a:pt x="35" y="41"/>
                  </a:lnTo>
                  <a:lnTo>
                    <a:pt x="19" y="50"/>
                  </a:lnTo>
                  <a:lnTo>
                    <a:pt x="0" y="4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77240" y="3414960"/>
              <a:ext cx="144360" cy="28440"/>
            </a:xfrm>
            <a:custGeom>
              <a:avLst/>
              <a:gdLst/>
              <a:ahLst/>
              <a:rect l="l" t="t" r="r" b="b"/>
              <a:pathLst>
                <a:path w="189" h="40">
                  <a:moveTo>
                    <a:pt x="0" y="40"/>
                  </a:moveTo>
                  <a:lnTo>
                    <a:pt x="95" y="0"/>
                  </a:lnTo>
                  <a:lnTo>
                    <a:pt x="189" y="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77240" y="3114720"/>
              <a:ext cx="144360" cy="360360"/>
            </a:xfrm>
            <a:custGeom>
              <a:avLst/>
              <a:gdLst/>
              <a:ahLst/>
              <a:rect l="l" t="t" r="r" b="b"/>
              <a:pathLst>
                <a:path w="189" h="479">
                  <a:moveTo>
                    <a:pt x="95" y="0"/>
                  </a:moveTo>
                  <a:lnTo>
                    <a:pt x="95" y="479"/>
                  </a:lnTo>
                  <a:lnTo>
                    <a:pt x="0" y="438"/>
                  </a:lnTo>
                  <a:lnTo>
                    <a:pt x="95" y="0"/>
                  </a:lnTo>
                  <a:lnTo>
                    <a:pt x="189" y="438"/>
                  </a:lnTo>
                  <a:lnTo>
                    <a:pt x="95" y="4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31240" y="3198960"/>
              <a:ext cx="36360" cy="648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0" y="0"/>
                  </a:moveTo>
                  <a:lnTo>
                    <a:pt x="25" y="9"/>
                  </a:lnTo>
                  <a:lnTo>
                    <a:pt x="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24760" y="3224160"/>
              <a:ext cx="47880" cy="11160"/>
            </a:xfrm>
            <a:custGeom>
              <a:avLst/>
              <a:gdLst/>
              <a:ahLst/>
              <a:rect l="l" t="t" r="r" b="b"/>
              <a:pathLst>
                <a:path w="63" h="14">
                  <a:moveTo>
                    <a:pt x="0" y="0"/>
                  </a:moveTo>
                  <a:lnTo>
                    <a:pt x="33" y="14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018640" y="3251160"/>
              <a:ext cx="58680" cy="14400"/>
            </a:xfrm>
            <a:custGeom>
              <a:avLst/>
              <a:gdLst/>
              <a:ahLst/>
              <a:rect l="l" t="t" r="r" b="b"/>
              <a:pathLst>
                <a:path w="77" h="18">
                  <a:moveTo>
                    <a:pt x="0" y="0"/>
                  </a:moveTo>
                  <a:lnTo>
                    <a:pt x="41" y="18"/>
                  </a:lnTo>
                  <a:lnTo>
                    <a:pt x="7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12160" y="3281400"/>
              <a:ext cx="73080" cy="1296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0" y="0"/>
                  </a:moveTo>
                  <a:lnTo>
                    <a:pt x="50" y="19"/>
                  </a:lnTo>
                  <a:lnTo>
                    <a:pt x="9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07480" y="3306960"/>
              <a:ext cx="84240" cy="17280"/>
            </a:xfrm>
            <a:custGeom>
              <a:avLst/>
              <a:gdLst/>
              <a:ahLst/>
              <a:rect l="l" t="t" r="r" b="b"/>
              <a:pathLst>
                <a:path w="109" h="23">
                  <a:moveTo>
                    <a:pt x="0" y="0"/>
                  </a:moveTo>
                  <a:lnTo>
                    <a:pt x="56" y="23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01000" y="3333960"/>
              <a:ext cx="95400" cy="20520"/>
            </a:xfrm>
            <a:custGeom>
              <a:avLst/>
              <a:gdLst/>
              <a:ahLst/>
              <a:rect l="l" t="t" r="r" b="b"/>
              <a:pathLst>
                <a:path w="125" h="28">
                  <a:moveTo>
                    <a:pt x="0" y="1"/>
                  </a:moveTo>
                  <a:lnTo>
                    <a:pt x="64" y="28"/>
                  </a:lnTo>
                  <a:lnTo>
                    <a:pt x="12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94880" y="3360960"/>
              <a:ext cx="107640" cy="23760"/>
            </a:xfrm>
            <a:custGeom>
              <a:avLst/>
              <a:gdLst/>
              <a:ahLst/>
              <a:rect l="l" t="t" r="r" b="b"/>
              <a:pathLst>
                <a:path w="141" h="31">
                  <a:moveTo>
                    <a:pt x="0" y="0"/>
                  </a:moveTo>
                  <a:lnTo>
                    <a:pt x="72" y="31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89840" y="3389400"/>
              <a:ext cx="119160" cy="25560"/>
            </a:xfrm>
            <a:custGeom>
              <a:avLst/>
              <a:gdLst/>
              <a:ahLst/>
              <a:rect l="l" t="t" r="r" b="b"/>
              <a:pathLst>
                <a:path w="157" h="33">
                  <a:moveTo>
                    <a:pt x="0" y="0"/>
                  </a:moveTo>
                  <a:lnTo>
                    <a:pt x="80" y="33"/>
                  </a:lnTo>
                  <a:lnTo>
                    <a:pt x="1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83720" y="3416400"/>
              <a:ext cx="131760" cy="27000"/>
            </a:xfrm>
            <a:custGeom>
              <a:avLst/>
              <a:gdLst/>
              <a:ahLst/>
              <a:rect l="l" t="t" r="r" b="b"/>
              <a:pathLst>
                <a:path w="174" h="37">
                  <a:moveTo>
                    <a:pt x="0" y="1"/>
                  </a:moveTo>
                  <a:lnTo>
                    <a:pt x="88" y="37"/>
                  </a:lnTo>
                  <a:lnTo>
                    <a:pt x="17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77240" y="3100680"/>
              <a:ext cx="54000" cy="1404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70" y="20"/>
                  </a:moveTo>
                  <a:lnTo>
                    <a:pt x="23" y="18"/>
                  </a:lnTo>
                  <a:lnTo>
                    <a:pt x="48" y="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58240" y="3098880"/>
              <a:ext cx="63360" cy="19080"/>
            </a:xfrm>
            <a:custGeom>
              <a:avLst/>
              <a:gdLst/>
              <a:ahLst/>
              <a:rect l="l" t="t" r="r" b="b"/>
              <a:pathLst>
                <a:path w="84" h="25">
                  <a:moveTo>
                    <a:pt x="84" y="2"/>
                  </a:moveTo>
                  <a:lnTo>
                    <a:pt x="35" y="25"/>
                  </a:lnTo>
                  <a:lnTo>
                    <a:pt x="49" y="0"/>
                  </a:lnTo>
                  <a:lnTo>
                    <a:pt x="0" y="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40600" y="3048120"/>
              <a:ext cx="17640" cy="60480"/>
            </a:xfrm>
            <a:custGeom>
              <a:avLst/>
              <a:gdLst/>
              <a:ahLst/>
              <a:rect l="l" t="t" r="r" b="b"/>
              <a:pathLst>
                <a:path w="23" h="80">
                  <a:moveTo>
                    <a:pt x="13" y="80"/>
                  </a:moveTo>
                  <a:lnTo>
                    <a:pt x="0" y="30"/>
                  </a:lnTo>
                  <a:lnTo>
                    <a:pt x="23" y="49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69240" y="3459240"/>
              <a:ext cx="360360" cy="238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91560" y="3462480"/>
              <a:ext cx="31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0160000">
              <a:off x="7616880" y="3284280"/>
              <a:ext cx="324000" cy="44640"/>
            </a:xfrm>
            <a:custGeom>
              <a:avLst/>
              <a:gdLst/>
              <a:ahLst/>
              <a:rect l="l" t="t" r="r" b="b"/>
              <a:pathLst>
                <a:path w="566" h="89">
                  <a:moveTo>
                    <a:pt x="0" y="45"/>
                  </a:moveTo>
                  <a:lnTo>
                    <a:pt x="335" y="0"/>
                  </a:lnTo>
                  <a:lnTo>
                    <a:pt x="296" y="62"/>
                  </a:lnTo>
                  <a:lnTo>
                    <a:pt x="566" y="45"/>
                  </a:lnTo>
                  <a:lnTo>
                    <a:pt x="229" y="89"/>
                  </a:lnTo>
                  <a:lnTo>
                    <a:pt x="270" y="2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8460000" y="2465280"/>
            <a:ext cx="607680" cy="658080"/>
            <a:chOff x="8460000" y="2465280"/>
            <a:chExt cx="607680" cy="658080"/>
          </a:xfrm>
        </p:grpSpPr>
        <p:sp>
          <p:nvSpPr>
            <p:cNvPr id="271" name=""/>
            <p:cNvSpPr/>
            <p:nvPr/>
          </p:nvSpPr>
          <p:spPr>
            <a:xfrm>
              <a:off x="8874000" y="2547720"/>
              <a:ext cx="27000" cy="3672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6" y="11"/>
                  </a:moveTo>
                  <a:lnTo>
                    <a:pt x="19" y="0"/>
                  </a:lnTo>
                  <a:lnTo>
                    <a:pt x="29" y="11"/>
                  </a:lnTo>
                  <a:lnTo>
                    <a:pt x="35" y="41"/>
                  </a:lnTo>
                  <a:lnTo>
                    <a:pt x="19" y="50"/>
                  </a:lnTo>
                  <a:lnTo>
                    <a:pt x="0" y="4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15320" y="2832120"/>
              <a:ext cx="144360" cy="28440"/>
            </a:xfrm>
            <a:custGeom>
              <a:avLst/>
              <a:gdLst/>
              <a:ahLst/>
              <a:rect l="l" t="t" r="r" b="b"/>
              <a:pathLst>
                <a:path w="189" h="40">
                  <a:moveTo>
                    <a:pt x="0" y="40"/>
                  </a:moveTo>
                  <a:lnTo>
                    <a:pt x="95" y="0"/>
                  </a:lnTo>
                  <a:lnTo>
                    <a:pt x="189" y="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815320" y="2531880"/>
              <a:ext cx="144360" cy="360360"/>
            </a:xfrm>
            <a:custGeom>
              <a:avLst/>
              <a:gdLst/>
              <a:ahLst/>
              <a:rect l="l" t="t" r="r" b="b"/>
              <a:pathLst>
                <a:path w="189" h="479">
                  <a:moveTo>
                    <a:pt x="95" y="0"/>
                  </a:moveTo>
                  <a:lnTo>
                    <a:pt x="95" y="479"/>
                  </a:lnTo>
                  <a:lnTo>
                    <a:pt x="0" y="438"/>
                  </a:lnTo>
                  <a:lnTo>
                    <a:pt x="95" y="0"/>
                  </a:lnTo>
                  <a:lnTo>
                    <a:pt x="189" y="438"/>
                  </a:lnTo>
                  <a:lnTo>
                    <a:pt x="95" y="4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869320" y="2616120"/>
              <a:ext cx="36360" cy="648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0" y="0"/>
                  </a:moveTo>
                  <a:lnTo>
                    <a:pt x="25" y="9"/>
                  </a:lnTo>
                  <a:lnTo>
                    <a:pt x="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862840" y="2641320"/>
              <a:ext cx="47880" cy="11160"/>
            </a:xfrm>
            <a:custGeom>
              <a:avLst/>
              <a:gdLst/>
              <a:ahLst/>
              <a:rect l="l" t="t" r="r" b="b"/>
              <a:pathLst>
                <a:path w="63" h="14">
                  <a:moveTo>
                    <a:pt x="0" y="0"/>
                  </a:moveTo>
                  <a:lnTo>
                    <a:pt x="33" y="14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856720" y="2668320"/>
              <a:ext cx="58680" cy="14400"/>
            </a:xfrm>
            <a:custGeom>
              <a:avLst/>
              <a:gdLst/>
              <a:ahLst/>
              <a:rect l="l" t="t" r="r" b="b"/>
              <a:pathLst>
                <a:path w="77" h="18">
                  <a:moveTo>
                    <a:pt x="0" y="0"/>
                  </a:moveTo>
                  <a:lnTo>
                    <a:pt x="41" y="18"/>
                  </a:lnTo>
                  <a:lnTo>
                    <a:pt x="7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50240" y="2698560"/>
              <a:ext cx="73080" cy="1296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0" y="0"/>
                  </a:moveTo>
                  <a:lnTo>
                    <a:pt x="50" y="19"/>
                  </a:lnTo>
                  <a:lnTo>
                    <a:pt x="9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845560" y="2724120"/>
              <a:ext cx="84240" cy="17280"/>
            </a:xfrm>
            <a:custGeom>
              <a:avLst/>
              <a:gdLst/>
              <a:ahLst/>
              <a:rect l="l" t="t" r="r" b="b"/>
              <a:pathLst>
                <a:path w="109" h="23">
                  <a:moveTo>
                    <a:pt x="0" y="0"/>
                  </a:moveTo>
                  <a:lnTo>
                    <a:pt x="56" y="23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839080" y="2751120"/>
              <a:ext cx="95400" cy="20520"/>
            </a:xfrm>
            <a:custGeom>
              <a:avLst/>
              <a:gdLst/>
              <a:ahLst/>
              <a:rect l="l" t="t" r="r" b="b"/>
              <a:pathLst>
                <a:path w="125" h="28">
                  <a:moveTo>
                    <a:pt x="0" y="1"/>
                  </a:moveTo>
                  <a:lnTo>
                    <a:pt x="64" y="28"/>
                  </a:lnTo>
                  <a:lnTo>
                    <a:pt x="12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832960" y="2778120"/>
              <a:ext cx="107640" cy="23760"/>
            </a:xfrm>
            <a:custGeom>
              <a:avLst/>
              <a:gdLst/>
              <a:ahLst/>
              <a:rect l="l" t="t" r="r" b="b"/>
              <a:pathLst>
                <a:path w="141" h="31">
                  <a:moveTo>
                    <a:pt x="0" y="0"/>
                  </a:moveTo>
                  <a:lnTo>
                    <a:pt x="72" y="31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827920" y="2806560"/>
              <a:ext cx="119160" cy="25560"/>
            </a:xfrm>
            <a:custGeom>
              <a:avLst/>
              <a:gdLst/>
              <a:ahLst/>
              <a:rect l="l" t="t" r="r" b="b"/>
              <a:pathLst>
                <a:path w="157" h="33">
                  <a:moveTo>
                    <a:pt x="0" y="0"/>
                  </a:moveTo>
                  <a:lnTo>
                    <a:pt x="80" y="33"/>
                  </a:lnTo>
                  <a:lnTo>
                    <a:pt x="1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821800" y="2833560"/>
              <a:ext cx="131760" cy="27000"/>
            </a:xfrm>
            <a:custGeom>
              <a:avLst/>
              <a:gdLst/>
              <a:ahLst/>
              <a:rect l="l" t="t" r="r" b="b"/>
              <a:pathLst>
                <a:path w="174" h="37">
                  <a:moveTo>
                    <a:pt x="0" y="1"/>
                  </a:moveTo>
                  <a:lnTo>
                    <a:pt x="88" y="37"/>
                  </a:lnTo>
                  <a:lnTo>
                    <a:pt x="17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815320" y="2517840"/>
              <a:ext cx="54000" cy="1404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70" y="20"/>
                  </a:moveTo>
                  <a:lnTo>
                    <a:pt x="23" y="18"/>
                  </a:lnTo>
                  <a:lnTo>
                    <a:pt x="48" y="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896320" y="2516040"/>
              <a:ext cx="63360" cy="19080"/>
            </a:xfrm>
            <a:custGeom>
              <a:avLst/>
              <a:gdLst/>
              <a:ahLst/>
              <a:rect l="l" t="t" r="r" b="b"/>
              <a:pathLst>
                <a:path w="84" h="25">
                  <a:moveTo>
                    <a:pt x="84" y="2"/>
                  </a:moveTo>
                  <a:lnTo>
                    <a:pt x="35" y="25"/>
                  </a:lnTo>
                  <a:lnTo>
                    <a:pt x="49" y="0"/>
                  </a:lnTo>
                  <a:lnTo>
                    <a:pt x="0" y="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878680" y="2465280"/>
              <a:ext cx="17640" cy="60480"/>
            </a:xfrm>
            <a:custGeom>
              <a:avLst/>
              <a:gdLst/>
              <a:ahLst/>
              <a:rect l="l" t="t" r="r" b="b"/>
              <a:pathLst>
                <a:path w="23" h="80">
                  <a:moveTo>
                    <a:pt x="13" y="80"/>
                  </a:moveTo>
                  <a:lnTo>
                    <a:pt x="0" y="30"/>
                  </a:lnTo>
                  <a:lnTo>
                    <a:pt x="23" y="49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07320" y="2876400"/>
              <a:ext cx="360360" cy="238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29640" y="2879640"/>
              <a:ext cx="31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800" spc="-1" strike="noStrike">
                <a:solidFill>
                  <a:srgbClr val="ffff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0160000">
              <a:off x="8454960" y="2701440"/>
              <a:ext cx="324000" cy="44640"/>
            </a:xfrm>
            <a:custGeom>
              <a:avLst/>
              <a:gdLst/>
              <a:ahLst/>
              <a:rect l="l" t="t" r="r" b="b"/>
              <a:pathLst>
                <a:path w="566" h="89">
                  <a:moveTo>
                    <a:pt x="0" y="45"/>
                  </a:moveTo>
                  <a:lnTo>
                    <a:pt x="335" y="0"/>
                  </a:lnTo>
                  <a:lnTo>
                    <a:pt x="296" y="62"/>
                  </a:lnTo>
                  <a:lnTo>
                    <a:pt x="566" y="45"/>
                  </a:lnTo>
                  <a:lnTo>
                    <a:pt x="229" y="89"/>
                  </a:lnTo>
                  <a:lnTo>
                    <a:pt x="270" y="2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326360" y="2362320"/>
            <a:ext cx="731880" cy="314280"/>
          </a:xfrm>
          <a:custGeom>
            <a:avLst/>
            <a:gdLst/>
            <a:ahLst/>
            <a:rect l="l" t="t" r="r" b="b"/>
            <a:pathLst>
              <a:path w="461" h="198">
                <a:moveTo>
                  <a:pt x="0" y="198"/>
                </a:moveTo>
                <a:cubicBezTo>
                  <a:pt x="45" y="184"/>
                  <a:pt x="193" y="152"/>
                  <a:pt x="270" y="119"/>
                </a:cubicBezTo>
                <a:cubicBezTo>
                  <a:pt x="347" y="86"/>
                  <a:pt x="421" y="25"/>
                  <a:pt x="461" y="0"/>
                </a:cubicBezTo>
              </a:path>
            </a:pathLst>
          </a:custGeom>
          <a:noFill/>
          <a:ln w="633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2962440"/>
            <a:ext cx="787320" cy="237960"/>
          </a:xfrm>
          <a:custGeom>
            <a:avLst/>
            <a:gdLst/>
            <a:ahLst/>
            <a:rect l="l" t="t" r="r" b="b"/>
            <a:pathLst>
              <a:path w="461" h="198">
                <a:moveTo>
                  <a:pt x="0" y="198"/>
                </a:moveTo>
                <a:cubicBezTo>
                  <a:pt x="45" y="184"/>
                  <a:pt x="193" y="152"/>
                  <a:pt x="270" y="119"/>
                </a:cubicBezTo>
                <a:cubicBezTo>
                  <a:pt x="347" y="86"/>
                  <a:pt x="421" y="25"/>
                  <a:pt x="461" y="0"/>
                </a:cubicBezTo>
              </a:path>
            </a:pathLst>
          </a:custGeom>
          <a:noFill/>
          <a:ln w="633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6"/>
          <a:stretch/>
        </p:blipFill>
        <p:spPr>
          <a:xfrm>
            <a:off x="5661000" y="5172120"/>
            <a:ext cx="601560" cy="304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7"/>
          <a:stretch/>
        </p:blipFill>
        <p:spPr>
          <a:xfrm>
            <a:off x="5562720" y="4876920"/>
            <a:ext cx="799920" cy="3808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6896160" y="4462560"/>
            <a:ext cx="799920" cy="380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8267760" y="3733920"/>
            <a:ext cx="799920" cy="380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0"/>
          <a:stretch/>
        </p:blipFill>
        <p:spPr>
          <a:xfrm>
            <a:off x="1143000" y="5838840"/>
            <a:ext cx="5029200" cy="7142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1"/>
          <a:stretch/>
        </p:blipFill>
        <p:spPr>
          <a:xfrm>
            <a:off x="6553080" y="5257800"/>
            <a:ext cx="2590920" cy="7142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393720" y="6000840"/>
            <a:ext cx="1024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80760" y="5506920"/>
            <a:ext cx="188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vider #2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140360" y="4249440"/>
            <a:ext cx="496800" cy="551160"/>
            <a:chOff x="4140360" y="4249440"/>
            <a:chExt cx="496800" cy="551160"/>
          </a:xfrm>
        </p:grpSpPr>
        <p:sp>
          <p:nvSpPr>
            <p:cNvPr id="300" name=""/>
            <p:cNvSpPr/>
            <p:nvPr/>
          </p:nvSpPr>
          <p:spPr>
            <a:xfrm>
              <a:off x="4140360" y="4611960"/>
              <a:ext cx="496800" cy="188640"/>
            </a:xfrm>
            <a:prstGeom prst="ellipse">
              <a:avLst/>
            </a:prstGeom>
            <a:solidFill>
              <a:srgbClr val="0078aa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40360" y="4581720"/>
              <a:ext cx="479520" cy="1159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40360" y="4581720"/>
              <a:ext cx="479520" cy="1159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40360" y="4481640"/>
              <a:ext cx="496800" cy="190440"/>
            </a:xfrm>
            <a:prstGeom prst="ellipse">
              <a:avLst/>
            </a:prstGeom>
            <a:solidFill>
              <a:srgbClr val="00b4ff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88040" y="450864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6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88040" y="450864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6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16680" y="4581720"/>
              <a:ext cx="155520" cy="58680"/>
            </a:xfrm>
            <a:custGeom>
              <a:avLst/>
              <a:gdLst/>
              <a:ahLst/>
              <a:rect l="l" t="t" r="r" b="b"/>
              <a:pathLst>
                <a:path w="98" h="37">
                  <a:moveTo>
                    <a:pt x="98" y="0"/>
                  </a:moveTo>
                  <a:lnTo>
                    <a:pt x="78" y="0"/>
                  </a:lnTo>
                  <a:lnTo>
                    <a:pt x="20" y="19"/>
                  </a:lnTo>
                  <a:lnTo>
                    <a:pt x="0" y="9"/>
                  </a:lnTo>
                  <a:lnTo>
                    <a:pt x="10" y="37"/>
                  </a:lnTo>
                  <a:lnTo>
                    <a:pt x="78" y="37"/>
                  </a:lnTo>
                  <a:lnTo>
                    <a:pt x="49" y="2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16680" y="4581720"/>
              <a:ext cx="155520" cy="58680"/>
            </a:xfrm>
            <a:custGeom>
              <a:avLst/>
              <a:gdLst/>
              <a:ahLst/>
              <a:rect l="l" t="t" r="r" b="b"/>
              <a:pathLst>
                <a:path w="98" h="37">
                  <a:moveTo>
                    <a:pt x="98" y="0"/>
                  </a:moveTo>
                  <a:lnTo>
                    <a:pt x="78" y="0"/>
                  </a:lnTo>
                  <a:lnTo>
                    <a:pt x="20" y="19"/>
                  </a:lnTo>
                  <a:lnTo>
                    <a:pt x="0" y="9"/>
                  </a:lnTo>
                  <a:lnTo>
                    <a:pt x="10" y="37"/>
                  </a:lnTo>
                  <a:lnTo>
                    <a:pt x="78" y="37"/>
                  </a:lnTo>
                  <a:lnTo>
                    <a:pt x="49" y="2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16680" y="450864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2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4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16680" y="450864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2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4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88040" y="45817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7" y="28"/>
                  </a:moveTo>
                  <a:lnTo>
                    <a:pt x="68" y="37"/>
                  </a:lnTo>
                  <a:lnTo>
                    <a:pt x="19" y="9"/>
                  </a:lnTo>
                  <a:lnTo>
                    <a:pt x="0" y="19"/>
                  </a:lnTo>
                  <a:lnTo>
                    <a:pt x="9" y="0"/>
                  </a:lnTo>
                  <a:lnTo>
                    <a:pt x="68" y="0"/>
                  </a:lnTo>
                  <a:lnTo>
                    <a:pt x="48" y="9"/>
                  </a:lnTo>
                  <a:lnTo>
                    <a:pt x="9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88040" y="45817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7" y="28"/>
                  </a:moveTo>
                  <a:lnTo>
                    <a:pt x="68" y="37"/>
                  </a:lnTo>
                  <a:lnTo>
                    <a:pt x="19" y="9"/>
                  </a:lnTo>
                  <a:lnTo>
                    <a:pt x="0" y="19"/>
                  </a:lnTo>
                  <a:lnTo>
                    <a:pt x="9" y="0"/>
                  </a:lnTo>
                  <a:lnTo>
                    <a:pt x="68" y="0"/>
                  </a:lnTo>
                  <a:lnTo>
                    <a:pt x="48" y="9"/>
                  </a:lnTo>
                  <a:lnTo>
                    <a:pt x="9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88040" y="450864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7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88040" y="450864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7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16680" y="4581720"/>
              <a:ext cx="155520" cy="58680"/>
            </a:xfrm>
            <a:custGeom>
              <a:avLst/>
              <a:gdLst/>
              <a:ahLst/>
              <a:rect l="l" t="t" r="r" b="b"/>
              <a:pathLst>
                <a:path w="98" h="37">
                  <a:moveTo>
                    <a:pt x="98" y="0"/>
                  </a:moveTo>
                  <a:lnTo>
                    <a:pt x="78" y="0"/>
                  </a:lnTo>
                  <a:lnTo>
                    <a:pt x="20" y="19"/>
                  </a:lnTo>
                  <a:lnTo>
                    <a:pt x="0" y="9"/>
                  </a:lnTo>
                  <a:lnTo>
                    <a:pt x="10" y="37"/>
                  </a:lnTo>
                  <a:lnTo>
                    <a:pt x="78" y="37"/>
                  </a:lnTo>
                  <a:lnTo>
                    <a:pt x="49" y="2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16680" y="4581720"/>
              <a:ext cx="155520" cy="58680"/>
            </a:xfrm>
            <a:custGeom>
              <a:avLst/>
              <a:gdLst/>
              <a:ahLst/>
              <a:rect l="l" t="t" r="r" b="b"/>
              <a:pathLst>
                <a:path w="98" h="37">
                  <a:moveTo>
                    <a:pt x="98" y="0"/>
                  </a:moveTo>
                  <a:lnTo>
                    <a:pt x="78" y="0"/>
                  </a:lnTo>
                  <a:lnTo>
                    <a:pt x="20" y="19"/>
                  </a:lnTo>
                  <a:lnTo>
                    <a:pt x="0" y="9"/>
                  </a:lnTo>
                  <a:lnTo>
                    <a:pt x="10" y="37"/>
                  </a:lnTo>
                  <a:lnTo>
                    <a:pt x="78" y="37"/>
                  </a:lnTo>
                  <a:lnTo>
                    <a:pt x="49" y="2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16680" y="450864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3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5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16680" y="450864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3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5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88040" y="45817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7" y="28"/>
                  </a:moveTo>
                  <a:lnTo>
                    <a:pt x="68" y="37"/>
                  </a:lnTo>
                  <a:lnTo>
                    <a:pt x="19" y="9"/>
                  </a:lnTo>
                  <a:lnTo>
                    <a:pt x="0" y="19"/>
                  </a:lnTo>
                  <a:lnTo>
                    <a:pt x="9" y="0"/>
                  </a:lnTo>
                  <a:lnTo>
                    <a:pt x="68" y="0"/>
                  </a:lnTo>
                  <a:lnTo>
                    <a:pt x="48" y="9"/>
                  </a:lnTo>
                  <a:lnTo>
                    <a:pt x="9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88040" y="45817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7" y="28"/>
                  </a:moveTo>
                  <a:lnTo>
                    <a:pt x="68" y="37"/>
                  </a:lnTo>
                  <a:lnTo>
                    <a:pt x="19" y="9"/>
                  </a:lnTo>
                  <a:lnTo>
                    <a:pt x="0" y="19"/>
                  </a:lnTo>
                  <a:lnTo>
                    <a:pt x="9" y="0"/>
                  </a:lnTo>
                  <a:lnTo>
                    <a:pt x="68" y="0"/>
                  </a:lnTo>
                  <a:lnTo>
                    <a:pt x="48" y="9"/>
                  </a:lnTo>
                  <a:lnTo>
                    <a:pt x="9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40360" y="4567320"/>
              <a:ext cx="1440" cy="13032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19880" y="4567320"/>
              <a:ext cx="1440" cy="13032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80040" y="4308480"/>
              <a:ext cx="201600" cy="4284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32520" y="4292640"/>
              <a:ext cx="295200" cy="7308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56360" y="4249800"/>
              <a:ext cx="47520" cy="289080"/>
            </a:xfrm>
            <a:custGeom>
              <a:avLst/>
              <a:gdLst/>
              <a:ahLst/>
              <a:rect l="l" t="t" r="r" b="b"/>
              <a:pathLst>
                <a:path w="30" h="182">
                  <a:moveTo>
                    <a:pt x="2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0" y="182"/>
                  </a:lnTo>
                  <a:lnTo>
                    <a:pt x="20" y="182"/>
                  </a:lnTo>
                  <a:lnTo>
                    <a:pt x="30" y="182"/>
                  </a:lnTo>
                  <a:lnTo>
                    <a:pt x="30" y="172"/>
                  </a:lnTo>
                  <a:lnTo>
                    <a:pt x="3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56360" y="4249800"/>
              <a:ext cx="47520" cy="144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0" y="9"/>
                  </a:lnTo>
                  <a:lnTo>
                    <a:pt x="10" y="9"/>
                  </a:lnTo>
                  <a:lnTo>
                    <a:pt x="20" y="9"/>
                  </a:lnTo>
                  <a:lnTo>
                    <a:pt x="30" y="9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56360" y="436428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56360" y="434988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56360" y="433548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4403880" y="4349520"/>
              <a:ext cx="1800" cy="173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356360" y="4363920"/>
              <a:ext cx="1440" cy="174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87880" y="4278600"/>
              <a:ext cx="387360" cy="10296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56360" y="4249800"/>
              <a:ext cx="63360" cy="604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403880" y="4249440"/>
              <a:ext cx="1800" cy="7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356360" y="4249440"/>
              <a:ext cx="1440" cy="7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862440" y="3297240"/>
            <a:ext cx="5871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3360" y="1219320"/>
            <a:ext cx="130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G (UMTS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473280" y="4266720"/>
            <a:ext cx="496800" cy="551160"/>
            <a:chOff x="3473280" y="4266720"/>
            <a:chExt cx="496800" cy="551160"/>
          </a:xfrm>
        </p:grpSpPr>
        <p:sp>
          <p:nvSpPr>
            <p:cNvPr id="338" name=""/>
            <p:cNvSpPr/>
            <p:nvPr/>
          </p:nvSpPr>
          <p:spPr>
            <a:xfrm>
              <a:off x="3473280" y="4629240"/>
              <a:ext cx="496800" cy="188640"/>
            </a:xfrm>
            <a:prstGeom prst="ellipse">
              <a:avLst/>
            </a:prstGeom>
            <a:solidFill>
              <a:srgbClr val="0078aa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73280" y="4599000"/>
              <a:ext cx="479520" cy="1159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73280" y="4599000"/>
              <a:ext cx="479520" cy="1159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73280" y="4498920"/>
              <a:ext cx="496800" cy="190440"/>
            </a:xfrm>
            <a:prstGeom prst="ellipse">
              <a:avLst/>
            </a:prstGeom>
            <a:solidFill>
              <a:srgbClr val="00b4ff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20960" y="4525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6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20960" y="4525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6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49600" y="4599000"/>
              <a:ext cx="155520" cy="58680"/>
            </a:xfrm>
            <a:custGeom>
              <a:avLst/>
              <a:gdLst/>
              <a:ahLst/>
              <a:rect l="l" t="t" r="r" b="b"/>
              <a:pathLst>
                <a:path w="98" h="37">
                  <a:moveTo>
                    <a:pt x="98" y="0"/>
                  </a:moveTo>
                  <a:lnTo>
                    <a:pt x="78" y="0"/>
                  </a:lnTo>
                  <a:lnTo>
                    <a:pt x="20" y="19"/>
                  </a:lnTo>
                  <a:lnTo>
                    <a:pt x="0" y="9"/>
                  </a:lnTo>
                  <a:lnTo>
                    <a:pt x="10" y="37"/>
                  </a:lnTo>
                  <a:lnTo>
                    <a:pt x="78" y="37"/>
                  </a:lnTo>
                  <a:lnTo>
                    <a:pt x="49" y="2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49600" y="4599000"/>
              <a:ext cx="155520" cy="58680"/>
            </a:xfrm>
            <a:custGeom>
              <a:avLst/>
              <a:gdLst/>
              <a:ahLst/>
              <a:rect l="l" t="t" r="r" b="b"/>
              <a:pathLst>
                <a:path w="98" h="37">
                  <a:moveTo>
                    <a:pt x="98" y="0"/>
                  </a:moveTo>
                  <a:lnTo>
                    <a:pt x="78" y="0"/>
                  </a:lnTo>
                  <a:lnTo>
                    <a:pt x="20" y="19"/>
                  </a:lnTo>
                  <a:lnTo>
                    <a:pt x="0" y="9"/>
                  </a:lnTo>
                  <a:lnTo>
                    <a:pt x="10" y="37"/>
                  </a:lnTo>
                  <a:lnTo>
                    <a:pt x="78" y="37"/>
                  </a:lnTo>
                  <a:lnTo>
                    <a:pt x="49" y="2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49600" y="452592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2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4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49600" y="452592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2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4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20960" y="459900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7" y="28"/>
                  </a:moveTo>
                  <a:lnTo>
                    <a:pt x="68" y="37"/>
                  </a:lnTo>
                  <a:lnTo>
                    <a:pt x="19" y="9"/>
                  </a:lnTo>
                  <a:lnTo>
                    <a:pt x="0" y="19"/>
                  </a:lnTo>
                  <a:lnTo>
                    <a:pt x="9" y="0"/>
                  </a:lnTo>
                  <a:lnTo>
                    <a:pt x="68" y="0"/>
                  </a:lnTo>
                  <a:lnTo>
                    <a:pt x="48" y="9"/>
                  </a:lnTo>
                  <a:lnTo>
                    <a:pt x="9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20960" y="459900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7" y="28"/>
                  </a:moveTo>
                  <a:lnTo>
                    <a:pt x="68" y="37"/>
                  </a:lnTo>
                  <a:lnTo>
                    <a:pt x="19" y="9"/>
                  </a:lnTo>
                  <a:lnTo>
                    <a:pt x="0" y="19"/>
                  </a:lnTo>
                  <a:lnTo>
                    <a:pt x="9" y="0"/>
                  </a:lnTo>
                  <a:lnTo>
                    <a:pt x="68" y="0"/>
                  </a:lnTo>
                  <a:lnTo>
                    <a:pt x="48" y="9"/>
                  </a:lnTo>
                  <a:lnTo>
                    <a:pt x="9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20960" y="4525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7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20960" y="4525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7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49600" y="4599000"/>
              <a:ext cx="155520" cy="58680"/>
            </a:xfrm>
            <a:custGeom>
              <a:avLst/>
              <a:gdLst/>
              <a:ahLst/>
              <a:rect l="l" t="t" r="r" b="b"/>
              <a:pathLst>
                <a:path w="98" h="37">
                  <a:moveTo>
                    <a:pt x="98" y="0"/>
                  </a:moveTo>
                  <a:lnTo>
                    <a:pt x="78" y="0"/>
                  </a:lnTo>
                  <a:lnTo>
                    <a:pt x="20" y="19"/>
                  </a:lnTo>
                  <a:lnTo>
                    <a:pt x="0" y="9"/>
                  </a:lnTo>
                  <a:lnTo>
                    <a:pt x="10" y="37"/>
                  </a:lnTo>
                  <a:lnTo>
                    <a:pt x="78" y="37"/>
                  </a:lnTo>
                  <a:lnTo>
                    <a:pt x="49" y="2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49600" y="4599000"/>
              <a:ext cx="155520" cy="58680"/>
            </a:xfrm>
            <a:custGeom>
              <a:avLst/>
              <a:gdLst/>
              <a:ahLst/>
              <a:rect l="l" t="t" r="r" b="b"/>
              <a:pathLst>
                <a:path w="98" h="37">
                  <a:moveTo>
                    <a:pt x="98" y="0"/>
                  </a:moveTo>
                  <a:lnTo>
                    <a:pt x="78" y="0"/>
                  </a:lnTo>
                  <a:lnTo>
                    <a:pt x="20" y="19"/>
                  </a:lnTo>
                  <a:lnTo>
                    <a:pt x="0" y="9"/>
                  </a:lnTo>
                  <a:lnTo>
                    <a:pt x="10" y="37"/>
                  </a:lnTo>
                  <a:lnTo>
                    <a:pt x="78" y="37"/>
                  </a:lnTo>
                  <a:lnTo>
                    <a:pt x="49" y="2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49600" y="452592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3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5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49600" y="452592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3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5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20960" y="459900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7" y="28"/>
                  </a:moveTo>
                  <a:lnTo>
                    <a:pt x="68" y="37"/>
                  </a:lnTo>
                  <a:lnTo>
                    <a:pt x="19" y="9"/>
                  </a:lnTo>
                  <a:lnTo>
                    <a:pt x="0" y="19"/>
                  </a:lnTo>
                  <a:lnTo>
                    <a:pt x="9" y="0"/>
                  </a:lnTo>
                  <a:lnTo>
                    <a:pt x="68" y="0"/>
                  </a:lnTo>
                  <a:lnTo>
                    <a:pt x="48" y="9"/>
                  </a:lnTo>
                  <a:lnTo>
                    <a:pt x="9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20960" y="459900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7" y="28"/>
                  </a:moveTo>
                  <a:lnTo>
                    <a:pt x="68" y="37"/>
                  </a:lnTo>
                  <a:lnTo>
                    <a:pt x="19" y="9"/>
                  </a:lnTo>
                  <a:lnTo>
                    <a:pt x="0" y="19"/>
                  </a:lnTo>
                  <a:lnTo>
                    <a:pt x="9" y="0"/>
                  </a:lnTo>
                  <a:lnTo>
                    <a:pt x="68" y="0"/>
                  </a:lnTo>
                  <a:lnTo>
                    <a:pt x="48" y="9"/>
                  </a:lnTo>
                  <a:lnTo>
                    <a:pt x="9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73280" y="4584600"/>
              <a:ext cx="1440" cy="13032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52800" y="4584600"/>
              <a:ext cx="1440" cy="13032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12960" y="4325760"/>
              <a:ext cx="201600" cy="4284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65440" y="4309920"/>
              <a:ext cx="295200" cy="7308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89280" y="4267080"/>
              <a:ext cx="47520" cy="289080"/>
            </a:xfrm>
            <a:custGeom>
              <a:avLst/>
              <a:gdLst/>
              <a:ahLst/>
              <a:rect l="l" t="t" r="r" b="b"/>
              <a:pathLst>
                <a:path w="30" h="182">
                  <a:moveTo>
                    <a:pt x="2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0" y="182"/>
                  </a:lnTo>
                  <a:lnTo>
                    <a:pt x="20" y="182"/>
                  </a:lnTo>
                  <a:lnTo>
                    <a:pt x="30" y="182"/>
                  </a:lnTo>
                  <a:lnTo>
                    <a:pt x="30" y="172"/>
                  </a:lnTo>
                  <a:lnTo>
                    <a:pt x="3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89280" y="4267080"/>
              <a:ext cx="47520" cy="144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0" y="9"/>
                  </a:lnTo>
                  <a:lnTo>
                    <a:pt x="10" y="9"/>
                  </a:lnTo>
                  <a:lnTo>
                    <a:pt x="20" y="9"/>
                  </a:lnTo>
                  <a:lnTo>
                    <a:pt x="30" y="9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89280" y="438156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89280" y="436716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89280" y="435276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736800" y="4366800"/>
              <a:ext cx="1800" cy="173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689280" y="4381200"/>
              <a:ext cx="1440" cy="174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20800" y="4295880"/>
              <a:ext cx="387360" cy="10296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89280" y="4267080"/>
              <a:ext cx="63360" cy="604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736800" y="4266720"/>
              <a:ext cx="1800" cy="7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689280" y="4266720"/>
              <a:ext cx="1440" cy="7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pic>
        <p:nvPicPr>
          <p:cNvPr id="373" name="" descr=""/>
          <p:cNvPicPr/>
          <p:nvPr/>
        </p:nvPicPr>
        <p:blipFill>
          <a:blip r:embed="rId12"/>
          <a:stretch/>
        </p:blipFill>
        <p:spPr>
          <a:xfrm>
            <a:off x="2666880" y="5076720"/>
            <a:ext cx="2590920" cy="714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083400" y="5318280"/>
            <a:ext cx="188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vider #1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3"/>
          <a:stretch/>
        </p:blipFill>
        <p:spPr>
          <a:xfrm>
            <a:off x="3987720" y="3276720"/>
            <a:ext cx="628560" cy="533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4724280" y="3276720"/>
            <a:ext cx="457200" cy="228600"/>
          </a:xfrm>
          <a:custGeom>
            <a:avLst/>
            <a:gdLst/>
            <a:ahLst/>
            <a:rect l="l" t="t" r="r" b="b"/>
            <a:pathLst>
              <a:path w="461" h="198">
                <a:moveTo>
                  <a:pt x="0" y="198"/>
                </a:moveTo>
                <a:cubicBezTo>
                  <a:pt x="45" y="184"/>
                  <a:pt x="193" y="152"/>
                  <a:pt x="270" y="119"/>
                </a:cubicBezTo>
                <a:cubicBezTo>
                  <a:pt x="347" y="86"/>
                  <a:pt x="421" y="25"/>
                  <a:pt x="461" y="0"/>
                </a:cubicBezTo>
              </a:path>
            </a:pathLst>
          </a:custGeom>
          <a:noFill/>
          <a:ln w="633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824200" y="4266720"/>
            <a:ext cx="496800" cy="551160"/>
            <a:chOff x="2824200" y="4266720"/>
            <a:chExt cx="496800" cy="551160"/>
          </a:xfrm>
        </p:grpSpPr>
        <p:sp>
          <p:nvSpPr>
            <p:cNvPr id="378" name=""/>
            <p:cNvSpPr/>
            <p:nvPr/>
          </p:nvSpPr>
          <p:spPr>
            <a:xfrm>
              <a:off x="2824200" y="4629240"/>
              <a:ext cx="496800" cy="188640"/>
            </a:xfrm>
            <a:prstGeom prst="ellipse">
              <a:avLst/>
            </a:prstGeom>
            <a:solidFill>
              <a:srgbClr val="0078aa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24200" y="4599000"/>
              <a:ext cx="479520" cy="1159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24200" y="4599000"/>
              <a:ext cx="479520" cy="1159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24200" y="4498920"/>
              <a:ext cx="496800" cy="190440"/>
            </a:xfrm>
            <a:prstGeom prst="ellipse">
              <a:avLst/>
            </a:prstGeom>
            <a:solidFill>
              <a:srgbClr val="00b4ff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71880" y="4525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6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71880" y="4525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6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00520" y="4599000"/>
              <a:ext cx="155520" cy="58680"/>
            </a:xfrm>
            <a:custGeom>
              <a:avLst/>
              <a:gdLst/>
              <a:ahLst/>
              <a:rect l="l" t="t" r="r" b="b"/>
              <a:pathLst>
                <a:path w="98" h="37">
                  <a:moveTo>
                    <a:pt x="98" y="0"/>
                  </a:moveTo>
                  <a:lnTo>
                    <a:pt x="78" y="0"/>
                  </a:lnTo>
                  <a:lnTo>
                    <a:pt x="20" y="19"/>
                  </a:lnTo>
                  <a:lnTo>
                    <a:pt x="0" y="9"/>
                  </a:lnTo>
                  <a:lnTo>
                    <a:pt x="10" y="37"/>
                  </a:lnTo>
                  <a:lnTo>
                    <a:pt x="78" y="37"/>
                  </a:lnTo>
                  <a:lnTo>
                    <a:pt x="49" y="2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00520" y="4599000"/>
              <a:ext cx="155520" cy="58680"/>
            </a:xfrm>
            <a:custGeom>
              <a:avLst/>
              <a:gdLst/>
              <a:ahLst/>
              <a:rect l="l" t="t" r="r" b="b"/>
              <a:pathLst>
                <a:path w="98" h="37">
                  <a:moveTo>
                    <a:pt x="98" y="0"/>
                  </a:moveTo>
                  <a:lnTo>
                    <a:pt x="78" y="0"/>
                  </a:lnTo>
                  <a:lnTo>
                    <a:pt x="20" y="19"/>
                  </a:lnTo>
                  <a:lnTo>
                    <a:pt x="0" y="9"/>
                  </a:lnTo>
                  <a:lnTo>
                    <a:pt x="10" y="37"/>
                  </a:lnTo>
                  <a:lnTo>
                    <a:pt x="78" y="37"/>
                  </a:lnTo>
                  <a:lnTo>
                    <a:pt x="49" y="2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00520" y="452592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2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4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00520" y="452592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2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4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71880" y="459900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7" y="28"/>
                  </a:moveTo>
                  <a:lnTo>
                    <a:pt x="68" y="37"/>
                  </a:lnTo>
                  <a:lnTo>
                    <a:pt x="19" y="9"/>
                  </a:lnTo>
                  <a:lnTo>
                    <a:pt x="0" y="19"/>
                  </a:lnTo>
                  <a:lnTo>
                    <a:pt x="9" y="0"/>
                  </a:lnTo>
                  <a:lnTo>
                    <a:pt x="68" y="0"/>
                  </a:lnTo>
                  <a:lnTo>
                    <a:pt x="48" y="9"/>
                  </a:lnTo>
                  <a:lnTo>
                    <a:pt x="9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71880" y="459900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7" y="28"/>
                  </a:moveTo>
                  <a:lnTo>
                    <a:pt x="68" y="37"/>
                  </a:lnTo>
                  <a:lnTo>
                    <a:pt x="19" y="9"/>
                  </a:lnTo>
                  <a:lnTo>
                    <a:pt x="0" y="19"/>
                  </a:lnTo>
                  <a:lnTo>
                    <a:pt x="9" y="0"/>
                  </a:lnTo>
                  <a:lnTo>
                    <a:pt x="68" y="0"/>
                  </a:lnTo>
                  <a:lnTo>
                    <a:pt x="48" y="9"/>
                  </a:lnTo>
                  <a:lnTo>
                    <a:pt x="9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71880" y="4525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7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71880" y="4525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28"/>
                  </a:moveTo>
                  <a:lnTo>
                    <a:pt x="19" y="37"/>
                  </a:lnTo>
                  <a:lnTo>
                    <a:pt x="78" y="11"/>
                  </a:lnTo>
                  <a:lnTo>
                    <a:pt x="97" y="20"/>
                  </a:lnTo>
                  <a:lnTo>
                    <a:pt x="87" y="0"/>
                  </a:lnTo>
                  <a:lnTo>
                    <a:pt x="19" y="0"/>
                  </a:lnTo>
                  <a:lnTo>
                    <a:pt x="48" y="1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00520" y="4599000"/>
              <a:ext cx="155520" cy="58680"/>
            </a:xfrm>
            <a:custGeom>
              <a:avLst/>
              <a:gdLst/>
              <a:ahLst/>
              <a:rect l="l" t="t" r="r" b="b"/>
              <a:pathLst>
                <a:path w="98" h="37">
                  <a:moveTo>
                    <a:pt x="98" y="0"/>
                  </a:moveTo>
                  <a:lnTo>
                    <a:pt x="78" y="0"/>
                  </a:lnTo>
                  <a:lnTo>
                    <a:pt x="20" y="19"/>
                  </a:lnTo>
                  <a:lnTo>
                    <a:pt x="0" y="9"/>
                  </a:lnTo>
                  <a:lnTo>
                    <a:pt x="10" y="37"/>
                  </a:lnTo>
                  <a:lnTo>
                    <a:pt x="78" y="37"/>
                  </a:lnTo>
                  <a:lnTo>
                    <a:pt x="49" y="2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00520" y="4599000"/>
              <a:ext cx="155520" cy="58680"/>
            </a:xfrm>
            <a:custGeom>
              <a:avLst/>
              <a:gdLst/>
              <a:ahLst/>
              <a:rect l="l" t="t" r="r" b="b"/>
              <a:pathLst>
                <a:path w="98" h="37">
                  <a:moveTo>
                    <a:pt x="98" y="0"/>
                  </a:moveTo>
                  <a:lnTo>
                    <a:pt x="78" y="0"/>
                  </a:lnTo>
                  <a:lnTo>
                    <a:pt x="20" y="19"/>
                  </a:lnTo>
                  <a:lnTo>
                    <a:pt x="0" y="9"/>
                  </a:lnTo>
                  <a:lnTo>
                    <a:pt x="10" y="37"/>
                  </a:lnTo>
                  <a:lnTo>
                    <a:pt x="78" y="37"/>
                  </a:lnTo>
                  <a:lnTo>
                    <a:pt x="49" y="2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00520" y="452592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3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5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00520" y="4525920"/>
              <a:ext cx="17136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11"/>
                  </a:moveTo>
                  <a:lnTo>
                    <a:pt x="30" y="0"/>
                  </a:lnTo>
                  <a:lnTo>
                    <a:pt x="78" y="20"/>
                  </a:lnTo>
                  <a:lnTo>
                    <a:pt x="108" y="20"/>
                  </a:lnTo>
                  <a:lnTo>
                    <a:pt x="88" y="37"/>
                  </a:lnTo>
                  <a:lnTo>
                    <a:pt x="30" y="37"/>
                  </a:lnTo>
                  <a:lnTo>
                    <a:pt x="59" y="2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071880" y="459900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7" y="28"/>
                  </a:moveTo>
                  <a:lnTo>
                    <a:pt x="68" y="37"/>
                  </a:lnTo>
                  <a:lnTo>
                    <a:pt x="19" y="9"/>
                  </a:lnTo>
                  <a:lnTo>
                    <a:pt x="0" y="19"/>
                  </a:lnTo>
                  <a:lnTo>
                    <a:pt x="9" y="0"/>
                  </a:lnTo>
                  <a:lnTo>
                    <a:pt x="68" y="0"/>
                  </a:lnTo>
                  <a:lnTo>
                    <a:pt x="48" y="9"/>
                  </a:lnTo>
                  <a:lnTo>
                    <a:pt x="9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71880" y="459900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7" y="28"/>
                  </a:moveTo>
                  <a:lnTo>
                    <a:pt x="68" y="37"/>
                  </a:lnTo>
                  <a:lnTo>
                    <a:pt x="19" y="9"/>
                  </a:lnTo>
                  <a:lnTo>
                    <a:pt x="0" y="19"/>
                  </a:lnTo>
                  <a:lnTo>
                    <a:pt x="9" y="0"/>
                  </a:lnTo>
                  <a:lnTo>
                    <a:pt x="68" y="0"/>
                  </a:lnTo>
                  <a:lnTo>
                    <a:pt x="48" y="9"/>
                  </a:lnTo>
                  <a:lnTo>
                    <a:pt x="9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24200" y="4584600"/>
              <a:ext cx="1440" cy="13032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03720" y="4584600"/>
              <a:ext cx="1440" cy="13032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63880" y="4325760"/>
              <a:ext cx="201600" cy="4284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16360" y="4309920"/>
              <a:ext cx="295200" cy="7308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40200" y="4267080"/>
              <a:ext cx="47520" cy="289080"/>
            </a:xfrm>
            <a:custGeom>
              <a:avLst/>
              <a:gdLst/>
              <a:ahLst/>
              <a:rect l="l" t="t" r="r" b="b"/>
              <a:pathLst>
                <a:path w="30" h="182">
                  <a:moveTo>
                    <a:pt x="2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0" y="182"/>
                  </a:lnTo>
                  <a:lnTo>
                    <a:pt x="20" y="182"/>
                  </a:lnTo>
                  <a:lnTo>
                    <a:pt x="30" y="182"/>
                  </a:lnTo>
                  <a:lnTo>
                    <a:pt x="30" y="172"/>
                  </a:lnTo>
                  <a:lnTo>
                    <a:pt x="3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0200" y="4267080"/>
              <a:ext cx="47520" cy="144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0" y="9"/>
                  </a:lnTo>
                  <a:lnTo>
                    <a:pt x="10" y="9"/>
                  </a:lnTo>
                  <a:lnTo>
                    <a:pt x="20" y="9"/>
                  </a:lnTo>
                  <a:lnTo>
                    <a:pt x="30" y="9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40200" y="438156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40200" y="436716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40200" y="435276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087720" y="4366800"/>
              <a:ext cx="1800" cy="173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040200" y="4381200"/>
              <a:ext cx="1440" cy="174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71720" y="4295880"/>
              <a:ext cx="387360" cy="10296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40200" y="4267080"/>
              <a:ext cx="63360" cy="604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087720" y="4266720"/>
              <a:ext cx="1800" cy="7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040200" y="4266720"/>
              <a:ext cx="1440" cy="7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905120" y="3754440"/>
            <a:ext cx="5871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4"/>
          <a:stretch/>
        </p:blipFill>
        <p:spPr>
          <a:xfrm>
            <a:off x="2743200" y="3429000"/>
            <a:ext cx="628560" cy="5335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524400" y="3581280"/>
            <a:ext cx="438120" cy="76320"/>
          </a:xfrm>
          <a:custGeom>
            <a:avLst/>
            <a:gdLst/>
            <a:ahLst/>
            <a:rect l="l" t="t" r="r" b="b"/>
            <a:pathLst>
              <a:path w="461" h="198">
                <a:moveTo>
                  <a:pt x="0" y="198"/>
                </a:moveTo>
                <a:cubicBezTo>
                  <a:pt x="45" y="184"/>
                  <a:pt x="193" y="152"/>
                  <a:pt x="270" y="119"/>
                </a:cubicBezTo>
                <a:cubicBezTo>
                  <a:pt x="347" y="86"/>
                  <a:pt x="421" y="25"/>
                  <a:pt x="461" y="0"/>
                </a:cubicBezTo>
              </a:path>
            </a:pathLst>
          </a:custGeom>
          <a:noFill/>
          <a:ln w="633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5"/>
          <a:stretch/>
        </p:blipFill>
        <p:spPr>
          <a:xfrm>
            <a:off x="1766880" y="3048120"/>
            <a:ext cx="628560" cy="533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 flipV="1">
            <a:off x="2438280" y="3428280"/>
            <a:ext cx="381240" cy="228600"/>
          </a:xfrm>
          <a:custGeom>
            <a:avLst/>
            <a:gdLst/>
            <a:ahLst/>
            <a:rect l="l" t="t" r="r" b="b"/>
            <a:pathLst>
              <a:path w="461" h="198">
                <a:moveTo>
                  <a:pt x="0" y="198"/>
                </a:moveTo>
                <a:cubicBezTo>
                  <a:pt x="45" y="184"/>
                  <a:pt x="193" y="152"/>
                  <a:pt x="270" y="119"/>
                </a:cubicBezTo>
                <a:cubicBezTo>
                  <a:pt x="347" y="86"/>
                  <a:pt x="421" y="25"/>
                  <a:pt x="461" y="0"/>
                </a:cubicBezTo>
              </a:path>
            </a:pathLst>
          </a:custGeom>
          <a:noFill/>
          <a:ln w="633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32000" y="4552920"/>
            <a:ext cx="496800" cy="189000"/>
          </a:xfrm>
          <a:prstGeom prst="ellipse">
            <a:avLst/>
          </a:prstGeom>
          <a:solidFill>
            <a:srgbClr val="0078aa"/>
          </a:solidFill>
          <a:ln w="14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32000" y="4522680"/>
            <a:ext cx="479160" cy="115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32000" y="4522680"/>
            <a:ext cx="479160" cy="115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422600"/>
            <a:ext cx="496800" cy="190800"/>
          </a:xfrm>
          <a:prstGeom prst="ellipse">
            <a:avLst/>
          </a:prstGeom>
          <a:solidFill>
            <a:srgbClr val="00b4ff"/>
          </a:solidFill>
          <a:ln w="14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79680" y="4449600"/>
            <a:ext cx="153720" cy="59040"/>
          </a:xfrm>
          <a:custGeom>
            <a:avLst/>
            <a:gdLst/>
            <a:ahLst/>
            <a:rect l="l" t="t" r="r" b="b"/>
            <a:pathLst>
              <a:path w="97" h="37">
                <a:moveTo>
                  <a:pt x="0" y="28"/>
                </a:moveTo>
                <a:lnTo>
                  <a:pt x="19" y="37"/>
                </a:lnTo>
                <a:lnTo>
                  <a:pt x="68" y="11"/>
                </a:lnTo>
                <a:lnTo>
                  <a:pt x="97" y="20"/>
                </a:lnTo>
                <a:lnTo>
                  <a:pt x="87" y="0"/>
                </a:lnTo>
                <a:lnTo>
                  <a:pt x="19" y="0"/>
                </a:lnTo>
                <a:lnTo>
                  <a:pt x="48" y="11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79680" y="4449600"/>
            <a:ext cx="153720" cy="59040"/>
          </a:xfrm>
          <a:custGeom>
            <a:avLst/>
            <a:gdLst/>
            <a:ahLst/>
            <a:rect l="l" t="t" r="r" b="b"/>
            <a:pathLst>
              <a:path w="97" h="37">
                <a:moveTo>
                  <a:pt x="0" y="28"/>
                </a:moveTo>
                <a:lnTo>
                  <a:pt x="19" y="37"/>
                </a:lnTo>
                <a:lnTo>
                  <a:pt x="68" y="11"/>
                </a:lnTo>
                <a:lnTo>
                  <a:pt x="97" y="20"/>
                </a:lnTo>
                <a:lnTo>
                  <a:pt x="87" y="0"/>
                </a:lnTo>
                <a:lnTo>
                  <a:pt x="19" y="0"/>
                </a:lnTo>
                <a:lnTo>
                  <a:pt x="48" y="11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07960" y="4522680"/>
            <a:ext cx="155880" cy="58680"/>
          </a:xfrm>
          <a:custGeom>
            <a:avLst/>
            <a:gdLst/>
            <a:ahLst/>
            <a:rect l="l" t="t" r="r" b="b"/>
            <a:pathLst>
              <a:path w="98" h="37">
                <a:moveTo>
                  <a:pt x="98" y="0"/>
                </a:moveTo>
                <a:lnTo>
                  <a:pt x="78" y="0"/>
                </a:lnTo>
                <a:lnTo>
                  <a:pt x="20" y="19"/>
                </a:lnTo>
                <a:lnTo>
                  <a:pt x="0" y="9"/>
                </a:lnTo>
                <a:lnTo>
                  <a:pt x="10" y="37"/>
                </a:lnTo>
                <a:lnTo>
                  <a:pt x="78" y="37"/>
                </a:lnTo>
                <a:lnTo>
                  <a:pt x="49" y="28"/>
                </a:lnTo>
                <a:lnTo>
                  <a:pt x="9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4522680"/>
            <a:ext cx="155880" cy="58680"/>
          </a:xfrm>
          <a:custGeom>
            <a:avLst/>
            <a:gdLst/>
            <a:ahLst/>
            <a:rect l="l" t="t" r="r" b="b"/>
            <a:pathLst>
              <a:path w="98" h="37">
                <a:moveTo>
                  <a:pt x="98" y="0"/>
                </a:moveTo>
                <a:lnTo>
                  <a:pt x="78" y="0"/>
                </a:lnTo>
                <a:lnTo>
                  <a:pt x="20" y="19"/>
                </a:lnTo>
                <a:lnTo>
                  <a:pt x="0" y="9"/>
                </a:lnTo>
                <a:lnTo>
                  <a:pt x="10" y="37"/>
                </a:lnTo>
                <a:lnTo>
                  <a:pt x="78" y="37"/>
                </a:lnTo>
                <a:lnTo>
                  <a:pt x="49" y="28"/>
                </a:lnTo>
                <a:lnTo>
                  <a:pt x="9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4449600"/>
            <a:ext cx="171720" cy="59040"/>
          </a:xfrm>
          <a:custGeom>
            <a:avLst/>
            <a:gdLst/>
            <a:ahLst/>
            <a:rect l="l" t="t" r="r" b="b"/>
            <a:pathLst>
              <a:path w="108" h="37">
                <a:moveTo>
                  <a:pt x="0" y="11"/>
                </a:moveTo>
                <a:lnTo>
                  <a:pt x="20" y="0"/>
                </a:lnTo>
                <a:lnTo>
                  <a:pt x="78" y="20"/>
                </a:lnTo>
                <a:lnTo>
                  <a:pt x="108" y="20"/>
                </a:lnTo>
                <a:lnTo>
                  <a:pt x="88" y="37"/>
                </a:lnTo>
                <a:lnTo>
                  <a:pt x="30" y="37"/>
                </a:lnTo>
                <a:lnTo>
                  <a:pt x="49" y="28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07960" y="4449600"/>
            <a:ext cx="171720" cy="59040"/>
          </a:xfrm>
          <a:custGeom>
            <a:avLst/>
            <a:gdLst/>
            <a:ahLst/>
            <a:rect l="l" t="t" r="r" b="b"/>
            <a:pathLst>
              <a:path w="108" h="37">
                <a:moveTo>
                  <a:pt x="0" y="11"/>
                </a:moveTo>
                <a:lnTo>
                  <a:pt x="20" y="0"/>
                </a:lnTo>
                <a:lnTo>
                  <a:pt x="78" y="20"/>
                </a:lnTo>
                <a:lnTo>
                  <a:pt x="108" y="20"/>
                </a:lnTo>
                <a:lnTo>
                  <a:pt x="88" y="37"/>
                </a:lnTo>
                <a:lnTo>
                  <a:pt x="30" y="37"/>
                </a:lnTo>
                <a:lnTo>
                  <a:pt x="49" y="28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79680" y="4522680"/>
            <a:ext cx="153720" cy="58680"/>
          </a:xfrm>
          <a:custGeom>
            <a:avLst/>
            <a:gdLst/>
            <a:ahLst/>
            <a:rect l="l" t="t" r="r" b="b"/>
            <a:pathLst>
              <a:path w="97" h="37">
                <a:moveTo>
                  <a:pt x="97" y="28"/>
                </a:moveTo>
                <a:lnTo>
                  <a:pt x="68" y="37"/>
                </a:lnTo>
                <a:lnTo>
                  <a:pt x="19" y="9"/>
                </a:lnTo>
                <a:lnTo>
                  <a:pt x="0" y="19"/>
                </a:lnTo>
                <a:lnTo>
                  <a:pt x="9" y="0"/>
                </a:lnTo>
                <a:lnTo>
                  <a:pt x="68" y="0"/>
                </a:lnTo>
                <a:lnTo>
                  <a:pt x="48" y="9"/>
                </a:lnTo>
                <a:lnTo>
                  <a:pt x="9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79680" y="4522680"/>
            <a:ext cx="153720" cy="58680"/>
          </a:xfrm>
          <a:custGeom>
            <a:avLst/>
            <a:gdLst/>
            <a:ahLst/>
            <a:rect l="l" t="t" r="r" b="b"/>
            <a:pathLst>
              <a:path w="97" h="37">
                <a:moveTo>
                  <a:pt x="97" y="28"/>
                </a:moveTo>
                <a:lnTo>
                  <a:pt x="68" y="37"/>
                </a:lnTo>
                <a:lnTo>
                  <a:pt x="19" y="9"/>
                </a:lnTo>
                <a:lnTo>
                  <a:pt x="0" y="19"/>
                </a:lnTo>
                <a:lnTo>
                  <a:pt x="9" y="0"/>
                </a:lnTo>
                <a:lnTo>
                  <a:pt x="68" y="0"/>
                </a:lnTo>
                <a:lnTo>
                  <a:pt x="48" y="9"/>
                </a:lnTo>
                <a:lnTo>
                  <a:pt x="9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79680" y="4449600"/>
            <a:ext cx="153720" cy="59040"/>
          </a:xfrm>
          <a:custGeom>
            <a:avLst/>
            <a:gdLst/>
            <a:ahLst/>
            <a:rect l="l" t="t" r="r" b="b"/>
            <a:pathLst>
              <a:path w="97" h="37">
                <a:moveTo>
                  <a:pt x="0" y="28"/>
                </a:moveTo>
                <a:lnTo>
                  <a:pt x="19" y="37"/>
                </a:lnTo>
                <a:lnTo>
                  <a:pt x="78" y="11"/>
                </a:lnTo>
                <a:lnTo>
                  <a:pt x="97" y="20"/>
                </a:lnTo>
                <a:lnTo>
                  <a:pt x="87" y="0"/>
                </a:lnTo>
                <a:lnTo>
                  <a:pt x="19" y="0"/>
                </a:lnTo>
                <a:lnTo>
                  <a:pt x="48" y="11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79680" y="4449600"/>
            <a:ext cx="153720" cy="59040"/>
          </a:xfrm>
          <a:custGeom>
            <a:avLst/>
            <a:gdLst/>
            <a:ahLst/>
            <a:rect l="l" t="t" r="r" b="b"/>
            <a:pathLst>
              <a:path w="97" h="37">
                <a:moveTo>
                  <a:pt x="0" y="28"/>
                </a:moveTo>
                <a:lnTo>
                  <a:pt x="19" y="37"/>
                </a:lnTo>
                <a:lnTo>
                  <a:pt x="78" y="11"/>
                </a:lnTo>
                <a:lnTo>
                  <a:pt x="97" y="20"/>
                </a:lnTo>
                <a:lnTo>
                  <a:pt x="87" y="0"/>
                </a:lnTo>
                <a:lnTo>
                  <a:pt x="19" y="0"/>
                </a:lnTo>
                <a:lnTo>
                  <a:pt x="48" y="11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07960" y="4522680"/>
            <a:ext cx="155880" cy="58680"/>
          </a:xfrm>
          <a:custGeom>
            <a:avLst/>
            <a:gdLst/>
            <a:ahLst/>
            <a:rect l="l" t="t" r="r" b="b"/>
            <a:pathLst>
              <a:path w="98" h="37">
                <a:moveTo>
                  <a:pt x="98" y="0"/>
                </a:moveTo>
                <a:lnTo>
                  <a:pt x="78" y="0"/>
                </a:lnTo>
                <a:lnTo>
                  <a:pt x="20" y="19"/>
                </a:lnTo>
                <a:lnTo>
                  <a:pt x="0" y="9"/>
                </a:lnTo>
                <a:lnTo>
                  <a:pt x="10" y="37"/>
                </a:lnTo>
                <a:lnTo>
                  <a:pt x="78" y="37"/>
                </a:lnTo>
                <a:lnTo>
                  <a:pt x="49" y="28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07960" y="4522680"/>
            <a:ext cx="155880" cy="58680"/>
          </a:xfrm>
          <a:custGeom>
            <a:avLst/>
            <a:gdLst/>
            <a:ahLst/>
            <a:rect l="l" t="t" r="r" b="b"/>
            <a:pathLst>
              <a:path w="98" h="37">
                <a:moveTo>
                  <a:pt x="98" y="0"/>
                </a:moveTo>
                <a:lnTo>
                  <a:pt x="78" y="0"/>
                </a:lnTo>
                <a:lnTo>
                  <a:pt x="20" y="19"/>
                </a:lnTo>
                <a:lnTo>
                  <a:pt x="0" y="9"/>
                </a:lnTo>
                <a:lnTo>
                  <a:pt x="10" y="37"/>
                </a:lnTo>
                <a:lnTo>
                  <a:pt x="78" y="37"/>
                </a:lnTo>
                <a:lnTo>
                  <a:pt x="49" y="28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07960" y="4449600"/>
            <a:ext cx="171720" cy="59040"/>
          </a:xfrm>
          <a:custGeom>
            <a:avLst/>
            <a:gdLst/>
            <a:ahLst/>
            <a:rect l="l" t="t" r="r" b="b"/>
            <a:pathLst>
              <a:path w="108" h="37">
                <a:moveTo>
                  <a:pt x="0" y="11"/>
                </a:moveTo>
                <a:lnTo>
                  <a:pt x="30" y="0"/>
                </a:lnTo>
                <a:lnTo>
                  <a:pt x="78" y="20"/>
                </a:lnTo>
                <a:lnTo>
                  <a:pt x="108" y="20"/>
                </a:lnTo>
                <a:lnTo>
                  <a:pt x="88" y="37"/>
                </a:lnTo>
                <a:lnTo>
                  <a:pt x="30" y="37"/>
                </a:lnTo>
                <a:lnTo>
                  <a:pt x="59" y="28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07960" y="4449600"/>
            <a:ext cx="171720" cy="59040"/>
          </a:xfrm>
          <a:custGeom>
            <a:avLst/>
            <a:gdLst/>
            <a:ahLst/>
            <a:rect l="l" t="t" r="r" b="b"/>
            <a:pathLst>
              <a:path w="108" h="37">
                <a:moveTo>
                  <a:pt x="0" y="11"/>
                </a:moveTo>
                <a:lnTo>
                  <a:pt x="30" y="0"/>
                </a:lnTo>
                <a:lnTo>
                  <a:pt x="78" y="20"/>
                </a:lnTo>
                <a:lnTo>
                  <a:pt x="108" y="20"/>
                </a:lnTo>
                <a:lnTo>
                  <a:pt x="88" y="37"/>
                </a:lnTo>
                <a:lnTo>
                  <a:pt x="30" y="37"/>
                </a:lnTo>
                <a:lnTo>
                  <a:pt x="59" y="28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79680" y="4522680"/>
            <a:ext cx="153720" cy="58680"/>
          </a:xfrm>
          <a:custGeom>
            <a:avLst/>
            <a:gdLst/>
            <a:ahLst/>
            <a:rect l="l" t="t" r="r" b="b"/>
            <a:pathLst>
              <a:path w="97" h="37">
                <a:moveTo>
                  <a:pt x="97" y="28"/>
                </a:moveTo>
                <a:lnTo>
                  <a:pt x="68" y="37"/>
                </a:lnTo>
                <a:lnTo>
                  <a:pt x="19" y="9"/>
                </a:lnTo>
                <a:lnTo>
                  <a:pt x="0" y="19"/>
                </a:lnTo>
                <a:lnTo>
                  <a:pt x="9" y="0"/>
                </a:lnTo>
                <a:lnTo>
                  <a:pt x="68" y="0"/>
                </a:lnTo>
                <a:lnTo>
                  <a:pt x="48" y="9"/>
                </a:lnTo>
                <a:lnTo>
                  <a:pt x="97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79680" y="4522680"/>
            <a:ext cx="153720" cy="58680"/>
          </a:xfrm>
          <a:custGeom>
            <a:avLst/>
            <a:gdLst/>
            <a:ahLst/>
            <a:rect l="l" t="t" r="r" b="b"/>
            <a:pathLst>
              <a:path w="97" h="37">
                <a:moveTo>
                  <a:pt x="97" y="28"/>
                </a:moveTo>
                <a:lnTo>
                  <a:pt x="68" y="37"/>
                </a:lnTo>
                <a:lnTo>
                  <a:pt x="19" y="9"/>
                </a:lnTo>
                <a:lnTo>
                  <a:pt x="0" y="19"/>
                </a:lnTo>
                <a:lnTo>
                  <a:pt x="9" y="0"/>
                </a:lnTo>
                <a:lnTo>
                  <a:pt x="68" y="0"/>
                </a:lnTo>
                <a:lnTo>
                  <a:pt x="48" y="9"/>
                </a:lnTo>
                <a:lnTo>
                  <a:pt x="97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32000" y="4508640"/>
            <a:ext cx="1440" cy="129960"/>
          </a:xfrm>
          <a:prstGeom prst="line">
            <a:avLst/>
          </a:prstGeom>
          <a:ln w="14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11160" y="4508640"/>
            <a:ext cx="1800" cy="129960"/>
          </a:xfrm>
          <a:prstGeom prst="line">
            <a:avLst/>
          </a:prstGeom>
          <a:ln w="14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387680" y="3168360"/>
            <a:ext cx="206640" cy="152640"/>
            <a:chOff x="4387680" y="3168360"/>
            <a:chExt cx="206640" cy="152640"/>
          </a:xfrm>
        </p:grpSpPr>
        <p:sp>
          <p:nvSpPr>
            <p:cNvPr id="441" name=""/>
            <p:cNvSpPr/>
            <p:nvPr/>
          </p:nvSpPr>
          <p:spPr>
            <a:xfrm>
              <a:off x="4436640" y="3199320"/>
              <a:ext cx="107280" cy="2232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11080" y="3191040"/>
              <a:ext cx="157320" cy="3852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77320" y="3168720"/>
              <a:ext cx="25200" cy="152280"/>
            </a:xfrm>
            <a:custGeom>
              <a:avLst/>
              <a:gdLst/>
              <a:ahLst/>
              <a:rect l="l" t="t" r="r" b="b"/>
              <a:pathLst>
                <a:path w="30" h="182">
                  <a:moveTo>
                    <a:pt x="2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0" y="182"/>
                  </a:lnTo>
                  <a:lnTo>
                    <a:pt x="20" y="182"/>
                  </a:lnTo>
                  <a:lnTo>
                    <a:pt x="30" y="182"/>
                  </a:lnTo>
                  <a:lnTo>
                    <a:pt x="30" y="172"/>
                  </a:lnTo>
                  <a:lnTo>
                    <a:pt x="3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77320" y="3168720"/>
              <a:ext cx="25200" cy="75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0" y="9"/>
                  </a:lnTo>
                  <a:lnTo>
                    <a:pt x="10" y="9"/>
                  </a:lnTo>
                  <a:lnTo>
                    <a:pt x="20" y="9"/>
                  </a:lnTo>
                  <a:lnTo>
                    <a:pt x="30" y="9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77320" y="3228840"/>
              <a:ext cx="165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77320" y="3221280"/>
              <a:ext cx="165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7320" y="3213720"/>
              <a:ext cx="165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502520" y="3220920"/>
              <a:ext cx="720" cy="9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77320" y="3228480"/>
              <a:ext cx="720" cy="9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87680" y="3183480"/>
              <a:ext cx="206640" cy="5436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77320" y="3168720"/>
              <a:ext cx="33480" cy="316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502520" y="3168360"/>
              <a:ext cx="720" cy="3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477320" y="3168360"/>
              <a:ext cx="720" cy="3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146400" y="3319200"/>
            <a:ext cx="206280" cy="152640"/>
            <a:chOff x="3146400" y="3319200"/>
            <a:chExt cx="206280" cy="152640"/>
          </a:xfrm>
        </p:grpSpPr>
        <p:sp>
          <p:nvSpPr>
            <p:cNvPr id="455" name=""/>
            <p:cNvSpPr/>
            <p:nvPr/>
          </p:nvSpPr>
          <p:spPr>
            <a:xfrm>
              <a:off x="3195000" y="3350160"/>
              <a:ext cx="107280" cy="2232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69800" y="3341880"/>
              <a:ext cx="157320" cy="3852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5680" y="3319560"/>
              <a:ext cx="25200" cy="152280"/>
            </a:xfrm>
            <a:custGeom>
              <a:avLst/>
              <a:gdLst/>
              <a:ahLst/>
              <a:rect l="l" t="t" r="r" b="b"/>
              <a:pathLst>
                <a:path w="30" h="182">
                  <a:moveTo>
                    <a:pt x="2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0" y="182"/>
                  </a:lnTo>
                  <a:lnTo>
                    <a:pt x="20" y="182"/>
                  </a:lnTo>
                  <a:lnTo>
                    <a:pt x="30" y="182"/>
                  </a:lnTo>
                  <a:lnTo>
                    <a:pt x="30" y="172"/>
                  </a:lnTo>
                  <a:lnTo>
                    <a:pt x="3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35680" y="3319560"/>
              <a:ext cx="25200" cy="75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0" y="9"/>
                  </a:lnTo>
                  <a:lnTo>
                    <a:pt x="10" y="9"/>
                  </a:lnTo>
                  <a:lnTo>
                    <a:pt x="20" y="9"/>
                  </a:lnTo>
                  <a:lnTo>
                    <a:pt x="30" y="9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35680" y="3379680"/>
              <a:ext cx="165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35680" y="3372120"/>
              <a:ext cx="165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235680" y="3364560"/>
              <a:ext cx="165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3261240" y="3371760"/>
              <a:ext cx="720" cy="9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235680" y="3379320"/>
              <a:ext cx="720" cy="9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46400" y="3334320"/>
              <a:ext cx="206280" cy="54360"/>
            </a:xfrm>
            <a:prstGeom prst="ellipse">
              <a:avLst/>
            </a:prstGeom>
            <a:solidFill>
              <a:srgbClr val="ffff66"/>
            </a:solidFill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35680" y="3319560"/>
              <a:ext cx="33480" cy="316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61240" y="3319200"/>
              <a:ext cx="720" cy="3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235680" y="3319200"/>
              <a:ext cx="720" cy="3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011000" y="2286000"/>
            <a:ext cx="199440" cy="151920"/>
            <a:chOff x="7011000" y="2286000"/>
            <a:chExt cx="199440" cy="151920"/>
          </a:xfrm>
        </p:grpSpPr>
        <p:sp>
          <p:nvSpPr>
            <p:cNvPr id="469" name=""/>
            <p:cNvSpPr/>
            <p:nvPr/>
          </p:nvSpPr>
          <p:spPr>
            <a:xfrm>
              <a:off x="7172280" y="2337120"/>
              <a:ext cx="11880" cy="2232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6" y="11"/>
                  </a:moveTo>
                  <a:lnTo>
                    <a:pt x="19" y="0"/>
                  </a:lnTo>
                  <a:lnTo>
                    <a:pt x="29" y="11"/>
                  </a:lnTo>
                  <a:lnTo>
                    <a:pt x="35" y="41"/>
                  </a:lnTo>
                  <a:lnTo>
                    <a:pt x="19" y="50"/>
                  </a:lnTo>
                  <a:lnTo>
                    <a:pt x="0" y="4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169760" y="2379240"/>
              <a:ext cx="16200" cy="396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0" y="0"/>
                  </a:moveTo>
                  <a:lnTo>
                    <a:pt x="25" y="9"/>
                  </a:lnTo>
                  <a:lnTo>
                    <a:pt x="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167240" y="2395080"/>
              <a:ext cx="21240" cy="6840"/>
            </a:xfrm>
            <a:custGeom>
              <a:avLst/>
              <a:gdLst/>
              <a:ahLst/>
              <a:rect l="l" t="t" r="r" b="b"/>
              <a:pathLst>
                <a:path w="63" h="14">
                  <a:moveTo>
                    <a:pt x="0" y="0"/>
                  </a:moveTo>
                  <a:lnTo>
                    <a:pt x="33" y="14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164360" y="2411640"/>
              <a:ext cx="25920" cy="8640"/>
            </a:xfrm>
            <a:custGeom>
              <a:avLst/>
              <a:gdLst/>
              <a:ahLst/>
              <a:rect l="l" t="t" r="r" b="b"/>
              <a:pathLst>
                <a:path w="77" h="18">
                  <a:moveTo>
                    <a:pt x="0" y="0"/>
                  </a:moveTo>
                  <a:lnTo>
                    <a:pt x="41" y="18"/>
                  </a:lnTo>
                  <a:lnTo>
                    <a:pt x="7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61480" y="2430360"/>
              <a:ext cx="32400" cy="756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0" y="0"/>
                  </a:moveTo>
                  <a:lnTo>
                    <a:pt x="50" y="19"/>
                  </a:lnTo>
                  <a:lnTo>
                    <a:pt x="9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45640" y="2318400"/>
              <a:ext cx="24120" cy="864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70" y="20"/>
                  </a:moveTo>
                  <a:lnTo>
                    <a:pt x="23" y="18"/>
                  </a:lnTo>
                  <a:lnTo>
                    <a:pt x="48" y="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82000" y="2317320"/>
              <a:ext cx="28440" cy="11520"/>
            </a:xfrm>
            <a:custGeom>
              <a:avLst/>
              <a:gdLst/>
              <a:ahLst/>
              <a:rect l="l" t="t" r="r" b="b"/>
              <a:pathLst>
                <a:path w="84" h="25">
                  <a:moveTo>
                    <a:pt x="84" y="2"/>
                  </a:moveTo>
                  <a:lnTo>
                    <a:pt x="35" y="25"/>
                  </a:lnTo>
                  <a:lnTo>
                    <a:pt x="49" y="0"/>
                  </a:lnTo>
                  <a:lnTo>
                    <a:pt x="0" y="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74080" y="2286000"/>
              <a:ext cx="7560" cy="37080"/>
            </a:xfrm>
            <a:custGeom>
              <a:avLst/>
              <a:gdLst/>
              <a:ahLst/>
              <a:rect l="l" t="t" r="r" b="b"/>
              <a:pathLst>
                <a:path w="23" h="80">
                  <a:moveTo>
                    <a:pt x="13" y="80"/>
                  </a:moveTo>
                  <a:lnTo>
                    <a:pt x="0" y="30"/>
                  </a:lnTo>
                  <a:lnTo>
                    <a:pt x="23" y="49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20160000">
              <a:off x="7010280" y="2379960"/>
              <a:ext cx="144720" cy="27360"/>
            </a:xfrm>
            <a:custGeom>
              <a:avLst/>
              <a:gdLst/>
              <a:ahLst/>
              <a:rect l="l" t="t" r="r" b="b"/>
              <a:pathLst>
                <a:path w="566" h="89">
                  <a:moveTo>
                    <a:pt x="0" y="45"/>
                  </a:moveTo>
                  <a:lnTo>
                    <a:pt x="335" y="0"/>
                  </a:lnTo>
                  <a:lnTo>
                    <a:pt x="296" y="62"/>
                  </a:lnTo>
                  <a:lnTo>
                    <a:pt x="566" y="45"/>
                  </a:lnTo>
                  <a:lnTo>
                    <a:pt x="229" y="89"/>
                  </a:lnTo>
                  <a:lnTo>
                    <a:pt x="270" y="2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8316000" y="1633680"/>
            <a:ext cx="199440" cy="151920"/>
            <a:chOff x="8316000" y="1633680"/>
            <a:chExt cx="199440" cy="151920"/>
          </a:xfrm>
        </p:grpSpPr>
        <p:sp>
          <p:nvSpPr>
            <p:cNvPr id="479" name=""/>
            <p:cNvSpPr/>
            <p:nvPr/>
          </p:nvSpPr>
          <p:spPr>
            <a:xfrm>
              <a:off x="8477280" y="1684800"/>
              <a:ext cx="11880" cy="2232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6" y="11"/>
                  </a:moveTo>
                  <a:lnTo>
                    <a:pt x="19" y="0"/>
                  </a:lnTo>
                  <a:lnTo>
                    <a:pt x="29" y="11"/>
                  </a:lnTo>
                  <a:lnTo>
                    <a:pt x="35" y="41"/>
                  </a:lnTo>
                  <a:lnTo>
                    <a:pt x="19" y="50"/>
                  </a:lnTo>
                  <a:lnTo>
                    <a:pt x="0" y="4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74760" y="1726920"/>
              <a:ext cx="16200" cy="396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0" y="0"/>
                  </a:moveTo>
                  <a:lnTo>
                    <a:pt x="25" y="9"/>
                  </a:lnTo>
                  <a:lnTo>
                    <a:pt x="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72240" y="1742760"/>
              <a:ext cx="21240" cy="6840"/>
            </a:xfrm>
            <a:custGeom>
              <a:avLst/>
              <a:gdLst/>
              <a:ahLst/>
              <a:rect l="l" t="t" r="r" b="b"/>
              <a:pathLst>
                <a:path w="63" h="14">
                  <a:moveTo>
                    <a:pt x="0" y="0"/>
                  </a:moveTo>
                  <a:lnTo>
                    <a:pt x="33" y="14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69360" y="1759320"/>
              <a:ext cx="25920" cy="8640"/>
            </a:xfrm>
            <a:custGeom>
              <a:avLst/>
              <a:gdLst/>
              <a:ahLst/>
              <a:rect l="l" t="t" r="r" b="b"/>
              <a:pathLst>
                <a:path w="77" h="18">
                  <a:moveTo>
                    <a:pt x="0" y="0"/>
                  </a:moveTo>
                  <a:lnTo>
                    <a:pt x="41" y="18"/>
                  </a:lnTo>
                  <a:lnTo>
                    <a:pt x="7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66480" y="1778040"/>
              <a:ext cx="32400" cy="756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0" y="0"/>
                  </a:moveTo>
                  <a:lnTo>
                    <a:pt x="50" y="19"/>
                  </a:lnTo>
                  <a:lnTo>
                    <a:pt x="9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50640" y="1666080"/>
              <a:ext cx="24120" cy="864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70" y="20"/>
                  </a:moveTo>
                  <a:lnTo>
                    <a:pt x="23" y="18"/>
                  </a:lnTo>
                  <a:lnTo>
                    <a:pt x="48" y="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87000" y="1665000"/>
              <a:ext cx="28440" cy="11520"/>
            </a:xfrm>
            <a:custGeom>
              <a:avLst/>
              <a:gdLst/>
              <a:ahLst/>
              <a:rect l="l" t="t" r="r" b="b"/>
              <a:pathLst>
                <a:path w="84" h="25">
                  <a:moveTo>
                    <a:pt x="84" y="2"/>
                  </a:moveTo>
                  <a:lnTo>
                    <a:pt x="35" y="25"/>
                  </a:lnTo>
                  <a:lnTo>
                    <a:pt x="49" y="0"/>
                  </a:lnTo>
                  <a:lnTo>
                    <a:pt x="0" y="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79080" y="1633680"/>
              <a:ext cx="7560" cy="37080"/>
            </a:xfrm>
            <a:custGeom>
              <a:avLst/>
              <a:gdLst/>
              <a:ahLst/>
              <a:rect l="l" t="t" r="r" b="b"/>
              <a:pathLst>
                <a:path w="23" h="80">
                  <a:moveTo>
                    <a:pt x="13" y="80"/>
                  </a:moveTo>
                  <a:lnTo>
                    <a:pt x="0" y="30"/>
                  </a:lnTo>
                  <a:lnTo>
                    <a:pt x="23" y="49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60000">
              <a:off x="8315280" y="1727640"/>
              <a:ext cx="144720" cy="27360"/>
            </a:xfrm>
            <a:custGeom>
              <a:avLst/>
              <a:gdLst/>
              <a:ahLst/>
              <a:rect l="l" t="t" r="r" b="b"/>
              <a:pathLst>
                <a:path w="566" h="89">
                  <a:moveTo>
                    <a:pt x="0" y="45"/>
                  </a:moveTo>
                  <a:lnTo>
                    <a:pt x="335" y="0"/>
                  </a:lnTo>
                  <a:lnTo>
                    <a:pt x="296" y="62"/>
                  </a:lnTo>
                  <a:lnTo>
                    <a:pt x="566" y="45"/>
                  </a:lnTo>
                  <a:lnTo>
                    <a:pt x="229" y="89"/>
                  </a:lnTo>
                  <a:lnTo>
                    <a:pt x="270" y="2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585400" y="2819520"/>
            <a:ext cx="199440" cy="151920"/>
            <a:chOff x="5585400" y="2819520"/>
            <a:chExt cx="199440" cy="151920"/>
          </a:xfrm>
        </p:grpSpPr>
        <p:sp>
          <p:nvSpPr>
            <p:cNvPr id="489" name=""/>
            <p:cNvSpPr/>
            <p:nvPr/>
          </p:nvSpPr>
          <p:spPr>
            <a:xfrm>
              <a:off x="5746680" y="2870640"/>
              <a:ext cx="11880" cy="2232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6" y="11"/>
                  </a:moveTo>
                  <a:lnTo>
                    <a:pt x="19" y="0"/>
                  </a:lnTo>
                  <a:lnTo>
                    <a:pt x="29" y="11"/>
                  </a:lnTo>
                  <a:lnTo>
                    <a:pt x="35" y="41"/>
                  </a:lnTo>
                  <a:lnTo>
                    <a:pt x="19" y="50"/>
                  </a:lnTo>
                  <a:lnTo>
                    <a:pt x="0" y="4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44160" y="2912760"/>
              <a:ext cx="16200" cy="396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0" y="0"/>
                  </a:moveTo>
                  <a:lnTo>
                    <a:pt x="25" y="9"/>
                  </a:lnTo>
                  <a:lnTo>
                    <a:pt x="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41640" y="2928600"/>
              <a:ext cx="21240" cy="6840"/>
            </a:xfrm>
            <a:custGeom>
              <a:avLst/>
              <a:gdLst/>
              <a:ahLst/>
              <a:rect l="l" t="t" r="r" b="b"/>
              <a:pathLst>
                <a:path w="63" h="14">
                  <a:moveTo>
                    <a:pt x="0" y="0"/>
                  </a:moveTo>
                  <a:lnTo>
                    <a:pt x="33" y="14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38760" y="2945160"/>
              <a:ext cx="25920" cy="8640"/>
            </a:xfrm>
            <a:custGeom>
              <a:avLst/>
              <a:gdLst/>
              <a:ahLst/>
              <a:rect l="l" t="t" r="r" b="b"/>
              <a:pathLst>
                <a:path w="77" h="18">
                  <a:moveTo>
                    <a:pt x="0" y="0"/>
                  </a:moveTo>
                  <a:lnTo>
                    <a:pt x="41" y="18"/>
                  </a:lnTo>
                  <a:lnTo>
                    <a:pt x="7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35880" y="2963880"/>
              <a:ext cx="32400" cy="756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0" y="0"/>
                  </a:moveTo>
                  <a:lnTo>
                    <a:pt x="50" y="19"/>
                  </a:lnTo>
                  <a:lnTo>
                    <a:pt x="9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20040" y="2851920"/>
              <a:ext cx="24120" cy="864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70" y="20"/>
                  </a:moveTo>
                  <a:lnTo>
                    <a:pt x="23" y="18"/>
                  </a:lnTo>
                  <a:lnTo>
                    <a:pt x="48" y="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56400" y="2850840"/>
              <a:ext cx="28440" cy="11520"/>
            </a:xfrm>
            <a:custGeom>
              <a:avLst/>
              <a:gdLst/>
              <a:ahLst/>
              <a:rect l="l" t="t" r="r" b="b"/>
              <a:pathLst>
                <a:path w="84" h="25">
                  <a:moveTo>
                    <a:pt x="84" y="2"/>
                  </a:moveTo>
                  <a:lnTo>
                    <a:pt x="35" y="25"/>
                  </a:lnTo>
                  <a:lnTo>
                    <a:pt x="49" y="0"/>
                  </a:lnTo>
                  <a:lnTo>
                    <a:pt x="0" y="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48480" y="2819520"/>
              <a:ext cx="7560" cy="37080"/>
            </a:xfrm>
            <a:custGeom>
              <a:avLst/>
              <a:gdLst/>
              <a:ahLst/>
              <a:rect l="l" t="t" r="r" b="b"/>
              <a:pathLst>
                <a:path w="23" h="80">
                  <a:moveTo>
                    <a:pt x="13" y="80"/>
                  </a:moveTo>
                  <a:lnTo>
                    <a:pt x="0" y="30"/>
                  </a:lnTo>
                  <a:lnTo>
                    <a:pt x="23" y="49"/>
                  </a:lnTo>
                  <a:lnTo>
                    <a:pt x="1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20160000">
              <a:off x="5584680" y="2913480"/>
              <a:ext cx="144720" cy="27360"/>
            </a:xfrm>
            <a:custGeom>
              <a:avLst/>
              <a:gdLst/>
              <a:ahLst/>
              <a:rect l="l" t="t" r="r" b="b"/>
              <a:pathLst>
                <a:path w="566" h="89">
                  <a:moveTo>
                    <a:pt x="0" y="45"/>
                  </a:moveTo>
                  <a:lnTo>
                    <a:pt x="335" y="0"/>
                  </a:lnTo>
                  <a:lnTo>
                    <a:pt x="296" y="62"/>
                  </a:lnTo>
                  <a:lnTo>
                    <a:pt x="566" y="45"/>
                  </a:lnTo>
                  <a:lnTo>
                    <a:pt x="229" y="89"/>
                  </a:lnTo>
                  <a:lnTo>
                    <a:pt x="270" y="2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 flipV="1">
            <a:off x="2166840" y="3504600"/>
            <a:ext cx="76320" cy="7596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772400" y="812880"/>
            <a:ext cx="1904760" cy="1853280"/>
            <a:chOff x="7772400" y="812880"/>
            <a:chExt cx="1904760" cy="1853280"/>
          </a:xfrm>
        </p:grpSpPr>
        <p:sp>
          <p:nvSpPr>
            <p:cNvPr id="500" name=""/>
            <p:cNvSpPr/>
            <p:nvPr/>
          </p:nvSpPr>
          <p:spPr>
            <a:xfrm>
              <a:off x="8717400" y="8128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688960" y="8128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660520" y="81576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632080" y="81576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05440" y="8182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577000" y="8236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548560" y="8262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520120" y="8316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91680" y="839520"/>
              <a:ext cx="1332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463240" y="8449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38400" y="8532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09960" y="8614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81520" y="8719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353080" y="88308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326440" y="8964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299800" y="90684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273160" y="91764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47960" y="9342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219880" y="9478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192880" y="96660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168040" y="9824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141040" y="10015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116200" y="10206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9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92440" y="1044360"/>
              <a:ext cx="1332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066160" y="10663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7"/>
                  </a:move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042760" y="10875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7"/>
                  </a:move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019000" y="11120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995960" y="11390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972560" y="11656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8"/>
                  </a:move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50960" y="119520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7"/>
                  </a:move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30800" y="12222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08840" y="12546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887240" y="128700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70680" y="13248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5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51960" y="13572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39000" y="13950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22080" y="14353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7"/>
                  </a:move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10560" y="14756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98680" y="15188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88960" y="15591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82120" y="16020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77080" y="164556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72400" y="169128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72400" y="173700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75640" y="17830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4"/>
                  </a:move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78520" y="18288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83920" y="187452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3"/>
                  </a:move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793640" y="191484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5"/>
                  </a:move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802280" y="195768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815240" y="19980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28920" y="20358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45840" y="20793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62400" y="21142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2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78960" y="21520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99120" y="21812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917120" y="22168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39080" y="22460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60680" y="227592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80840" y="23029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006040" y="23299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029440" y="23565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052840" y="23781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077680" y="24026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01080" y="24238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127720" y="24429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152920" y="24616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79560" y="248076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04760" y="249660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231040" y="25099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259480" y="25290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285040" y="254232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313120" y="25534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38320" y="256932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66760" y="258012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395200" y="25884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421480" y="25992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449920" y="26071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478360" y="26125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05360" y="262080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533800" y="26262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562240" y="26287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590320" y="26370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618400" y="26395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646840" y="26395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675280" y="26395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703720" y="26449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732160" y="26449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759160" y="26395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787600" y="26395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815680" y="26395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842320" y="26370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870760" y="263160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899200" y="26262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926200" y="26208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954280" y="26125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982720" y="260712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9011160" y="25992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037800" y="25884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066240" y="25801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092880" y="256932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119520" y="25560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147960" y="25423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172800" y="25290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201240" y="25156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228240" y="24994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253080" y="24807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280080" y="24616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304920" y="24429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331560" y="24238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354960" y="24026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1"/>
                  </a:move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380160" y="238356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403560" y="235656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426960" y="233208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9450000" y="230544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471960" y="227592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2"/>
                  </a:move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495720" y="224928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513720" y="221904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535320" y="21844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554040" y="21520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573840" y="211644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588600" y="20818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03720" y="20415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617040" y="200340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628920" y="196092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640440" y="19206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650880" y="187704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655560" y="18313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3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660600" y="178524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5"/>
                  </a:moveTo>
                  <a:lnTo>
                    <a:pt x="0" y="6"/>
                  </a:lnTo>
                  <a:lnTo>
                    <a:pt x="1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662400" y="17427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9662400" y="16966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660600" y="16509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652320" y="160524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645480" y="15616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637200" y="15213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627480" y="14756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614160" y="14378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6"/>
                  </a:move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599040" y="14000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582120" y="13626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5"/>
                  </a:move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565560" y="13248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7"/>
                  </a:move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547200" y="12898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7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9528840" y="12546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506880" y="12250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487080" y="11952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465120" y="11682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7"/>
                  </a:move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441720" y="11390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418680" y="11145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7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395280" y="10875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371880" y="10663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8"/>
                  </a:move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345240" y="104436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321840" y="10227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294840" y="100404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270000" y="9849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9244800" y="9666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218520" y="95256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190080" y="9367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164520" y="92088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138240" y="9068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109800" y="8964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081360" y="8830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056160" y="8719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027720" y="8640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999640" y="8532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971200" y="8449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946000" y="83952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917560" y="8316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889480" y="8262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861040" y="8236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832600" y="8182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804160" y="8157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775720" y="8157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747280" y="8128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720280" y="8128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315200" y="1193760"/>
            <a:ext cx="1904760" cy="1853640"/>
            <a:chOff x="7315200" y="1193760"/>
            <a:chExt cx="1904760" cy="1853640"/>
          </a:xfrm>
        </p:grpSpPr>
        <p:sp>
          <p:nvSpPr>
            <p:cNvPr id="673" name=""/>
            <p:cNvSpPr/>
            <p:nvPr/>
          </p:nvSpPr>
          <p:spPr>
            <a:xfrm>
              <a:off x="8260200" y="11937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231760" y="11937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03320" y="119664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74880" y="119664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48240" y="11991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19800" y="12045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91360" y="120708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062920" y="12124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034480" y="1220400"/>
              <a:ext cx="1332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06040" y="12258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981200" y="12340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952760" y="12423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924320" y="12528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895880" y="126396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869240" y="12772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42600" y="128772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815960" y="12985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790760" y="13150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762680" y="132876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735680" y="13474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710840" y="13633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3840" y="13824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59000" y="14014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9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35240" y="1425240"/>
              <a:ext cx="1332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08960" y="14472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7"/>
                  </a:move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585560" y="146844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7"/>
                  </a:move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561800" y="14929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538760" y="15199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15360" y="15469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8"/>
                  </a:move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93760" y="157608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7"/>
                  </a:move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73600" y="160308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51640" y="163548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30040" y="166788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13480" y="17056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5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94760" y="173808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81800" y="17758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364880" y="18162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7"/>
                  </a:move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353360" y="18565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341480" y="19000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31760" y="19404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24920" y="19832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19880" y="202644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315200" y="207252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15200" y="211824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18440" y="216396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4"/>
                  </a:move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21320" y="22096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26720" y="22557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3"/>
                  </a:move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36440" y="22960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5"/>
                  </a:move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45080" y="233892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58040" y="237924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71720" y="241704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388640" y="24602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05200" y="24951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2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421760" y="25329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41920" y="256248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459920" y="259776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81880" y="26272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03480" y="265716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523640" y="268416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48840" y="27108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572240" y="27378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95640" y="27594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20480" y="278352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643880" y="28051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70520" y="28242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95720" y="28429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22360" y="28620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47560" y="28778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73840" y="28911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802280" y="291024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827840" y="29235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55920" y="29347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881120" y="295056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909560" y="29613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938000" y="29696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964280" y="29804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92720" y="29883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021160" y="29937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048160" y="300168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76600" y="30074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105040" y="300996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133120" y="301824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161200" y="30207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189640" y="30207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218080" y="30207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246520" y="30261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274960" y="30261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301960" y="30207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330400" y="30207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358480" y="302076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385120" y="30182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413560" y="301284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442000" y="30074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469000" y="30016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497080" y="299376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525520" y="29883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553960" y="29804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580600" y="29696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609040" y="29613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635680" y="295056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662320" y="293724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690760" y="29235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715600" y="291024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744040" y="28969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771040" y="288072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795880" y="286200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822880" y="28429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847720" y="28242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874360" y="28051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897760" y="27835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1"/>
                  </a:move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922960" y="27648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946360" y="27378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969760" y="27133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992800" y="26866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014760" y="26571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2"/>
                  </a:move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9038520" y="263016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9056520" y="26002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9078120" y="25653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096840" y="253296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9116640" y="249768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131400" y="24627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9146520" y="24224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159840" y="23846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9171720" y="234180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9183240" y="23014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193680" y="225828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198360" y="22122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3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203400" y="21664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5"/>
                  </a:moveTo>
                  <a:lnTo>
                    <a:pt x="0" y="6"/>
                  </a:lnTo>
                  <a:lnTo>
                    <a:pt x="1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9205200" y="21236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205200" y="207792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9203400" y="20322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9195120" y="19861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9188280" y="19429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9180000" y="19026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9170280" y="18565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9156960" y="18187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6"/>
                  </a:move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141840" y="178092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9124920" y="17434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5"/>
                  </a:move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108360" y="17056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7"/>
                  </a:move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090000" y="16707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7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071640" y="16354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049680" y="16059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029880" y="157608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007920" y="154908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7"/>
                  </a:move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984520" y="15199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961480" y="149544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7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938080" y="146844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914680" y="14472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8"/>
                  </a:move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888040" y="142524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864640" y="140364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837640" y="13849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812800" y="136584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787600" y="13474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761320" y="133344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732880" y="131760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707320" y="130176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681040" y="128772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652600" y="12772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624160" y="12639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598960" y="12528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570520" y="12448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542440" y="12340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514000" y="12258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488800" y="12204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460360" y="12124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432280" y="12070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403840" y="12045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375400" y="11991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346960" y="119664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318520" y="119664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290080" y="119376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63080" y="11937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6553080" y="1650960"/>
            <a:ext cx="1904760" cy="1853640"/>
            <a:chOff x="6553080" y="1650960"/>
            <a:chExt cx="1904760" cy="1853640"/>
          </a:xfrm>
        </p:grpSpPr>
        <p:sp>
          <p:nvSpPr>
            <p:cNvPr id="846" name=""/>
            <p:cNvSpPr/>
            <p:nvPr/>
          </p:nvSpPr>
          <p:spPr>
            <a:xfrm>
              <a:off x="7498080" y="16509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469640" y="16509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441200" y="165384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412760" y="165384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386120" y="16563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57680" y="16617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29240" y="166428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00800" y="16696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72360" y="1677600"/>
              <a:ext cx="1332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43920" y="16830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219080" y="16912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90640" y="16995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62200" y="17100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33760" y="172116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107120" y="17344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080480" y="174492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053840" y="17557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028640" y="17722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000560" y="178596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73560" y="18046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48720" y="18205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21720" y="18396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6880" y="18586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9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73120" y="1882440"/>
              <a:ext cx="1332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846840" y="19044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7"/>
                  </a:move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23440" y="192564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7"/>
                  </a:move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799680" y="19501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76640" y="19771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753240" y="20041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8"/>
                  </a:move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731640" y="203328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7"/>
                  </a:move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11480" y="206028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89520" y="209268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667920" y="212508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651360" y="21628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5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32640" y="219528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19680" y="22330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02760" y="22734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7"/>
                  </a:move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591240" y="23137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579360" y="23572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569640" y="23976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562800" y="24404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557760" y="248364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553080" y="252972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553080" y="257544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56320" y="262116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4"/>
                  </a:move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59200" y="26668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64600" y="27129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3"/>
                  </a:move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574320" y="27532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5"/>
                  </a:move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582960" y="279612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595920" y="283644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609600" y="287424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26520" y="29174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643080" y="29523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2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659640" y="29901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79800" y="301968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697800" y="305496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19760" y="30844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41360" y="311436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761520" y="314136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786720" y="31680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10120" y="31950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33520" y="32166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58360" y="324072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81760" y="32623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908400" y="32814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933600" y="33001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960240" y="33192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985440" y="33350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011720" y="33483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040160" y="336744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65720" y="33807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093800" y="33919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19000" y="340776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147440" y="34185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75880" y="34268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02160" y="34376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30600" y="34455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59040" y="34509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86040" y="345888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14480" y="34646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342920" y="346716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71000" y="347544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399080" y="34779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27520" y="34779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455960" y="34779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484400" y="34833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512840" y="34833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539840" y="34779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568280" y="34779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596360" y="347796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623000" y="34754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651440" y="347004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79880" y="34646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706880" y="34588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734960" y="345096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763400" y="34455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791840" y="34376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818480" y="34268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846920" y="34185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873560" y="340776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900200" y="339444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928640" y="33807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953480" y="336744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981920" y="33541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008920" y="333792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33760" y="331920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060760" y="33001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85600" y="32814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112240" y="32623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35640" y="32407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1"/>
                  </a:move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160840" y="32220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184240" y="31950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207640" y="31705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230680" y="31438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252640" y="31143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2"/>
                  </a:move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276400" y="308736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294400" y="30574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316000" y="30225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334720" y="299016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354520" y="295488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369280" y="29199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384400" y="28796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397720" y="28418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409600" y="279900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421120" y="27586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431560" y="271548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436240" y="26694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3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441280" y="26236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5"/>
                  </a:moveTo>
                  <a:lnTo>
                    <a:pt x="0" y="6"/>
                  </a:lnTo>
                  <a:lnTo>
                    <a:pt x="1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443080" y="25808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443080" y="253512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441280" y="24894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433000" y="24433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426160" y="24001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417880" y="23598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408160" y="23137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394840" y="22759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6"/>
                  </a:move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379720" y="223812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362800" y="22006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5"/>
                  </a:move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346240" y="21628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7"/>
                  </a:move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327880" y="21279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7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309520" y="20926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287560" y="20631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267760" y="203328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245800" y="200628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7"/>
                  </a:move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222400" y="19771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199360" y="195264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7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175960" y="192564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152560" y="19044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8"/>
                  </a:move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125920" y="188244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102520" y="186084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075520" y="18421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050680" y="182304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025480" y="18046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999200" y="179064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970760" y="177480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945200" y="175896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918920" y="174492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890480" y="17344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862040" y="17211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836840" y="17100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808400" y="17020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780320" y="16912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751880" y="16830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726680" y="16776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698240" y="16696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670160" y="16642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641720" y="16617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613280" y="16563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584840" y="165384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56400" y="165384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27960" y="165096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500960" y="16509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6172200" y="1955880"/>
            <a:ext cx="1904760" cy="1853280"/>
            <a:chOff x="6172200" y="1955880"/>
            <a:chExt cx="1904760" cy="1853280"/>
          </a:xfrm>
        </p:grpSpPr>
        <p:sp>
          <p:nvSpPr>
            <p:cNvPr id="1019" name=""/>
            <p:cNvSpPr/>
            <p:nvPr/>
          </p:nvSpPr>
          <p:spPr>
            <a:xfrm>
              <a:off x="7117200" y="19558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8760" y="19558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060320" y="195876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31880" y="195876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05240" y="19612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976800" y="19666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948360" y="19692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919920" y="19746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891480" y="1982520"/>
              <a:ext cx="1332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863040" y="19879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838200" y="19962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09760" y="20044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781320" y="20149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52880" y="202608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726240" y="20394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699600" y="204984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72960" y="206064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647760" y="20772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619680" y="20908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592680" y="210960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567840" y="21254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540840" y="21445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516000" y="21636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9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492240" y="2187360"/>
              <a:ext cx="1332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465960" y="22093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7"/>
                  </a:move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42560" y="22305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7"/>
                  </a:move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418800" y="22550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395760" y="22820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372360" y="23086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8"/>
                  </a:move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350760" y="233820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7"/>
                  </a:move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330600" y="23652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08640" y="23976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287040" y="243000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270480" y="24678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5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51760" y="25002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238800" y="25380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221880" y="25783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7"/>
                  </a:move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210360" y="26186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98480" y="26618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88760" y="27021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181920" y="27450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176880" y="278856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172200" y="283428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172200" y="288000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175440" y="29260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4"/>
                  </a:move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178320" y="29718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183720" y="301752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3"/>
                  </a:move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193440" y="305784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5"/>
                  </a:move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202080" y="310068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215040" y="31410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228720" y="31788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45640" y="32223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262200" y="32572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2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278760" y="32950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298920" y="33242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16920" y="33598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38880" y="33890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60480" y="341892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80640" y="34459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405840" y="34729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429240" y="34995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452640" y="35211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480" y="35456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500880" y="35668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27520" y="35859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552720" y="36046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579360" y="362376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604560" y="363960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630840" y="36529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659280" y="36720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684840" y="368532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712920" y="36964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738120" y="371232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766560" y="372312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795000" y="37314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821280" y="37422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849720" y="37501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878160" y="37555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905160" y="376380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933600" y="37692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962040" y="37717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990120" y="37800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018200" y="37825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046640" y="37825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075080" y="37825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03520" y="37879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131960" y="37879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58960" y="37825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187400" y="37825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15480" y="37825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42120" y="37800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70560" y="377460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299000" y="37692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26000" y="37638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354080" y="37555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382520" y="375012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410960" y="37422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437600" y="37314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66040" y="37231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492680" y="371232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19320" y="36990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547760" y="36853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572600" y="36720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01040" y="36586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28040" y="36424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652880" y="36237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679880" y="36046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704720" y="35859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731360" y="35668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754760" y="35456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1"/>
                  </a:move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779960" y="352656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803360" y="349956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826760" y="347508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849800" y="344844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71760" y="341892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2"/>
                  </a:move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895520" y="339228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913520" y="336204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935120" y="33274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953840" y="32950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973640" y="325944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988400" y="32248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003520" y="31845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016840" y="314640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028720" y="310392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040240" y="30636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050680" y="302004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055360" y="29743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3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060400" y="292824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5"/>
                  </a:moveTo>
                  <a:lnTo>
                    <a:pt x="0" y="6"/>
                  </a:lnTo>
                  <a:lnTo>
                    <a:pt x="1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062200" y="28857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062200" y="28396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60400" y="27939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52120" y="274824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045280" y="27046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37000" y="26643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027280" y="26186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013960" y="25808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6"/>
                  </a:move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998840" y="25430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981920" y="25056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5"/>
                  </a:move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965360" y="24678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7"/>
                  </a:move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947000" y="24328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7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28640" y="23976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906680" y="23680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886880" y="23382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864920" y="23112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7"/>
                  </a:move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841520" y="22820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818480" y="22575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7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95080" y="22305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771680" y="22093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8"/>
                  </a:move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745040" y="218736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721640" y="21657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94640" y="214704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69800" y="21279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44600" y="21096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618320" y="209556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89880" y="20797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564320" y="206388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538040" y="20498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509600" y="20394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481160" y="20260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455960" y="20149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427520" y="20070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399440" y="19962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71000" y="19879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345800" y="198252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317360" y="19746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289280" y="19692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260840" y="19666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232400" y="19612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203960" y="19587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75520" y="19587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147080" y="19558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20080" y="19558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5715000" y="2184480"/>
            <a:ext cx="1904760" cy="1853280"/>
            <a:chOff x="5715000" y="2184480"/>
            <a:chExt cx="1904760" cy="1853280"/>
          </a:xfrm>
        </p:grpSpPr>
        <p:sp>
          <p:nvSpPr>
            <p:cNvPr id="1192" name=""/>
            <p:cNvSpPr/>
            <p:nvPr/>
          </p:nvSpPr>
          <p:spPr>
            <a:xfrm>
              <a:off x="6660000" y="21844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631560" y="21844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603120" y="218736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574680" y="218736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548040" y="21898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19600" y="21952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491160" y="21978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462720" y="22032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34280" y="2211120"/>
              <a:ext cx="1332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405840" y="22165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381000" y="22248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52560" y="22330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24120" y="22435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295680" y="225468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269040" y="22680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242400" y="227844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215760" y="228924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190560" y="23058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62480" y="23194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135480" y="233820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10640" y="23540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083640" y="23731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58800" y="23922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9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035040" y="2415960"/>
              <a:ext cx="1332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008760" y="24379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7"/>
                  </a:move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985360" y="24591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7"/>
                  </a:move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961600" y="24836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938560" y="25106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915160" y="25372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8"/>
                  </a:move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893560" y="256680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7"/>
                  </a:move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873400" y="25938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51440" y="26262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29840" y="265860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13280" y="26964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5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794560" y="27288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781600" y="27666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764680" y="28069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7"/>
                  </a:move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53160" y="28472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741280" y="28904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731560" y="29307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724720" y="29736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19680" y="301716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15000" y="306288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15000" y="310860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18240" y="31546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4"/>
                  </a:move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21120" y="32004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26520" y="324612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3"/>
                  </a:move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36240" y="328644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5"/>
                  </a:move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44880" y="332928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57840" y="33696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71520" y="34074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88440" y="34509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805000" y="34858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2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821560" y="35236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841720" y="35528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859720" y="35884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881680" y="36176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03280" y="364752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23440" y="36745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948640" y="37015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972040" y="37281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995440" y="37497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020280" y="37742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043680" y="37954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070320" y="38145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095520" y="38332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122160" y="385236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147360" y="386820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173640" y="38815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02080" y="39006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227640" y="391392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255720" y="39250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80920" y="394092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09360" y="395172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37800" y="39600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64080" y="39708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92520" y="39787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420960" y="39841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447960" y="399240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476400" y="39978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504840" y="40003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32920" y="40086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61000" y="40111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589440" y="40111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617880" y="40111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646320" y="40165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674760" y="40165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701760" y="40111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730200" y="40111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758280" y="40111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784920" y="40086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813360" y="400320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841800" y="39978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868800" y="39924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896880" y="39841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925320" y="397872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953760" y="39708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980400" y="39600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08840" y="39517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35480" y="394092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62120" y="39276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090560" y="39139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115400" y="39006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143840" y="38872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70840" y="38710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195680" y="38523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222680" y="38332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247520" y="38145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274160" y="37954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297560" y="37742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1"/>
                  </a:move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22760" y="375516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346160" y="372816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369560" y="370368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392600" y="367704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414560" y="364752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2"/>
                  </a:move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438320" y="362088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456320" y="359064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477920" y="35560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496640" y="35236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516440" y="348804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531200" y="34534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546320" y="34131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559640" y="337500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571520" y="333252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583040" y="32922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593480" y="324864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598160" y="32029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3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603200" y="315684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5"/>
                  </a:moveTo>
                  <a:lnTo>
                    <a:pt x="0" y="6"/>
                  </a:lnTo>
                  <a:lnTo>
                    <a:pt x="1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605000" y="31143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605000" y="30682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603200" y="30225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594920" y="297684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588080" y="29332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579800" y="28929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570080" y="28472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556760" y="28094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6"/>
                  </a:move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541640" y="27716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524720" y="27342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5"/>
                  </a:move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08160" y="26964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7"/>
                  </a:move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489800" y="26614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7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471440" y="26262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49480" y="25966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29680" y="25668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407720" y="25398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7"/>
                  </a:move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384320" y="25106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361280" y="24861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7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337880" y="24591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314480" y="24379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8"/>
                  </a:move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287840" y="241596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264440" y="23943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237440" y="237564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212600" y="23565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187400" y="23382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161120" y="232416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132680" y="23083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107120" y="229248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080840" y="22784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052400" y="22680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023960" y="22546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998760" y="22435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970320" y="22356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942240" y="22248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913800" y="22165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888600" y="221112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860160" y="22032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832080" y="21978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803640" y="21952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775200" y="21898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746760" y="21873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718320" y="21873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89880" y="21844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662880" y="21844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5029200" y="2209680"/>
            <a:ext cx="1904760" cy="1853640"/>
            <a:chOff x="5029200" y="2209680"/>
            <a:chExt cx="1904760" cy="1853640"/>
          </a:xfrm>
        </p:grpSpPr>
        <p:sp>
          <p:nvSpPr>
            <p:cNvPr id="1365" name=""/>
            <p:cNvSpPr/>
            <p:nvPr/>
          </p:nvSpPr>
          <p:spPr>
            <a:xfrm>
              <a:off x="5974200" y="22096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945760" y="22096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917320" y="221256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888880" y="221256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862240" y="22150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833800" y="22204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805360" y="22230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776920" y="22284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748480" y="2236320"/>
              <a:ext cx="1332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720040" y="22417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695200" y="22500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666760" y="22582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638320" y="22687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609880" y="227988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83240" y="22932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56600" y="230364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29960" y="231444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4760" y="23310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76680" y="23446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49680" y="236340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24840" y="23792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397840" y="23983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73000" y="24174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9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49240" y="2441160"/>
              <a:ext cx="1332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322960" y="24631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7"/>
                  </a:move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299560" y="24843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7"/>
                  </a:move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275800" y="25088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252760" y="25358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229360" y="25628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8"/>
                  </a:move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07760" y="259200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7"/>
                  </a:move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187600" y="26190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165640" y="26514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144040" y="268380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127480" y="27216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5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108760" y="27540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095800" y="27918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078880" y="28321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7"/>
                  </a:move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067360" y="28724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055480" y="29160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045760" y="29563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38920" y="29991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033880" y="304236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029200" y="308844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029200" y="313416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032440" y="31798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4"/>
                  </a:move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035320" y="32256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040720" y="32716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3"/>
                  </a:move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050440" y="33120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5"/>
                  </a:move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059080" y="33548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72040" y="33951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85720" y="34329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102640" y="34761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119200" y="35110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2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135760" y="35488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155920" y="357840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173920" y="36136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195880" y="36432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217480" y="36730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237640" y="37000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262840" y="37267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286240" y="37537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309640" y="37753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334480" y="37994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357880" y="382104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384520" y="38401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409720" y="385884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436360" y="387792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461560" y="389376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487840" y="390708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516280" y="39261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541840" y="39394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569920" y="39506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595120" y="396648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623560" y="39772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652000" y="39855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678280" y="39963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06720" y="40042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735160" y="40096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62160" y="401760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90600" y="40233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819040" y="402588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847120" y="403416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875200" y="403668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03640" y="403668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2080" y="403668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60520" y="40420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88960" y="40420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015960" y="40366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044400" y="40366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072480" y="403668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099120" y="40341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127560" y="402876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156000" y="40233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183000" y="40176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1080" y="400968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39520" y="40042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67960" y="39963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94600" y="39855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323040" y="39772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49680" y="396648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376320" y="39531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404760" y="39394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429600" y="39261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458040" y="391284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485040" y="389664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509880" y="387792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536880" y="385884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561720" y="38401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588360" y="38210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611760" y="37994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1"/>
                  </a:move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636960" y="37807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660360" y="37537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683760" y="372924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706800" y="37026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728760" y="36730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2"/>
                  </a:move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752520" y="364608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770520" y="36162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792120" y="35812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810840" y="35488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30640" y="35136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845400" y="34786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860520" y="34383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73840" y="340056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885720" y="335772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897240" y="33174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907680" y="327420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912360" y="32281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3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917400" y="31824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5"/>
                  </a:moveTo>
                  <a:lnTo>
                    <a:pt x="0" y="6"/>
                  </a:lnTo>
                  <a:lnTo>
                    <a:pt x="1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919200" y="31395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919200" y="30938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917400" y="30481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909120" y="300204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902280" y="295884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94000" y="29185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84280" y="28724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70960" y="28346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6"/>
                  </a:move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55840" y="27968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838920" y="27594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5"/>
                  </a:move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22360" y="27216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7"/>
                  </a:move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04000" y="26866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7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785640" y="26514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763680" y="26218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743880" y="25920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721920" y="25650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7"/>
                  </a:move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98520" y="25358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75480" y="25113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7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52080" y="24843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8680" y="24631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8"/>
                  </a:move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02040" y="244116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578640" y="24195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551640" y="240084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526800" y="23817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501600" y="23634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475320" y="234936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446880" y="23335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421320" y="231768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395040" y="23036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366600" y="22932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338160" y="22798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312960" y="22687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84520" y="22608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256440" y="22500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228000" y="22417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202800" y="223632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174360" y="22284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146280" y="22230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117840" y="22204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089400" y="22150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060960" y="22125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032520" y="22125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004080" y="22096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977080" y="22096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4419720" y="2438280"/>
            <a:ext cx="1904400" cy="1853640"/>
            <a:chOff x="4419720" y="2438280"/>
            <a:chExt cx="1904400" cy="1853640"/>
          </a:xfrm>
        </p:grpSpPr>
        <p:sp>
          <p:nvSpPr>
            <p:cNvPr id="1538" name=""/>
            <p:cNvSpPr/>
            <p:nvPr/>
          </p:nvSpPr>
          <p:spPr>
            <a:xfrm>
              <a:off x="5364360" y="24382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336280" y="24382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07840" y="244116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279400" y="244116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252400" y="24436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223960" y="24490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195520" y="24516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167440" y="24570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139000" y="2464920"/>
              <a:ext cx="1332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110560" y="24703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085360" y="24786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057280" y="24868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028840" y="249732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000400" y="250848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973760" y="25218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946760" y="253224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920480" y="254304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894920" y="25596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867200" y="25732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840200" y="259200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815000" y="26078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788360" y="26269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763160" y="26460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9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739760" y="2669760"/>
              <a:ext cx="1332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713480" y="26917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7"/>
                  </a:move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689720" y="27129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7"/>
                  </a:move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666320" y="27374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643280" y="27644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619880" y="27914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8"/>
                  </a:move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598280" y="282060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7"/>
                  </a:move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578120" y="28476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556160" y="28800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534560" y="291240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518000" y="29502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5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99280" y="298260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486320" y="30204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469400" y="30607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7"/>
                  </a:move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457880" y="31010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446000" y="314460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436280" y="31849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429440" y="32277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424400" y="327096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419720" y="331704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419720" y="336276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22960" y="34084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4"/>
                  </a:move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425840" y="34542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31240" y="35002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3"/>
                  </a:move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40960" y="35406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5"/>
                  </a:move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449600" y="35834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462560" y="36237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476240" y="36615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493160" y="37047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509720" y="37396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2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526280" y="37774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546440" y="380700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564440" y="38422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586400" y="38718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608000" y="390168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628160" y="39286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53000" y="39553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676760" y="39823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700160" y="40039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725000" y="40280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748040" y="404964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775040" y="40687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799880" y="408744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826880" y="410652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852080" y="412236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878360" y="413568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906800" y="41547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932000" y="41680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60080" y="41792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985640" y="419508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014080" y="42058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042160" y="42141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068800" y="42249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097240" y="42328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125680" y="423828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152680" y="424620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180760" y="42519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209200" y="425448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237280" y="426276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265720" y="426528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294160" y="426528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322600" y="426528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351040" y="42706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379120" y="42706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406120" y="42652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434560" y="42652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463000" y="426528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489640" y="42627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517720" y="425736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546160" y="42519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573160" y="42462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601600" y="423828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630040" y="423288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658480" y="42249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684760" y="421416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713200" y="42058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740200" y="419508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766480" y="41817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794920" y="41680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820120" y="415476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848560" y="414144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875200" y="412524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900400" y="410652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927040" y="408744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952240" y="40687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978520" y="40496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01920" y="40280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1"/>
                  </a:move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027120" y="40093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50520" y="398232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73920" y="395784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096960" y="39312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118920" y="39016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2"/>
                  </a:move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42680" y="3874680"/>
              <a:ext cx="14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60680" y="38448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82280" y="38098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201000" y="37774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220800" y="37422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35560" y="37072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250680" y="366696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264000" y="362916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275880" y="358632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287400" y="35460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297840" y="350280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02880" y="34567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3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307560" y="34110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5"/>
                  </a:moveTo>
                  <a:lnTo>
                    <a:pt x="0" y="6"/>
                  </a:lnTo>
                  <a:lnTo>
                    <a:pt x="1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309360" y="336816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309360" y="332244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307560" y="327672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299280" y="323064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292440" y="318744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284160" y="31471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274440" y="31010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261120" y="306324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6"/>
                  </a:move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246000" y="30254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229080" y="29880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5"/>
                  </a:move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212520" y="2950200"/>
              <a:ext cx="1476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7"/>
                  </a:move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194160" y="29152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7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175800" y="28800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153840" y="28504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134400" y="28206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112440" y="279360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7"/>
                  </a:move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088680" y="276444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065640" y="27399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7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042240" y="27129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018840" y="269172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8"/>
                  </a:move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992200" y="2669760"/>
              <a:ext cx="1476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968800" y="264816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941800" y="262944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916960" y="2610360"/>
              <a:ext cx="1332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891760" y="2592000"/>
              <a:ext cx="1296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865480" y="257796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837040" y="2562120"/>
              <a:ext cx="1476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811480" y="2546280"/>
              <a:ext cx="13320" cy="23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785200" y="25322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756760" y="252180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728320" y="250848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03480" y="249732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675040" y="24894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646600" y="247860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618160" y="247032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593320" y="2464920"/>
              <a:ext cx="12960" cy="21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564880" y="245700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536440" y="2451600"/>
              <a:ext cx="1296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508000" y="2449080"/>
              <a:ext cx="1296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479560" y="2443680"/>
              <a:ext cx="15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451120" y="24411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422680" y="2441160"/>
              <a:ext cx="1512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394600" y="2438280"/>
              <a:ext cx="15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367600" y="2438280"/>
              <a:ext cx="1332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3581280" y="3124080"/>
            <a:ext cx="1599840" cy="1320480"/>
            <a:chOff x="3581280" y="3124080"/>
            <a:chExt cx="1599840" cy="1320480"/>
          </a:xfrm>
        </p:grpSpPr>
        <p:sp>
          <p:nvSpPr>
            <p:cNvPr id="1711" name=""/>
            <p:cNvSpPr/>
            <p:nvPr/>
          </p:nvSpPr>
          <p:spPr>
            <a:xfrm>
              <a:off x="4375080" y="3124080"/>
              <a:ext cx="1224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351320" y="3124080"/>
              <a:ext cx="1224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327200" y="3126240"/>
              <a:ext cx="1224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303440" y="3126240"/>
              <a:ext cx="1224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280760" y="3127680"/>
              <a:ext cx="1080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257000" y="313164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233240" y="3133440"/>
              <a:ext cx="1116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209480" y="313740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185360" y="3143160"/>
              <a:ext cx="1116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161600" y="3147120"/>
              <a:ext cx="1260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140720" y="3152520"/>
              <a:ext cx="1080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116600" y="315864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092840" y="3166200"/>
              <a:ext cx="1116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069080" y="3174120"/>
              <a:ext cx="1116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046760" y="3183480"/>
              <a:ext cx="1224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024080" y="3191040"/>
              <a:ext cx="1080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001760" y="3198600"/>
              <a:ext cx="1224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980520" y="321048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957120" y="3220200"/>
              <a:ext cx="1080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934440" y="3233520"/>
              <a:ext cx="1260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913560" y="324504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890880" y="325836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870000" y="3272040"/>
              <a:ext cx="1080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9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850200" y="3288960"/>
              <a:ext cx="1116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827880" y="330444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7"/>
                  </a:move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808080" y="3319920"/>
              <a:ext cx="1260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7"/>
                  </a:move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788640" y="333720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769200" y="335628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749400" y="337536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8"/>
                  </a:move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731400" y="3396240"/>
              <a:ext cx="1224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7"/>
                  </a:move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714480" y="3415680"/>
              <a:ext cx="1080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695760" y="3438720"/>
              <a:ext cx="1116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677760" y="3461760"/>
              <a:ext cx="1260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663720" y="348876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5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648240" y="3511800"/>
              <a:ext cx="1116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637080" y="3538800"/>
              <a:ext cx="1080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623040" y="356760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7"/>
                  </a:move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613320" y="359640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603240" y="362700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594960" y="365580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589200" y="368640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585240" y="3717360"/>
              <a:ext cx="1080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581280" y="3749760"/>
              <a:ext cx="1224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581280" y="3782520"/>
              <a:ext cx="1224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583800" y="3815280"/>
              <a:ext cx="1080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4"/>
                  </a:move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586680" y="384768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591000" y="3880440"/>
              <a:ext cx="1224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3"/>
                  </a:move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599280" y="3909240"/>
              <a:ext cx="1080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5"/>
                  </a:move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606120" y="3939840"/>
              <a:ext cx="1260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617280" y="3968280"/>
              <a:ext cx="1116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628800" y="3995280"/>
              <a:ext cx="1080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642840" y="402624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656880" y="405108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2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670920" y="407808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687480" y="4098960"/>
              <a:ext cx="1260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702960" y="412416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721320" y="4145040"/>
              <a:ext cx="1224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739680" y="4166640"/>
              <a:ext cx="1080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756240" y="418572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777480" y="420480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796920" y="422388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816720" y="4239360"/>
              <a:ext cx="1080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837960" y="4256640"/>
              <a:ext cx="1224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857040" y="427176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879720" y="4285440"/>
              <a:ext cx="1080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900600" y="4298760"/>
              <a:ext cx="1260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923280" y="4312440"/>
              <a:ext cx="1080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944520" y="4323600"/>
              <a:ext cx="1260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966480" y="4333320"/>
              <a:ext cx="1116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990600" y="4346640"/>
              <a:ext cx="1116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011840" y="4356360"/>
              <a:ext cx="1224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035240" y="436428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056480" y="4375440"/>
              <a:ext cx="1224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080600" y="4383360"/>
              <a:ext cx="1224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104360" y="4389120"/>
              <a:ext cx="1224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126680" y="439668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150440" y="440244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174200" y="4406400"/>
              <a:ext cx="1080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196880" y="4412160"/>
              <a:ext cx="1224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220640" y="4415760"/>
              <a:ext cx="1224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244760" y="4417560"/>
              <a:ext cx="1224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268160" y="442368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291920" y="4425480"/>
              <a:ext cx="1116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315680" y="4425480"/>
              <a:ext cx="1116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339800" y="4425480"/>
              <a:ext cx="1116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363560" y="442944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87320" y="442944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410000" y="4425480"/>
              <a:ext cx="1260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433760" y="4425480"/>
              <a:ext cx="1260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457880" y="4425480"/>
              <a:ext cx="1224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479840" y="442368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503960" y="4419720"/>
              <a:ext cx="1116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527720" y="441576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550400" y="4412160"/>
              <a:ext cx="1260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574160" y="4406400"/>
              <a:ext cx="1224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597920" y="4402440"/>
              <a:ext cx="1224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621680" y="4396680"/>
              <a:ext cx="1224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644000" y="438912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668120" y="438336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690440" y="4375440"/>
              <a:ext cx="1224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712760" y="4365720"/>
              <a:ext cx="1116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736520" y="435636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757760" y="4346640"/>
              <a:ext cx="1260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781520" y="433728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804200" y="4325760"/>
              <a:ext cx="1080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825080" y="4312440"/>
              <a:ext cx="1260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847760" y="4298760"/>
              <a:ext cx="1080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868640" y="4285440"/>
              <a:ext cx="1260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890960" y="427176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910760" y="425664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1"/>
                  </a:move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931640" y="424296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951440" y="422388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971240" y="4206600"/>
              <a:ext cx="1224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990320" y="4187520"/>
              <a:ext cx="1260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009040" y="4166640"/>
              <a:ext cx="1260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2"/>
                  </a:move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028840" y="4147200"/>
              <a:ext cx="1224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043960" y="412596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061960" y="4101120"/>
              <a:ext cx="1260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077800" y="407808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094360" y="4052880"/>
              <a:ext cx="1080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106960" y="4028040"/>
              <a:ext cx="1260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119560" y="399924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130720" y="3972240"/>
              <a:ext cx="1260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140800" y="3942000"/>
              <a:ext cx="1260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150520" y="391320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159160" y="3882240"/>
              <a:ext cx="1224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163120" y="3849480"/>
              <a:ext cx="1080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3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167440" y="3817080"/>
              <a:ext cx="1080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5"/>
                  </a:moveTo>
                  <a:lnTo>
                    <a:pt x="0" y="6"/>
                  </a:lnTo>
                  <a:lnTo>
                    <a:pt x="1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168880" y="3786480"/>
              <a:ext cx="1224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168880" y="3753720"/>
              <a:ext cx="1224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167440" y="372132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160240" y="368856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154480" y="3657600"/>
              <a:ext cx="1260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147640" y="362880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139360" y="359640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28200" y="356940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6"/>
                  </a:move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115600" y="3542400"/>
              <a:ext cx="1260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101560" y="351576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5"/>
                  </a:move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087520" y="3488760"/>
              <a:ext cx="1224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7"/>
                  </a:move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072040" y="3463920"/>
              <a:ext cx="1260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7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056560" y="3438720"/>
              <a:ext cx="1080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038200" y="3417840"/>
              <a:ext cx="1260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021640" y="3396240"/>
              <a:ext cx="1080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003280" y="3377160"/>
              <a:ext cx="1080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7"/>
                  </a:move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983480" y="335628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964040" y="3339000"/>
              <a:ext cx="1080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7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944240" y="3319920"/>
              <a:ext cx="1080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924800" y="330444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8"/>
                  </a:move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902480" y="3288960"/>
              <a:ext cx="1224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882680" y="3273480"/>
              <a:ext cx="1080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860000" y="3260160"/>
              <a:ext cx="1260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839120" y="3246840"/>
              <a:ext cx="1116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818240" y="3233520"/>
              <a:ext cx="1080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795920" y="3223440"/>
              <a:ext cx="1080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771800" y="3212280"/>
              <a:ext cx="1224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750560" y="3201120"/>
              <a:ext cx="1116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728240" y="3191040"/>
              <a:ext cx="1260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704480" y="318348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680720" y="3174120"/>
              <a:ext cx="1260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659840" y="3166200"/>
              <a:ext cx="1080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635720" y="3160440"/>
              <a:ext cx="1080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611960" y="3152520"/>
              <a:ext cx="1260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588200" y="3147120"/>
              <a:ext cx="1260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566960" y="3143160"/>
              <a:ext cx="1080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543200" y="313740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519440" y="3133440"/>
              <a:ext cx="1080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495680" y="3131640"/>
              <a:ext cx="1080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471560" y="3127680"/>
              <a:ext cx="1260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447800" y="3126240"/>
              <a:ext cx="1260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24040" y="3126240"/>
              <a:ext cx="1260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400280" y="3124080"/>
              <a:ext cx="1260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377600" y="3124080"/>
              <a:ext cx="1116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3168720" y="3124080"/>
            <a:ext cx="1479240" cy="1331640"/>
            <a:chOff x="3168720" y="3124080"/>
            <a:chExt cx="1479240" cy="1331640"/>
          </a:xfrm>
        </p:grpSpPr>
        <p:sp>
          <p:nvSpPr>
            <p:cNvPr id="1884" name=""/>
            <p:cNvSpPr/>
            <p:nvPr/>
          </p:nvSpPr>
          <p:spPr>
            <a:xfrm>
              <a:off x="3902760" y="31240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880440" y="31240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858480" y="312624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836520" y="312624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815640" y="312768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793680" y="313164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771360" y="3133440"/>
              <a:ext cx="1044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749400" y="313740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727440" y="3143160"/>
              <a:ext cx="1044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705120" y="3147120"/>
              <a:ext cx="1152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686040" y="315288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663720" y="315900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641760" y="3166560"/>
              <a:ext cx="1044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619800" y="3174480"/>
              <a:ext cx="1044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599280" y="318420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578400" y="3191400"/>
              <a:ext cx="1008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557520" y="319932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538080" y="321120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516120" y="3220920"/>
              <a:ext cx="1008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495240" y="3234600"/>
              <a:ext cx="1152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475800" y="324612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454920" y="325944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435480" y="3273120"/>
              <a:ext cx="1008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9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417480" y="3290400"/>
              <a:ext cx="1044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396600" y="330624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7"/>
                  </a:move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378600" y="3321360"/>
              <a:ext cx="1152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7"/>
                  </a:move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360240" y="333900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342240" y="335844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24240" y="337752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8"/>
                  </a:move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307320" y="3398760"/>
              <a:ext cx="1116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7"/>
                  </a:move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291840" y="3418200"/>
              <a:ext cx="1008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274560" y="3441240"/>
              <a:ext cx="1044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258000" y="3464640"/>
              <a:ext cx="1152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245040" y="349164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5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230640" y="3515040"/>
              <a:ext cx="1044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20200" y="3542400"/>
              <a:ext cx="1008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07240" y="357120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7"/>
                  </a:move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198240" y="360036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189240" y="363132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181320" y="366048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176280" y="369108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172320" y="3722400"/>
              <a:ext cx="1008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68720" y="375516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68720" y="378828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71240" y="3821040"/>
              <a:ext cx="1008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4"/>
                  </a:move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73400" y="385380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177720" y="388692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3"/>
                  </a:move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185280" y="3915720"/>
              <a:ext cx="1008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5"/>
                  </a:move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191760" y="3946680"/>
              <a:ext cx="1152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202200" y="3975480"/>
              <a:ext cx="1044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212640" y="400284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225600" y="403380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38560" y="405900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2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51520" y="408636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67000" y="4107240"/>
              <a:ext cx="1152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281040" y="413280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298320" y="41536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314880" y="4175280"/>
              <a:ext cx="1008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330720" y="419472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350160" y="421380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68160" y="423324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386520" y="424872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405960" y="426600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423960" y="428148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444840" y="429516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464280" y="4308840"/>
              <a:ext cx="1152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485160" y="4322520"/>
              <a:ext cx="1008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504240" y="4333680"/>
              <a:ext cx="1152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525120" y="4343400"/>
              <a:ext cx="1044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547080" y="4357080"/>
              <a:ext cx="1044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566880" y="436680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588480" y="437472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608280" y="4385880"/>
              <a:ext cx="1116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630240" y="439380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652200" y="439956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673080" y="440748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695040" y="441324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717000" y="441720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737880" y="442296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759840" y="442692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782160" y="442872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803760" y="443484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25720" y="4436640"/>
              <a:ext cx="1044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848040" y="4436640"/>
              <a:ext cx="1044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870000" y="4436640"/>
              <a:ext cx="1044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91960" y="444060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914280" y="444060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935160" y="4436640"/>
              <a:ext cx="1152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957120" y="4436640"/>
              <a:ext cx="1152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979080" y="443664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999600" y="443484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021920" y="4430880"/>
              <a:ext cx="1044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043880" y="442692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064760" y="4422960"/>
              <a:ext cx="1152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086720" y="441720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108680" y="441324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131000" y="44074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151520" y="439956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173480" y="439380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194360" y="4385880"/>
              <a:ext cx="1116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214880" y="4376520"/>
              <a:ext cx="1044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237200" y="436680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256280" y="4357080"/>
              <a:ext cx="1152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278600" y="434736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299480" y="4335840"/>
              <a:ext cx="1008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318920" y="4322520"/>
              <a:ext cx="1152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339800" y="430884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4359240" y="4295160"/>
              <a:ext cx="1152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379760" y="428148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397760" y="426600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1"/>
                  </a:move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417200" y="425268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435560" y="423324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453920" y="421560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471920" y="4196520"/>
              <a:ext cx="1152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488840" y="4175280"/>
              <a:ext cx="1152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2"/>
                  </a:move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507200" y="415584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521240" y="413460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537800" y="4109400"/>
              <a:ext cx="1152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552200" y="408636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568040" y="4060800"/>
              <a:ext cx="1008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579560" y="4035600"/>
              <a:ext cx="1152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591080" y="400680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601520" y="3979440"/>
              <a:ext cx="1152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610520" y="3948840"/>
              <a:ext cx="1152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619520" y="391968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627440" y="388872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631400" y="385560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3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635360" y="382284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5"/>
                  </a:moveTo>
                  <a:lnTo>
                    <a:pt x="0" y="6"/>
                  </a:lnTo>
                  <a:lnTo>
                    <a:pt x="1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636800" y="37918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636800" y="375912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635360" y="372636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628880" y="369324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623480" y="3662280"/>
              <a:ext cx="1152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617000" y="363312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609440" y="360036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599000" y="357300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6"/>
                  </a:move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587480" y="3545640"/>
              <a:ext cx="1152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574520" y="351900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5"/>
                  </a:move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561560" y="349164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7"/>
                  </a:move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547160" y="3466800"/>
              <a:ext cx="1152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7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532760" y="344124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515840" y="3420360"/>
              <a:ext cx="1152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500720" y="3398760"/>
              <a:ext cx="1008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483440" y="3379320"/>
              <a:ext cx="1008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7"/>
                  </a:move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465440" y="335844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447440" y="334080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7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429080" y="332136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410720" y="330624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8"/>
                  </a:move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390200" y="3290400"/>
              <a:ext cx="1116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372200" y="327492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351320" y="3261240"/>
              <a:ext cx="1152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331880" y="3247560"/>
              <a:ext cx="1044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312440" y="3234600"/>
              <a:ext cx="1008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291920" y="3224520"/>
              <a:ext cx="1008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269600" y="321300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250160" y="3201480"/>
              <a:ext cx="1044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229280" y="3191400"/>
              <a:ext cx="1152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207320" y="318420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185360" y="3174480"/>
              <a:ext cx="1152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165920" y="316656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143960" y="316080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121640" y="3152880"/>
              <a:ext cx="1152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099680" y="3147120"/>
              <a:ext cx="1152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080240" y="3143160"/>
              <a:ext cx="1008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058280" y="313740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036320" y="313344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014000" y="313164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992040" y="3127680"/>
              <a:ext cx="1152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970080" y="3126240"/>
              <a:ext cx="1152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947760" y="3126240"/>
              <a:ext cx="1152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925800" y="3124080"/>
              <a:ext cx="1152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904920" y="3124080"/>
              <a:ext cx="1044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2056" name=""/>
          <p:cNvGrpSpPr/>
          <p:nvPr/>
        </p:nvGrpSpPr>
        <p:grpSpPr>
          <a:xfrm>
            <a:off x="2558880" y="3124080"/>
            <a:ext cx="1447920" cy="1317240"/>
            <a:chOff x="2558880" y="3124080"/>
            <a:chExt cx="1447920" cy="1317240"/>
          </a:xfrm>
        </p:grpSpPr>
        <p:sp>
          <p:nvSpPr>
            <p:cNvPr id="2057" name=""/>
            <p:cNvSpPr/>
            <p:nvPr/>
          </p:nvSpPr>
          <p:spPr>
            <a:xfrm>
              <a:off x="3277080" y="31240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255480" y="31240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233880" y="312624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212280" y="312624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191760" y="3127680"/>
              <a:ext cx="972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170160" y="313164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148560" y="313344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126960" y="313740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105720" y="3143160"/>
              <a:ext cx="1008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084120" y="314676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065040" y="3152520"/>
              <a:ext cx="972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043440" y="315864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021840" y="316620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000240" y="3173760"/>
              <a:ext cx="1008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9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980080" y="31834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959560" y="3190680"/>
              <a:ext cx="972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939400" y="319860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920320" y="321048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898720" y="3219840"/>
              <a:ext cx="972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878560" y="323316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859480" y="324468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838960" y="325800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819880" y="3271680"/>
              <a:ext cx="972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9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802240" y="3288600"/>
              <a:ext cx="1008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782080" y="33040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7"/>
                  </a:move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764080" y="331920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7"/>
                  </a:move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746440" y="333684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8"/>
                  </a:move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728800" y="335592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7"/>
                  </a:move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710800" y="337500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8"/>
                  </a:move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694600" y="3395880"/>
              <a:ext cx="1116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7"/>
                  </a:move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679120" y="3414960"/>
              <a:ext cx="972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662560" y="343800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646360" y="3461040"/>
              <a:ext cx="1116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633400" y="34876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5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619360" y="351072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609280" y="3537720"/>
              <a:ext cx="972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596680" y="356652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7"/>
                  </a:move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587680" y="359496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578680" y="362592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571480" y="365472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566080" y="368496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562480" y="3715920"/>
              <a:ext cx="972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558880" y="374832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558880" y="378108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561400" y="3813480"/>
              <a:ext cx="972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4"/>
                  </a:move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563560" y="384624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567520" y="387864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3"/>
                  </a:move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575080" y="3907440"/>
              <a:ext cx="972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5"/>
                  </a:move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581560" y="3937680"/>
              <a:ext cx="1116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4"/>
                  </a:move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591640" y="396648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601720" y="3993120"/>
              <a:ext cx="972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3"/>
                  </a:move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614680" y="402408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627280" y="404892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2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639880" y="407592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655000" y="4096800"/>
              <a:ext cx="1116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669040" y="412164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685600" y="414252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702160" y="4163760"/>
              <a:ext cx="972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717280" y="418320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736360" y="420228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754000" y="422136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772000" y="4236480"/>
              <a:ext cx="972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791080" y="425376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808360" y="42688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828880" y="4282560"/>
              <a:ext cx="972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847960" y="429588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868480" y="4309560"/>
              <a:ext cx="972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887560" y="4320720"/>
              <a:ext cx="1116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907360" y="433008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928960" y="434376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948400" y="435312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969640" y="436104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989080" y="4372200"/>
              <a:ext cx="1116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010680" y="438012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032280" y="43858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052440" y="439380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074040" y="439920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095640" y="4403160"/>
              <a:ext cx="972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115800" y="440892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137400" y="44128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159000" y="441468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180240" y="442044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1840" y="442224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223440" y="442224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245040" y="442224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266640" y="442620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288240" y="442620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308760" y="442224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330360" y="442224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351960" y="442224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372120" y="442044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393720" y="4416840"/>
              <a:ext cx="1008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415320" y="441288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435840" y="440892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457080" y="440316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478680" y="439920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500280" y="439380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520440" y="438588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542040" y="438012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562560" y="4372200"/>
              <a:ext cx="1116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582720" y="436284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604320" y="435312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623400" y="434376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645000" y="433404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665520" y="4322880"/>
              <a:ext cx="972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684240" y="430956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704760" y="4295880"/>
              <a:ext cx="972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723840" y="428256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744000" y="426888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761640" y="425376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1"/>
                  </a:move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780720" y="424044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798720" y="422136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816360" y="420372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834000" y="418464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850560" y="416376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2"/>
                  </a:move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868560" y="414468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882240" y="412344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0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898800" y="409896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912840" y="407592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927960" y="4050720"/>
              <a:ext cx="972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939480" y="402588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951000" y="399708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961080" y="3970440"/>
              <a:ext cx="1116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969720" y="393984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978720" y="391104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986640" y="388044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990240" y="3847680"/>
              <a:ext cx="972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3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994200" y="3815280"/>
              <a:ext cx="972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5"/>
                  </a:moveTo>
                  <a:lnTo>
                    <a:pt x="0" y="6"/>
                  </a:lnTo>
                  <a:lnTo>
                    <a:pt x="1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995640" y="37846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995640" y="37522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994200" y="371952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987720" y="368712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982680" y="365616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976200" y="362772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968640" y="359496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958560" y="356832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6"/>
                  </a:moveTo>
                  <a:lnTo>
                    <a:pt x="2" y="7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947040" y="3541320"/>
              <a:ext cx="1116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934440" y="35146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5"/>
                  </a:moveTo>
                  <a:lnTo>
                    <a:pt x="3" y="7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921840" y="34876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7"/>
                  </a:move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907800" y="346320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7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893760" y="3438000"/>
              <a:ext cx="972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877200" y="341712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62080" y="3395880"/>
              <a:ext cx="972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845520" y="3376800"/>
              <a:ext cx="972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7"/>
                  </a:move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827520" y="335592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810240" y="3338280"/>
              <a:ext cx="972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7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792240" y="3319200"/>
              <a:ext cx="972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774600" y="330408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8"/>
                  </a:move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754440" y="3288600"/>
              <a:ext cx="1116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736440" y="3273120"/>
              <a:ext cx="972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3" y="9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715920" y="325980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5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696840" y="3246480"/>
              <a:ext cx="1008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678120" y="3233160"/>
              <a:ext cx="972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9"/>
                  </a:move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657960" y="3223440"/>
              <a:ext cx="972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636360" y="321192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616920" y="3200760"/>
              <a:ext cx="10080" cy="16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596760" y="3190680"/>
              <a:ext cx="11160" cy="15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575160" y="31834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lnTo>
                    <a:pt x="4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553560" y="317376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534840" y="3166200"/>
              <a:ext cx="972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513240" y="3160440"/>
              <a:ext cx="972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491640" y="315252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470040" y="314676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450960" y="3143160"/>
              <a:ext cx="9720" cy="15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429360" y="313740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407760" y="3133440"/>
              <a:ext cx="9720" cy="17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lnTo>
                    <a:pt x="4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386160" y="3131640"/>
              <a:ext cx="972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364560" y="3127680"/>
              <a:ext cx="11160" cy="17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4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342960" y="312624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6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321360" y="3126240"/>
              <a:ext cx="1116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299760" y="3124080"/>
              <a:ext cx="11160" cy="15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279240" y="3124080"/>
              <a:ext cx="10080" cy="15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8"/>
                  </a:moveTo>
                  <a:lnTo>
                    <a:pt x="5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229" name=""/>
          <p:cNvSpPr/>
          <p:nvPr/>
        </p:nvSpPr>
        <p:spPr>
          <a:xfrm>
            <a:off x="1828800" y="3962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790360" y="2438280"/>
            <a:ext cx="178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LAN (802.11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426680" y="1981080"/>
            <a:ext cx="7077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N/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bo/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xDSL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232" name="" descr=""/>
          <p:cNvPicPr/>
          <p:nvPr/>
        </p:nvPicPr>
        <p:blipFill>
          <a:blip r:embed="rId16"/>
          <a:stretch/>
        </p:blipFill>
        <p:spPr>
          <a:xfrm>
            <a:off x="1851120" y="3886200"/>
            <a:ext cx="461880" cy="228600"/>
          </a:xfrm>
          <a:prstGeom prst="rect">
            <a:avLst/>
          </a:prstGeom>
          <a:ln w="0">
            <a:noFill/>
          </a:ln>
        </p:spPr>
      </p:pic>
      <p:sp>
        <p:nvSpPr>
          <p:cNvPr id="2233" name=""/>
          <p:cNvSpPr/>
          <p:nvPr/>
        </p:nvSpPr>
        <p:spPr>
          <a:xfrm>
            <a:off x="141300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234" name="" descr=""/>
          <p:cNvPicPr/>
          <p:nvPr/>
        </p:nvPicPr>
        <p:blipFill>
          <a:blip r:embed="rId17"/>
          <a:stretch/>
        </p:blipFill>
        <p:spPr>
          <a:xfrm>
            <a:off x="947880" y="2971800"/>
            <a:ext cx="628560" cy="533520"/>
          </a:xfrm>
          <a:prstGeom prst="rect">
            <a:avLst/>
          </a:prstGeom>
          <a:ln w="0">
            <a:noFill/>
          </a:ln>
        </p:spPr>
      </p:pic>
      <p:sp>
        <p:nvSpPr>
          <p:cNvPr id="2235" name=""/>
          <p:cNvSpPr/>
          <p:nvPr/>
        </p:nvSpPr>
        <p:spPr>
          <a:xfrm flipV="1">
            <a:off x="1347840" y="3429000"/>
            <a:ext cx="76320" cy="76320"/>
          </a:xfrm>
          <a:custGeom>
            <a:avLst/>
            <a:gdLst/>
            <a:ahLst/>
            <a:rect l="l" t="t" r="r" b="b"/>
            <a:pathLst>
              <a:path w="530" h="6">
                <a:moveTo>
                  <a:pt x="0" y="6"/>
                </a:moveTo>
                <a:cubicBezTo>
                  <a:pt x="88" y="5"/>
                  <a:pt x="442" y="1"/>
                  <a:pt x="530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99864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237" name="" descr=""/>
          <p:cNvPicPr/>
          <p:nvPr/>
        </p:nvPicPr>
        <p:blipFill>
          <a:blip r:embed="rId18"/>
          <a:stretch/>
        </p:blipFill>
        <p:spPr>
          <a:xfrm>
            <a:off x="1031760" y="3809880"/>
            <a:ext cx="462240" cy="228600"/>
          </a:xfrm>
          <a:prstGeom prst="rect">
            <a:avLst/>
          </a:prstGeom>
          <a:ln w="0">
            <a:noFill/>
          </a:ln>
        </p:spPr>
      </p:pic>
      <p:sp>
        <p:nvSpPr>
          <p:cNvPr id="2238" name=""/>
          <p:cNvSpPr/>
          <p:nvPr/>
        </p:nvSpPr>
        <p:spPr>
          <a:xfrm flipV="1">
            <a:off x="1600200" y="3199680"/>
            <a:ext cx="304920" cy="152280"/>
          </a:xfrm>
          <a:custGeom>
            <a:avLst/>
            <a:gdLst/>
            <a:ahLst/>
            <a:rect l="l" t="t" r="r" b="b"/>
            <a:pathLst>
              <a:path w="461" h="198">
                <a:moveTo>
                  <a:pt x="0" y="198"/>
                </a:moveTo>
                <a:cubicBezTo>
                  <a:pt x="45" y="184"/>
                  <a:pt x="193" y="152"/>
                  <a:pt x="270" y="119"/>
                </a:cubicBezTo>
                <a:cubicBezTo>
                  <a:pt x="347" y="86"/>
                  <a:pt x="421" y="25"/>
                  <a:pt x="461" y="0"/>
                </a:cubicBezTo>
              </a:path>
            </a:pathLst>
          </a:custGeom>
          <a:noFill/>
          <a:ln w="633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19"/>
          <a:stretch/>
        </p:blipFill>
        <p:spPr>
          <a:xfrm>
            <a:off x="6553080" y="6095880"/>
            <a:ext cx="2590920" cy="381240"/>
          </a:xfrm>
          <a:prstGeom prst="rect">
            <a:avLst/>
          </a:prstGeom>
          <a:ln w="0">
            <a:noFill/>
          </a:ln>
        </p:spPr>
      </p:pic>
      <p:sp>
        <p:nvSpPr>
          <p:cNvPr id="2240" name=""/>
          <p:cNvSpPr/>
          <p:nvPr/>
        </p:nvSpPr>
        <p:spPr>
          <a:xfrm>
            <a:off x="6936120" y="6172200"/>
            <a:ext cx="19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vider #N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222800" y="4430880"/>
            <a:ext cx="307800" cy="152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4267080" y="4419720"/>
            <a:ext cx="238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5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lang="en-US" sz="5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3559320" y="4441680"/>
            <a:ext cx="307800" cy="152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603600" y="4430880"/>
            <a:ext cx="238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5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lang="en-US" sz="5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2884320" y="4441680"/>
            <a:ext cx="308160" cy="152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2928960" y="4430880"/>
            <a:ext cx="237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5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lang="en-US" sz="5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143000" y="5105520"/>
            <a:ext cx="977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de Habitual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8:45:56Z</dcterms:created>
  <dc:creator>Victor Marques</dc:creator>
  <dc:description/>
  <dc:language>en-US</dc:language>
  <cp:lastModifiedBy>Carlos Parada</cp:lastModifiedBy>
  <cp:lastPrinted>2002-05-14T15:13:00Z</cp:lastPrinted>
  <dcterms:modified xsi:type="dcterms:W3CDTF">2002-05-16T18:33:13Z</dcterms:modified>
  <cp:revision>1148</cp:revision>
  <dc:subject>fundo escuro -projecção video</dc:subject>
  <dc:title>No Slide Title</dc:title>
</cp:coreProperties>
</file>