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81817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920" y="3938760"/>
            <a:ext cx="81817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92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048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160" y="154620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400" y="154620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7920" y="393876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160" y="393876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400" y="393876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30000" y="544320"/>
            <a:ext cx="8189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792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048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7920" y="3938760"/>
            <a:ext cx="81817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81817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7920" y="3938760"/>
            <a:ext cx="81817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792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3048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04160" y="154620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400" y="154620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7920" y="393876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04160" y="393876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400" y="3938760"/>
            <a:ext cx="26341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0000" y="544320"/>
            <a:ext cx="8189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792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0480" y="393876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0480" y="1546200"/>
            <a:ext cx="39924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7920" y="3938760"/>
            <a:ext cx="81817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438200" indent="-19692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" name="Picture 5" descr="faixaBaixoSlide"/>
          <p:cNvPicPr/>
          <p:nvPr/>
        </p:nvPicPr>
        <p:blipFill>
          <a:blip r:embed="rId2"/>
          <a:stretch/>
        </p:blipFill>
        <p:spPr>
          <a:xfrm>
            <a:off x="0" y="6424560"/>
            <a:ext cx="3419640" cy="426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158760"/>
          </a:xfrm>
          <a:prstGeom prst="rect">
            <a:avLst/>
          </a:prstGeom>
          <a:solidFill>
            <a:srgbClr val="84201c"/>
          </a:solidFill>
          <a:ln w="9360">
            <a:solidFill>
              <a:srgbClr val="8c2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3468600" y="6652080"/>
            <a:ext cx="5675400" cy="186840"/>
            <a:chOff x="3468600" y="6652080"/>
            <a:chExt cx="5675400" cy="186840"/>
          </a:xfrm>
        </p:grpSpPr>
        <p:sp>
          <p:nvSpPr>
            <p:cNvPr id="6" name="Text Box 8"/>
            <p:cNvSpPr/>
            <p:nvPr/>
          </p:nvSpPr>
          <p:spPr>
            <a:xfrm>
              <a:off x="8610480" y="6652080"/>
              <a:ext cx="5335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16847EA-83B3-428A-B2D4-66F2A490BCB0}" type="slidenum">
                <a:rPr b="1" lang="en-US" sz="1200" spc="-1" strike="noStrike">
                  <a:solidFill>
                    <a:srgbClr val="f8f8f8"/>
                  </a:solidFill>
                  <a:latin typeface="Trebuchet MS"/>
                </a:rPr>
                <a:t>&lt;number&gt;</a:t>
              </a:fld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Text Box 9"/>
            <p:cNvSpPr/>
            <p:nvPr/>
          </p:nvSpPr>
          <p:spPr>
            <a:xfrm>
              <a:off x="3468600" y="6682680"/>
              <a:ext cx="50688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rebuchet MS"/>
                </a:rPr>
                <a:t>UMinho, Ana Paiva, 15/01/2009</a:t>
              </a:r>
              <a:endParaRPr b="1" lang="en-US" sz="9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" name="Picture 3" descr="faixaBaixoSlide"/>
          <p:cNvPicPr/>
          <p:nvPr/>
        </p:nvPicPr>
        <p:blipFill>
          <a:blip r:embed="rId2"/>
          <a:stretch/>
        </p:blipFill>
        <p:spPr>
          <a:xfrm>
            <a:off x="0" y="6431040"/>
            <a:ext cx="3419640" cy="426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0" y="0"/>
            <a:ext cx="9144000" cy="158760"/>
          </a:xfrm>
          <a:prstGeom prst="rect">
            <a:avLst/>
          </a:prstGeom>
          <a:solidFill>
            <a:srgbClr val="84201c"/>
          </a:solidFill>
          <a:ln w="9360">
            <a:solidFill>
              <a:srgbClr val="8c2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3468600" y="6652080"/>
            <a:ext cx="5675400" cy="186840"/>
            <a:chOff x="3468600" y="6652080"/>
            <a:chExt cx="5675400" cy="186840"/>
          </a:xfrm>
        </p:grpSpPr>
        <p:sp>
          <p:nvSpPr>
            <p:cNvPr id="48" name="Text Box 6"/>
            <p:cNvSpPr/>
            <p:nvPr/>
          </p:nvSpPr>
          <p:spPr>
            <a:xfrm>
              <a:off x="8610480" y="6652080"/>
              <a:ext cx="5335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E1A9F35-A1F1-4D5B-8023-2CAC4FD224C1}" type="slidenum">
                <a:rPr b="1" lang="en-US" sz="1200" spc="-1" strike="noStrike">
                  <a:solidFill>
                    <a:srgbClr val="f8f8f8"/>
                  </a:solidFill>
                  <a:latin typeface="Trebuchet MS"/>
                </a:rPr>
                <a:t>&lt;number&gt;</a:t>
              </a:fld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" name="Text Box 7"/>
            <p:cNvSpPr/>
            <p:nvPr/>
          </p:nvSpPr>
          <p:spPr>
            <a:xfrm>
              <a:off x="3468600" y="6682680"/>
              <a:ext cx="50688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rebuchet MS"/>
                </a:rPr>
                <a:t>UMinho, Ana Paiva, 15/01/2009</a:t>
              </a:r>
              <a:endParaRPr b="1" lang="en-US" sz="9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0" name="Rectangle 8"/>
          <p:cNvSpPr/>
          <p:nvPr/>
        </p:nvSpPr>
        <p:spPr>
          <a:xfrm>
            <a:off x="630360" y="4497480"/>
            <a:ext cx="78548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438200" indent="-19692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pf@fe.up.pt" TargetMode="External"/><Relationship Id="rId2" Type="http://schemas.openxmlformats.org/officeDocument/2006/relationships/hyperlink" Target="http://www.fe.up.pt/~jpf" TargetMode="External"/><Relationship Id="rId3" Type="http://schemas.openxmlformats.org/officeDocument/2006/relationships/hyperlink" Target="http://www.fe.up.pt/~jpf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1579320"/>
            <a:ext cx="8042400" cy="2624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10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5f5f5f"/>
                </a:solidFill>
                <a:latin typeface="Trebuchet MS"/>
              </a:rPr>
              <a:t>Spec#</a:t>
            </a:r>
            <a:br>
              <a:rPr sz="3600"/>
            </a:b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041560" y="4915080"/>
            <a:ext cx="49672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9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Trebuchet MS"/>
              </a:rPr>
              <a:t>Ana Paiv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9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 u="sng">
                <a:solidFill>
                  <a:srgbClr val="000000"/>
                </a:solidFill>
                <a:uFillTx/>
                <a:latin typeface="Trebuchet MS"/>
                <a:hlinkClick r:id="rId1"/>
              </a:rPr>
              <a:t>apaiva@fe.up.pt</a:t>
            </a:r>
            <a:r>
              <a:rPr b="0" lang="pt-PT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pt-PT" sz="1400" spc="-1" strike="noStrike" u="sng">
                <a:solidFill>
                  <a:srgbClr val="000000"/>
                </a:solidFill>
                <a:uFillTx/>
                <a:latin typeface="Trebuchet MS"/>
                <a:hlinkClick r:id="rId2"/>
              </a:rPr>
              <a:t>www.fe.up.pt</a:t>
            </a:r>
            <a:r>
              <a:rPr b="1" lang="pt-PT" sz="1400" spc="-1" strike="noStrike" u="sng">
                <a:solidFill>
                  <a:srgbClr val="000000"/>
                </a:solidFill>
                <a:uFillTx/>
                <a:latin typeface="Trebuchet MS"/>
                <a:hlinkClick r:id="rId3"/>
              </a:rPr>
              <a:t>/~</a:t>
            </a:r>
            <a:r>
              <a:rPr b="1" lang="pt-PT" sz="1400" spc="-1" strike="noStrike">
                <a:solidFill>
                  <a:srgbClr val="000000"/>
                </a:solidFill>
                <a:latin typeface="Trebuchet MS"/>
              </a:rPr>
              <a:t>apaiva 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eq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tatic metho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Zip(s,t)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returns sequence of pairs, i'th pair is i'th elements of s and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nzip(p)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returns two sequences, seqs. of 1st and 2nd elements in p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latten(ss)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returns one sequence, concatenation of all the sequences in s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001"/>
              </a:spcBef>
              <a:spcAft>
                <a:spcPts val="201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eq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q&lt;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gt; hallo = Seq{'h','a','l','l','o'}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q&lt;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gt; explode(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s) {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Seq{ c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s; c }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Map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Trebuchet MS"/>
              </a:rPr>
              <a:t>Acc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[i]      // value in map u at index 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Opera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u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i is an index in the map 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oti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u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i is not an index in the map 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 + v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override: return new map of all maplets from u and v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except where maplets have the same index, use th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maplet from v onl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Map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2960" indent="-282960">
              <a:spcBef>
                <a:spcPts val="1250"/>
              </a:spcBef>
              <a:spcAft>
                <a:spcPts val="249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.Size      // number of maplets in map 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.IsEmpty   // map u is emp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.Indices   // set of indices in map 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.Values    // set of values in map 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2960" indent="-282960">
              <a:spcBef>
                <a:spcPts val="1250"/>
              </a:spcBef>
              <a:spcAft>
                <a:spcPts val="249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Upd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[i] = x;  //update value in map u at index i to x, or add new maplet i :&gt; x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[j] =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on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; // remove maplet at index j from map 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 += v; // override u with v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2960" indent="-282960">
              <a:spcBef>
                <a:spcPts val="1250"/>
              </a:spcBef>
              <a:spcAft>
                <a:spcPts val="249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stance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.Add(i :&gt; x) // return new map like u but with maplet i :&gt; x added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2960" indent="-282960">
              <a:spcBef>
                <a:spcPts val="1250"/>
              </a:spcBef>
              <a:spcAft>
                <a:spcPts val="249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tatic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1897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nion(u, v)  // return map of maplets in both u and v, all at different indic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Map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p&lt;string,int&gt; directory = Map{"emergency" :&gt; 911, "info" :&gt; 411, "microsoft" :&gt; 8828080}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p&lt;string,int&gt; calling_costs =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p{ s in directory, directory[s] &lt; 1000; s :&gt; 0 } +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p{ s in directory, directory[s] &gt; 1000; s :&gt; 25 }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Enumerated types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is possible to form a set of all the values in an enumerated type.  This makes it possible to iterate over them, use them in binders, etc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[Enumerated]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gent{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d;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t&lt;Agent&gt; CreateAgents(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n)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= 0;  i &lt; n; i++)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gent(i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numof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Agent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tructures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ec#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tructures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are similar to C# structs.  They are value types: equality is by structure, not reference; assignment copies the entire value. Creating an instance of a structure does not use the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keyword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ructure Point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adonl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x,y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int Move(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dx,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dy){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int p =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.x += dx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.y += dy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;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Quantifiers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spcBef>
                <a:spcPts val="1250"/>
              </a:spcBef>
              <a:spcAft>
                <a:spcPts val="249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rebuchet MS"/>
              </a:rPr>
              <a:t>Fora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rall { binder; condition }  tests whether all bindings satisfy condition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-185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rebuchet MS"/>
              </a:rPr>
              <a:t>int[] A = new int[]{1,2,3,4,6,8}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-185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X1 = Forall{ i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A; i % 2 == 0 }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rall over the empty set returns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spcBef>
                <a:spcPts val="1250"/>
              </a:spcBef>
              <a:spcAft>
                <a:spcPts val="249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xists and Exists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xists { binder; condition } tests whether at least one binding satisfies condition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xists1 tests whether there is exactly one binding that meets the condition.  This expression checks whether all array elements are distinct (note the nested quantifiers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-185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X2 = Exists{ i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A; i &gt;= 4 &amp;&amp; i % 2 == 1 }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-185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X3 = Exists1{ i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A; i % 8 == 0 }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e expression X2 will return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since there is no odd number in A greater 4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e expression X3 is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since there is exactly one element in A which is divisible by 8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66360" indent="-191520"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xists over the empty set returns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Choose and Choose1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hoos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hoose1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xpressions return an element from a binding depending on whether a given condition has been existentially met by at least one example and by exactly one example, respectively.  Choose provides nondeterministic choice, while Choose1 provides the unique element satisfying some conditio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tructur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Cd{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adonly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Title;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adonly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recorded; }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d [] carusel =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Cd[] { Cd(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BoogieWoogi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,1954)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d(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ingAlong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,1940)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d(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halulaHu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,1960)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d(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ingAlong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,1972)}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d X4 = Choose{ s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carusel, s.Title == 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ingAlong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; s }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d X5 = Choose1{ s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carusel, s.Title == 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ingAlong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;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Cd(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EvenBetter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,2003) }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Reduction: Max and Min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duction{ binder; expression }  // syntax for reduc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// Reduction is Max, Min, or ..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value of the reduction is computed from the collection of all the values formed by evaluating the expression with all the values in the binding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500"/>
              </a:spcBef>
              <a:spcAft>
                <a:spcPts val="300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pec# provides the reductions Min and Max.  In these examples S and T are collec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x{ x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S, 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T; x + y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n{ x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S + T; x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Tuples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lt;int, String, int&gt; date = &lt;27, "Oct", 2003&gt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lt;string,int&gt; pythagoras = &lt;"Pythagoras", 2582&gt;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lt;string,int&gt; aristoteles = "Aristoteles" :&gt; 2387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cc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ristoteles.First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"Aristoteles"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ythagoras.Second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258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ate.Third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200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Ranges and Collections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Rang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t&lt;int&gt; theFirstHundredNaturals = Set{ 1..100 }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omprehen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 comprehension is an expression whose value is a collection.   The syntax is similar to reductions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llection{ binder; expression }   // syntax for comprehens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Collection is Set, Sequence, Map or 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Control structure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Foreac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ec# allows the use of patterns and binders for defining the iteration variable of a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tatement. If the pattern doesn’t match the element is simply ignore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verage1 (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bjec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[] a) {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um = 0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rea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(i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) sum+=i;  // some elements of a might not be in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um/a.Length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lters refine the evaluation of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tatements even further.  Here type inference infers that the type of i is in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verage2(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[] a) {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um = 0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rea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(i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, i &gt; 2) sum+=i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um/a.Length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Control structure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Trebuchet MS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tructur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List {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static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um(List&lt;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&gt; l) {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l) {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as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Nil       :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0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as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Cons(h,t) :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h + Sum(t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: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Exception("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Impossibl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rebuchet MS"/>
              </a:rPr>
              <a:t>Parall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aralle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{  // Swap using parallel assignment, no temporary variable neede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 = y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y = x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Foreach parallel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Foreach parallel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: The foreach parallel statement provides parallel assignment within the scope of a binder.   All the bindings can be used in the assignments.  Here is an examp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et&lt;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 SumSquares = Set{}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adonl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mallInts = Set{ 1..5 }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aralle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(i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mallInts)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umSquares[i*i] =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 // now SumSquares == { 1, 4, 9, 16, 25 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125"/>
              </a:spcBef>
              <a:spcAft>
                <a:spcPts val="224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Exercise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71440" indent="-271440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rebuchet MS"/>
              </a:rPr>
              <a:t>1)</a:t>
            </a:r>
            <a:r>
              <a:rPr b="0" lang="pt-PT" sz="1800" spc="-1" strike="noStrike">
                <a:solidFill>
                  <a:srgbClr val="000000"/>
                </a:solidFill>
                <a:latin typeface="Trebuchet MS"/>
              </a:rPr>
              <a:t> Especifique, em Spec#, uma máquina de venda de produtos (bebidas, snacks, bolos, bolachas,...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2520" indent="-181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rebuchet MS"/>
              </a:rPr>
              <a:t>Esta máquina aceita moedas de 0.05, 0.1, 0.2, 0.5 e 1 eur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2520" indent="-181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rebuchet MS"/>
              </a:rPr>
              <a:t>A máquina tem um stock de moedas que servem para dar o troco aos clientes que o necessitem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2520" indent="-181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rebuchet MS"/>
              </a:rPr>
              <a:t>A máquina tem um stock de produtos e cada produto tem um preç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2520" indent="-181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rebuchet MS"/>
              </a:rPr>
              <a:t>A máquina de venda deve fornecer os seguintes serviços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2520" indent="-181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rebuchet MS"/>
              </a:rPr>
              <a:t>Dois estados: em configuração ou à espera de interacção com o cliente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2520" indent="-181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Trebuchet MS"/>
              </a:rPr>
              <a:t>Em configuração</a:t>
            </a:r>
            <a:r>
              <a:rPr b="0" lang="pt-PT" sz="1600" spc="-1" strike="noStrike">
                <a:solidFill>
                  <a:srgbClr val="000000"/>
                </a:solidFill>
                <a:latin typeface="Trebuchet MS"/>
              </a:rPr>
              <a:t>: é possível actualizar o stock de produtos e de moedas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2520" indent="-181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Trebuchet MS"/>
              </a:rPr>
              <a:t>Em espera:</a:t>
            </a:r>
            <a:r>
              <a:rPr b="0" lang="pt-PT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87480" indent="-175680"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rebuchet MS"/>
              </a:rPr>
              <a:t>a máquina deve mostrar aos clientes os produtos disponívei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2" marL="987480" indent="-175680"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rebuchet MS"/>
              </a:rPr>
              <a:t>os clientes devem seleccionar o produto que pretendem e depois inserir o valor correspondente em euros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2" marL="987480" indent="-175680"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rebuchet MS"/>
              </a:rPr>
              <a:t>a máquina deve dar troco sempre que possível ou devolver o dinheiro ao cliente sem efectuar a venda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1125"/>
              </a:spcBef>
              <a:spcAft>
                <a:spcPts val="224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rebuchet MS"/>
              </a:rPr>
              <a:t>2)</a:t>
            </a:r>
            <a:r>
              <a:rPr b="0" lang="pt-PT" sz="1800" spc="-1" strike="noStrike">
                <a:solidFill>
                  <a:srgbClr val="000000"/>
                </a:solidFill>
                <a:latin typeface="Trebuchet MS"/>
              </a:rPr>
              <a:t> Construa uma implementação numa linguagem suportada pela plataforma .NE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1125"/>
              </a:spcBef>
              <a:spcAft>
                <a:spcPts val="224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rebuchet MS"/>
              </a:rPr>
              <a:t>3)</a:t>
            </a:r>
            <a:r>
              <a:rPr b="0" lang="pt-PT" sz="1800" spc="-1" strike="noStrike">
                <a:solidFill>
                  <a:srgbClr val="000000"/>
                </a:solidFill>
                <a:latin typeface="Trebuchet MS"/>
              </a:rPr>
              <a:t> Teste a conformidade da implementação usando o Spec Explor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1125"/>
              </a:spcBef>
              <a:spcAft>
                <a:spcPts val="224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Patterns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&lt;n, y&gt; = pythagoras;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n = "Pythagoras", y = 258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riteLine(n + "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" + y);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// writes "Pythagoras, 2582"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Trebuchet MS"/>
              </a:rPr>
              <a:t>Constructor patter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(h,t)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/ example patter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tches this expres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(23,Cons(1,Nil()))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/ matching expres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tructor patterns match from left to right and outermost to innermost.  In this example, h matches 23 and t matches Cons(1,Nil()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Universal patt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underscore _ is the universal pattern.  It matches anything and binds nothing.  It is used as the default case, or as a placeholder in constructor pattern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Trebuchet MS"/>
              </a:rPr>
              <a:t>Set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Opera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olean operator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x is an element of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ot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x is not an element of 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&lt; T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 is a proper subset of 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&lt;= T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 is a subset of T,  or is equal to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&gt; T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 is a proper superset of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&gt;= T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 is a proper superset of T, or is equal to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turning a new se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+ T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union of S and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* T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intersection of S and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- T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difference of S and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perti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Size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number of elements in set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IsEmpty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 is emp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et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Updates</a:t>
            </a:r>
            <a:r>
              <a:rPr b="1" lang="pt-PT" sz="22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dexers for sets use Booleans as argument to include and exclude elements. In the following examples, S and T are sets, and x and y are element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[x] =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;   // add element x to set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[x] =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;  // remove element x from set 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ttempting to remove an element which is not in the set has no effect (it is not an error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 set can be updated with another se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 += T;        // add elements of T to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 -= T;        // remove elements of T from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et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Instance methods: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se methods are defined for sets.   Booth choose methods are nondeterministi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Add(x)                  // return new set like S but with element x add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ChooseSubset()          // return subset of elements of S, possibly emp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ChooseNonEmptySubset()  // return subset of elements of S, not emp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tatic methods</a:t>
            </a:r>
            <a:r>
              <a:rPr b="1" lang="pt-PT" sz="22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the following examples SS is a set of sets. Each method returns a set.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igUnion(SS)         // return union of all the sets in 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igIntersection(SS)  // return intersection of all the sets in 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et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t&lt;string&gt; weekDays = Set{"Mon", "Tue", "Wed", "Thur", "Fri"}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t&lt;int&gt; theFirstHundredOddSquares =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t{ j in theFirstHundredNatural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j % 2 ==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; j * j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73200" indent="-19368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eq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[i]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value of element at i'th index in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Opera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x is an element of sequence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oti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x is not an element of sequence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 + t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return concatenation of sequences s and 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89080" indent="-289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perti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Size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number of elements in sequence s (same as Length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Length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number of elements in sequence s (same as Siz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IsEmpty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equence s is emp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Head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first element in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Tail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equence of all but the first element in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Last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last element in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Front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equence of all but the last element in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Indices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et of indices of sequence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IndexRange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equence of indices of sequence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50840" indent="-18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.Values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/ set of values in sequence 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0000" y="544320"/>
            <a:ext cx="8189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5f5f5f"/>
                </a:solidFill>
                <a:latin typeface="Trebuchet MS"/>
              </a:rPr>
              <a:t>Seq</a:t>
            </a:r>
            <a:endParaRPr b="1" lang="en-US" sz="3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7920" y="1546200"/>
            <a:ext cx="8181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80080" indent="-280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[i] = x;  // assign x to element at i'th index in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019160" indent="-181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f i is not an index of s, attempting to evaluate or assign s[i] throws an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IndexOutOfBoundsExceptio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 += t; // concatenate elements of t to s (append t to 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0080" indent="-280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Instance metho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Add(x)      // return sequence like s but with element x added to the 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Drop(n)     // return sequence of all but the first n elements of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Take(n)        // return sequence of the first n elements of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Subseq(i,j)   // return sequence starting with i'th element of s, up to j't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IndexOf(x)     // return index where sequence x first appears in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52680" indent="-187560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.LastIndexOf(x) // return index where sequence x last appears in 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80080" indent="-280080">
              <a:spcBef>
                <a:spcPts val="1375"/>
              </a:spcBef>
              <a:spcAft>
                <a:spcPts val="275"/>
              </a:spcAft>
              <a:buClr>
                <a:srgbClr val="8c192d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01:45Z</dcterms:created>
  <dc:creator>Ana Paiva</dc:creator>
  <dc:description/>
  <dc:language>en-US</dc:language>
  <cp:lastModifiedBy>apaiva</cp:lastModifiedBy>
  <cp:lastPrinted>2000-08-09T21:21:59Z</cp:lastPrinted>
  <dcterms:modified xsi:type="dcterms:W3CDTF">2009-01-15T16:48:07Z</dcterms:modified>
  <cp:revision>2016</cp:revision>
  <dc:subject/>
  <dc:title>Quality Management</dc:title>
</cp:coreProperties>
</file>