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09B5-8311-464A-994C-823EC756E5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CC8A-9F02-4E6E-81A2-568225A1D1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1D0-8E0E-4DBF-BB58-A914EEC2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472-47ED-4148-9048-EE06BBBD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83939-178B-40BE-86AA-E0E21E52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90722-FAD3-403D-A8EB-43A95B60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4A412-8C2C-4A56-BE8F-AD5DF828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06F1A-30DD-4D27-AA62-17616AD0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D3C6E-3F33-41DF-BD15-D70D8EC0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0B19C-DE81-495C-90A1-F6AA65DD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98036-04E0-4F3E-9873-7FBC8D4E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989BF-3268-4236-9479-AA29D01D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45AD9-5DCC-45A8-83BA-438049A4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F2263-75EE-4914-B4C5-611014B8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344-A03E-4197-97C4-A055F6E0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4781B-FEA6-4B68-942C-B92DBED7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07D49-7607-4E85-9092-72A5F399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7F59B-6C53-4A39-A08D-B327678F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81DB5-C257-4F68-9B15-96518101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4162A-F4CF-41BF-8F62-3839119F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C8603-6FB2-4FA9-9FB8-1117DF6F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0208B-5F4F-44CA-B70A-6CC54DD3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73B2A-FBE1-473B-8419-536767AB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2AD33-36DC-4E68-97BA-ECF947F9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C2336-6833-4AF2-95BB-1CCA919B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CC1-A034-4DAA-9349-89BCBC21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28BA5-A167-4373-84FB-06554903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CCF2C-AABC-4F12-8420-417B10F0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183AC-6D4F-4CA6-A41E-F7ECCF0C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C1F5A-795A-4367-BD1A-5DB69483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9C16B-3F02-465E-8507-D3ECAB04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030C9-3BBB-4879-B55B-6D40ED00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7A17D-DB1D-4913-AF19-3A05CCF2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BED96-5125-4E7F-B7EC-93EF93B5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9AD30-A966-4B9C-845D-F0787F4D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005F4-1F74-47D6-BA16-4488D43B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9B5D-5E66-4ACD-AE55-2AE1F8A8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80496-A0ED-460F-93A5-230C8DA2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D4384-90BD-4B3E-877F-3D9827C4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8D58A-8FBD-480F-BB4D-AADCA704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6F807-68AF-4A93-98F3-1CB49E86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16FA4-E808-4484-8095-EFB2145D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10721-7463-4FC4-8905-6E42CB3A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4B4D8-7567-4F1D-8D9B-D9F761FA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46C1C-E3FD-4666-9025-417D2343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5C4A1-8B5C-4111-815D-ADD87ACA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7B5BC-F41F-4DBA-A063-7E623727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B215-570E-43E8-8EAF-C7858B0C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68F22-E9E3-4B22-9977-7739DAF7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71BEA-389F-4A96-8DC2-9C2D999A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78075-933C-46ED-80AE-781A41DA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33F3C-985C-4965-B930-A61FB5A4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01BF9-C08E-4048-8835-2FF903BA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B871-723B-4543-9974-08ED5117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0003-C1B4-4355-A922-C3EE077C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72C3-04C9-4D4F-A768-FA63D1BD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B2F1-1C57-4929-B551-479A306A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A2F6-E5AD-4468-A336-74DD5FDF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43F-6AA8-49A4-9FEC-38D6B4A2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B8F2-1CB1-4728-852F-5873A853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49A3-DD1F-4E90-B0E2-65D0C5F5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23A3-820F-41C2-ACE1-2BC9BC50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0B2F-DAC1-4B07-BDED-3CCF4614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19B5-DA2F-423C-AAAD-F5BBCC60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C967A-A35D-4465-95CC-2E31320B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5CBF-1118-45E8-9E1A-FDAF9D48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04AF3-285C-4FAF-8DAD-377D75BF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7BED5-68D5-4B03-9EE3-4BE3EA50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CD598-BD00-4421-A961-4C8E9691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C47-AEFB-4D18-9A97-116C8F99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BC08-B83C-459D-A4EB-08D3DF4F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0E71A-A40E-497A-AD44-2294A6FB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CDD8-CC9B-4A67-B55D-DFB854D7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9911-DE62-4024-AAF7-1E661504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670E1-D54D-4A53-A090-DE0DDDCC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9633-3722-43F1-A2C7-49F28D2F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67AEF-8018-4D8A-8FF8-149F16F1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A1DF-4E29-4B7D-9296-67BA4911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873D9-5699-438E-A05C-B7A9DA0E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2CA29-AE16-497F-8727-C0615F24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25C-3278-4E3A-8AA8-992069AF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B2570-F197-4EC1-8092-F70C90F3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31242-307E-47CE-BE63-BADB9758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9316B-39B4-4811-B34A-479D1B4C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1A838-D242-4926-9580-F2CEAE6E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BEE0C-8ECB-42ED-9B71-A36DBD69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54D61-1DF3-4CBD-B20C-604F2BC8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0D98-B637-40BA-9B65-8A0A16F6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129AE-4CBB-422A-8B63-B9E4563C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23298-EC87-4B8D-A1BF-B1AB06F9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380AA-7667-485B-96A4-0CC8EA77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31A-2D96-4EE4-AE9E-14B66D86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BE104-9CF5-4886-B045-6705DCA0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BCB1B-A578-4F88-A348-1FC4D72F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93299-F695-44E3-9C0B-48514105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0F644-2061-4BA0-AF5C-61EC0F35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224F-75C6-4D0D-B54B-55C1EC2C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20D4B-11BB-49CE-BC7F-5EF23186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C7459-5075-4FF7-A04F-A30D989B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A8A2B-0F84-4AF2-903F-A7D3CE62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9E64D-D711-49F2-9D84-CC464CEE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7262A-FAAA-4860-9B07-1B06E447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0BE-5DD5-4AC9-AFAC-44A67B28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9AF44-A570-4F35-8D53-288732B2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79E9A-80A6-4C84-BFA9-FE276B8F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252AF-EC4D-4249-8E3A-BECBA225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70025-15EA-4598-8049-10FEA89F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1E4B1-905D-4972-9AF1-F7FFCB9F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EA626-39E0-4F2D-AC3C-B5C0E65E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4819D-DF25-4341-ABD8-ADF5FA85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C7BCC-0B33-4BFC-AB5F-78FAF0C6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1FFE-068F-4BCF-83AE-7AEA2DB4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8E08C-8874-4E35-8DBF-62F5FB53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41A-F03D-49ED-A905-245BF0B0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9E18E-6A8D-4778-838C-B52C7D51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BD649-9442-4209-B590-BC0004A4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9DDA8-8865-49D8-A173-D422604E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D3701-7819-404A-9813-B0C91E2A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6F05F-1F6B-4503-840C-B5E5A56A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DCB5B-31F7-4721-8A2F-57AFC51F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9DCEA-3AA9-4F65-992D-3A7DADB9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A1832-161F-43CA-AF60-095AE17B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2E3C4-3822-49C6-BD9B-EED2922F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501F0-8BAD-499A-9304-9C887C8F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1C5-E35C-43BE-97DF-7D184662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EEA64-6161-4B34-8760-86FB8B7E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56338-E2CC-4255-8269-F544A241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C8371-EF13-4E57-A771-0F345705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F7605-F244-427E-B2A4-86B7E4AA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A9480-2FBA-4AA3-AE68-46B2613B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E399E-FC42-40C9-B2CA-6E6E890E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3CFAE-F95F-40BD-8465-50A2FE9C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8C9BC-C3EC-4462-94DE-1735E4A3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1699B-A3B4-42B2-A4C1-14113190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B464F-1610-4DE8-B68F-68FDC19A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59B-9684-4027-9DF8-76858DB0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82731-DC1C-4B72-A054-C9BDC112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4AB2B-5340-415E-9E6E-E68FFBB5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8F767-F861-40FB-A93E-A690663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E5057-7E02-4F42-A1D0-C9929DD4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ED571-6151-4A42-B3A7-E818A7D9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5A64E-34E2-4D32-BEAB-04150B7B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8836D-010D-40B4-822A-F7070D88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7D16E-2F51-4C76-98DC-066D6268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D0CD3-64D9-4F0A-B718-E1BFD734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8EA01-A2BC-4C61-8F70-91A51ABC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6747-542B-4171-ABED-262F5BB50583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7F0E-D4D0-44BE-97C8-4C1DF886E919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BAD1-36A6-4827-BAB0-093802F6686A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707C-CB6D-4F1C-BE2C-67EDC8CF52B5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C996-5D5F-4794-BF2B-345E3374AD7A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1190-8400-42C5-859B-C963631BC369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B2D2-4AE2-41D2-A4D8-6D84DC8812FE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8A5B-DD34-485A-A77E-8ACBA9A76C5F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C7E4-72D2-4F63-A22A-84C6FE8B4D1D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8A3E-2166-459C-B7D3-E72F666E99F3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2DE0-152C-41E1-AACE-4498014F6157}" type="slidenum"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A901-7F95-4DC3-9DDC-F8082E9250AE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9899"/>
                </a:solidFill>
                <a:latin typeface="Georgia"/>
              </a:rPr>
              <a:t>Reverse Program Calculation Supported by Code Slicing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46b86"/>
                </a:solidFill>
                <a:latin typeface="Georgia"/>
              </a:rPr>
              <a:t>paper presentation: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00000"/>
                </a:solidFill>
                <a:latin typeface="Georgia"/>
              </a:rPr>
              <a:t>Reverse Program Calculation Supported by Code Slicing, G. Villavicencio, J.N. Oliveira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646b86"/>
                </a:solidFill>
                <a:latin typeface="Georgia"/>
              </a:rPr>
              <a:t>by Constantin Taivan</a:t>
            </a:r>
            <a:r>
              <a:rPr b="1" i="1" lang="en-GB" sz="2000" spc="-1" strike="noStrike">
                <a:solidFill>
                  <a:srgbClr val="646b86"/>
                </a:solidFill>
                <a:latin typeface="Georgia"/>
              </a:rPr>
              <a:t>,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Foundation of the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17760"/>
            <a:ext cx="86281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se combinators are rich in algebraic properties, e.g. </a:t>
            </a:r>
            <a:r>
              <a:rPr b="0" i="1" lang="en-GB" sz="1600" spc="-1" strike="noStrike">
                <a:solidFill>
                  <a:srgbClr val="000000"/>
                </a:solidFill>
                <a:latin typeface="Georgia"/>
              </a:rPr>
              <a:t>X – fusion low,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depicted below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9432b"/>
                </a:solidFill>
                <a:latin typeface="Georgia"/>
              </a:rPr>
              <a:t>Objective and motivation</a:t>
            </a:r>
            <a:r>
              <a:rPr b="0" lang="en-GB" sz="1600" spc="-1" strike="noStrike">
                <a:solidFill>
                  <a:srgbClr val="a9432b"/>
                </a:solidFill>
                <a:latin typeface="Georgia"/>
              </a:rPr>
              <a:t>: construction of the original program plan using the lows above applied in a opposite direction. Code slicing has the ability for identifying the independent parallel computation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From code slicing we have: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Conjecture: Let P be a program containing n output variables, and let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Georgia"/>
              </a:rPr>
              <a:t>1,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...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be the corresponding slices. Then the semantics of P can be recovered by combining these and only  these slices, that is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 paper use the above conjecture as it is, without showing its proof. (the slicing is not formally specified on a denotational semantics framework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 code slicing equations provide the following functional expressions ([3], ex. 3.45)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-&gt;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-&gt;                                (*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Georgia"/>
              </a:rPr>
              <a:t>To obtain (*) is needed to remove accumulation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3357720" y="1928880"/>
            <a:ext cx="2214360" cy="846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"/>
          <p:cNvPicPr/>
          <p:nvPr/>
        </p:nvPicPr>
        <p:blipFill>
          <a:blip r:embed="rId2"/>
          <a:stretch/>
        </p:blipFill>
        <p:spPr>
          <a:xfrm>
            <a:off x="1214280" y="2143080"/>
            <a:ext cx="1714680" cy="3096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5" descr=""/>
          <p:cNvPicPr/>
          <p:nvPr/>
        </p:nvPicPr>
        <p:blipFill>
          <a:blip r:embed="rId3"/>
          <a:stretch/>
        </p:blipFill>
        <p:spPr>
          <a:xfrm>
            <a:off x="5929200" y="2071800"/>
            <a:ext cx="2457720" cy="4284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"/>
          <p:cNvPicPr/>
          <p:nvPr/>
        </p:nvPicPr>
        <p:blipFill>
          <a:blip r:embed="rId4"/>
          <a:stretch/>
        </p:blipFill>
        <p:spPr>
          <a:xfrm>
            <a:off x="3643200" y="4538520"/>
            <a:ext cx="1698840" cy="2858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"/>
          <p:cNvPicPr/>
          <p:nvPr/>
        </p:nvPicPr>
        <p:blipFill>
          <a:blip r:embed="rId5"/>
          <a:stretch/>
        </p:blipFill>
        <p:spPr>
          <a:xfrm>
            <a:off x="1800360" y="5738760"/>
            <a:ext cx="1676160" cy="2858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6"/>
          <a:stretch/>
        </p:blipFill>
        <p:spPr>
          <a:xfrm>
            <a:off x="3705120" y="5738760"/>
            <a:ext cx="1643040" cy="2937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7"/>
          <a:stretch/>
        </p:blipFill>
        <p:spPr>
          <a:xfrm>
            <a:off x="5614920" y="5738760"/>
            <a:ext cx="1467000" cy="2574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"/>
          <p:cNvPicPr/>
          <p:nvPr/>
        </p:nvPicPr>
        <p:blipFill>
          <a:blip r:embed="rId8"/>
          <a:stretch/>
        </p:blipFill>
        <p:spPr>
          <a:xfrm>
            <a:off x="6291360" y="3519360"/>
            <a:ext cx="1222200" cy="2145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8" descr=""/>
          <p:cNvPicPr/>
          <p:nvPr/>
        </p:nvPicPr>
        <p:blipFill>
          <a:blip r:embed="rId9"/>
          <a:stretch/>
        </p:blipFill>
        <p:spPr>
          <a:xfrm>
            <a:off x="4896000" y="3529080"/>
            <a:ext cx="1319040" cy="2174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7" descr=""/>
          <p:cNvPicPr/>
          <p:nvPr/>
        </p:nvPicPr>
        <p:blipFill>
          <a:blip r:embed="rId10"/>
          <a:stretch/>
        </p:blipFill>
        <p:spPr>
          <a:xfrm>
            <a:off x="3081240" y="3543480"/>
            <a:ext cx="1704960" cy="2030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9" descr=""/>
          <p:cNvPicPr/>
          <p:nvPr/>
        </p:nvPicPr>
        <p:blipFill>
          <a:blip r:embed="rId11"/>
          <a:stretch/>
        </p:blipFill>
        <p:spPr>
          <a:xfrm>
            <a:off x="7591320" y="3514680"/>
            <a:ext cx="13716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Foundation of the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462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Algebra of inductive programm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 focus is on the datatype of finite lists [3,15]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For example, Haskell inductive defini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According to inductive datatype theory: f is uniquely determined by the pair (k,g)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 following equations are obtained using combinators and algebra lows as: exchange low and mutual recurs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Exchange low shows: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6" descr=""/>
          <p:cNvPicPr/>
          <p:nvPr/>
        </p:nvPicPr>
        <p:blipFill>
          <a:blip r:embed="rId1"/>
          <a:stretch/>
        </p:blipFill>
        <p:spPr>
          <a:xfrm>
            <a:off x="700200" y="2500200"/>
            <a:ext cx="2246040" cy="650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0" descr=""/>
          <p:cNvPicPr/>
          <p:nvPr/>
        </p:nvPicPr>
        <p:blipFill>
          <a:blip r:embed="rId2"/>
          <a:stretch/>
        </p:blipFill>
        <p:spPr>
          <a:xfrm>
            <a:off x="3081240" y="2671920"/>
            <a:ext cx="928800" cy="291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"/>
          <p:cNvPicPr/>
          <p:nvPr/>
        </p:nvPicPr>
        <p:blipFill>
          <a:blip r:embed="rId3"/>
          <a:stretch/>
        </p:blipFill>
        <p:spPr>
          <a:xfrm>
            <a:off x="4167360" y="2604960"/>
            <a:ext cx="1670040" cy="4287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"/>
          <p:cNvPicPr/>
          <p:nvPr/>
        </p:nvPicPr>
        <p:blipFill>
          <a:blip r:embed="rId4"/>
          <a:stretch/>
        </p:blipFill>
        <p:spPr>
          <a:xfrm>
            <a:off x="6029280" y="2604960"/>
            <a:ext cx="2670120" cy="4287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"/>
          <p:cNvPicPr/>
          <p:nvPr/>
        </p:nvPicPr>
        <p:blipFill>
          <a:blip r:embed="rId5"/>
          <a:stretch/>
        </p:blipFill>
        <p:spPr>
          <a:xfrm>
            <a:off x="1071720" y="4148280"/>
            <a:ext cx="2428560" cy="5810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" descr=""/>
          <p:cNvPicPr/>
          <p:nvPr/>
        </p:nvPicPr>
        <p:blipFill>
          <a:blip r:embed="rId6"/>
          <a:stretch/>
        </p:blipFill>
        <p:spPr>
          <a:xfrm>
            <a:off x="4071960" y="4057560"/>
            <a:ext cx="1816200" cy="8575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7"/>
          <a:stretch/>
        </p:blipFill>
        <p:spPr>
          <a:xfrm>
            <a:off x="700200" y="5157720"/>
            <a:ext cx="1211040" cy="1429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6" descr=""/>
          <p:cNvPicPr/>
          <p:nvPr/>
        </p:nvPicPr>
        <p:blipFill>
          <a:blip r:embed="rId8"/>
          <a:stretch/>
        </p:blipFill>
        <p:spPr>
          <a:xfrm>
            <a:off x="2109960" y="5105520"/>
            <a:ext cx="2000160" cy="245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" descr=""/>
          <p:cNvPicPr/>
          <p:nvPr/>
        </p:nvPicPr>
        <p:blipFill>
          <a:blip r:embed="rId9"/>
          <a:stretch/>
        </p:blipFill>
        <p:spPr>
          <a:xfrm>
            <a:off x="4319640" y="5095800"/>
            <a:ext cx="2778120" cy="262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10"/>
          <a:stretch/>
        </p:blipFill>
        <p:spPr>
          <a:xfrm>
            <a:off x="7243920" y="5086440"/>
            <a:ext cx="1423800" cy="344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8" descr=""/>
          <p:cNvPicPr/>
          <p:nvPr/>
        </p:nvPicPr>
        <p:blipFill>
          <a:blip r:embed="rId11"/>
          <a:stretch/>
        </p:blipFill>
        <p:spPr>
          <a:xfrm>
            <a:off x="695160" y="5500800"/>
            <a:ext cx="1500480" cy="7873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"/>
          <p:cNvPicPr/>
          <p:nvPr/>
        </p:nvPicPr>
        <p:blipFill>
          <a:blip r:embed="rId12"/>
          <a:stretch/>
        </p:blipFill>
        <p:spPr>
          <a:xfrm>
            <a:off x="2448000" y="5519880"/>
            <a:ext cx="1522440" cy="2556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0" descr=""/>
          <p:cNvPicPr/>
          <p:nvPr/>
        </p:nvPicPr>
        <p:blipFill>
          <a:blip r:embed="rId13"/>
          <a:stretch/>
        </p:blipFill>
        <p:spPr>
          <a:xfrm>
            <a:off x="2428920" y="5929200"/>
            <a:ext cx="1571760" cy="2667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1" descr=""/>
          <p:cNvPicPr/>
          <p:nvPr/>
        </p:nvPicPr>
        <p:blipFill>
          <a:blip r:embed="rId14"/>
          <a:stretch/>
        </p:blipFill>
        <p:spPr>
          <a:xfrm>
            <a:off x="4300560" y="5519880"/>
            <a:ext cx="1946160" cy="285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"/>
          <p:cNvPicPr/>
          <p:nvPr/>
        </p:nvPicPr>
        <p:blipFill>
          <a:blip r:embed="rId15"/>
          <a:stretch/>
        </p:blipFill>
        <p:spPr>
          <a:xfrm>
            <a:off x="4286160" y="5929200"/>
            <a:ext cx="1071720" cy="2253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23" descr=""/>
          <p:cNvPicPr/>
          <p:nvPr/>
        </p:nvPicPr>
        <p:blipFill>
          <a:blip r:embed="rId16"/>
          <a:stretch/>
        </p:blipFill>
        <p:spPr>
          <a:xfrm>
            <a:off x="6429240" y="5572080"/>
            <a:ext cx="2310120" cy="2221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4" descr=""/>
          <p:cNvPicPr/>
          <p:nvPr/>
        </p:nvPicPr>
        <p:blipFill>
          <a:blip r:embed="rId17"/>
          <a:stretch/>
        </p:blipFill>
        <p:spPr>
          <a:xfrm>
            <a:off x="6429240" y="5857920"/>
            <a:ext cx="128592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Foundation of the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Mutual recursion low (“Fokkinga low”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8" descr=""/>
          <p:cNvPicPr/>
          <p:nvPr/>
        </p:nvPicPr>
        <p:blipFill>
          <a:blip r:embed="rId1"/>
          <a:stretch/>
        </p:blipFill>
        <p:spPr>
          <a:xfrm>
            <a:off x="2928960" y="2071800"/>
            <a:ext cx="3127320" cy="4284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1" descr=""/>
          <p:cNvPicPr/>
          <p:nvPr/>
        </p:nvPicPr>
        <p:blipFill>
          <a:blip r:embed="rId2"/>
          <a:stretch/>
        </p:blipFill>
        <p:spPr>
          <a:xfrm>
            <a:off x="2076480" y="2571840"/>
            <a:ext cx="500076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se study: The WordCount Progra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Slic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(nc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(nl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652320" y="1857240"/>
            <a:ext cx="2887920" cy="4286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5" descr=""/>
          <p:cNvPicPr/>
          <p:nvPr/>
        </p:nvPicPr>
        <p:blipFill>
          <a:blip r:embed="rId2"/>
          <a:stretch/>
        </p:blipFill>
        <p:spPr>
          <a:xfrm>
            <a:off x="3786120" y="4200480"/>
            <a:ext cx="4929120" cy="18162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" descr=""/>
          <p:cNvPicPr/>
          <p:nvPr/>
        </p:nvPicPr>
        <p:blipFill>
          <a:blip r:embed="rId3"/>
          <a:stretch/>
        </p:blipFill>
        <p:spPr>
          <a:xfrm>
            <a:off x="3786120" y="2104920"/>
            <a:ext cx="43624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se study: The WordCount Progra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Slic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(nw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Georgia"/>
              </a:rPr>
              <a:t>According to the conjecture, the whole program semantics is captured by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0" name="Picture 7" descr=""/>
          <p:cNvPicPr/>
          <p:nvPr/>
        </p:nvPicPr>
        <p:blipFill>
          <a:blip r:embed="rId1"/>
          <a:stretch/>
        </p:blipFill>
        <p:spPr>
          <a:xfrm>
            <a:off x="1643040" y="2143080"/>
            <a:ext cx="6018120" cy="27860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3429000" y="5429160"/>
            <a:ext cx="228924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se study: The WordCount Progra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Removing the accumulation parameters (the non-inductive parameters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(nc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(nl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(nw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1857240" y="1881360"/>
            <a:ext cx="5551560" cy="11332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"/>
          <p:cNvPicPr/>
          <p:nvPr/>
        </p:nvPicPr>
        <p:blipFill>
          <a:blip r:embed="rId2"/>
          <a:stretch/>
        </p:blipFill>
        <p:spPr>
          <a:xfrm>
            <a:off x="1357200" y="3195720"/>
            <a:ext cx="6527880" cy="14288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7" descr=""/>
          <p:cNvPicPr/>
          <p:nvPr/>
        </p:nvPicPr>
        <p:blipFill>
          <a:blip r:embed="rId3"/>
          <a:stretch/>
        </p:blipFill>
        <p:spPr>
          <a:xfrm>
            <a:off x="1428840" y="4767120"/>
            <a:ext cx="6429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se study: The WordCount Progra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Introduction of mutual recurs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1714680" y="2000160"/>
            <a:ext cx="5913360" cy="118116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"/>
          <p:cNvPicPr/>
          <p:nvPr/>
        </p:nvPicPr>
        <p:blipFill>
          <a:blip r:embed="rId2"/>
          <a:stretch/>
        </p:blipFill>
        <p:spPr>
          <a:xfrm>
            <a:off x="1714680" y="3500280"/>
            <a:ext cx="5956200" cy="22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onclu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All the formal transformation that were made so far aimed to construct proper inductive function, e.g. paramorphisms, catamorphisms. This offers a high level of abstraction, which is the paper’s goal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 strong point of this approach are its constructive style based on powerful algebraic lows of programming. The current research went deeper than other related work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Code slicing had the roll of trimming down of complex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As a further work, the conjecture defined should be proofed in a denotational semantics sett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Generalize the reverse approach using relation algebra to any sliceable progra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9899"/>
                </a:solidFill>
                <a:latin typeface="Georgia"/>
              </a:rPr>
              <a:t>Why do we need Reverse Program Calculation?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magine a large software application..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Content Placeholder 3" descr="SemNetRelations.jpg"/>
          <p:cNvPicPr/>
          <p:nvPr/>
        </p:nvPicPr>
        <p:blipFill>
          <a:blip r:embed="rId1"/>
          <a:stretch/>
        </p:blipFill>
        <p:spPr>
          <a:xfrm>
            <a:off x="1571760" y="2071800"/>
            <a:ext cx="61624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b9899"/>
                </a:solidFill>
                <a:latin typeface="Georgia"/>
              </a:rPr>
              <a:t>Reverse Program Calculation Supported by Code Slicing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e paper presents an approach for reverse program calculation, which is based on a semi-formal method: code slicing and a formal-method: the algebra of programm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urrent reverse program calculation aims to reconstruct the formal specifications of legacy cod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Handling formal semantics of all program variables at the same time is it a complex process and for this reason, code slicing was us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research was a follow up of the Karma project, that consisted in data reverse engineering (DRE). (overall abstraction function of legacy data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Georgia"/>
              </a:rPr>
              <a:t>In the paper, it is interesting the constructive style upon the entire reverse calculation, specifically the steps of transforming semantic functions into well-known generic programming schemata: cata/paramorphism, e.g., factorial function. For supporting this, the calculations included: imploding of auxiliary variables and introduction of mutual recurs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e approach is illustrated by reversing a piece of code from C to Haskell, that is the WordCount progra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State of the ar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Georgia"/>
              </a:rPr>
              <a:t>Software reification vs. reverse specification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Georgia"/>
              </a:rPr>
              <a:t>Forward engineering</a:t>
            </a:r>
            <a:r>
              <a:rPr b="0" lang="en-GB" sz="1900" spc="-1" strike="noStrike">
                <a:solidFill>
                  <a:srgbClr val="000000"/>
                </a:solidFill>
                <a:latin typeface="Georgia"/>
              </a:rPr>
              <a:t>: moving from abstract to detailed implementations; it is a synthetic proces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Georgia"/>
              </a:rPr>
              <a:t>Reverse engineering</a:t>
            </a:r>
            <a:r>
              <a:rPr b="0" lang="en-GB" sz="1900" spc="-1" strike="noStrike">
                <a:solidFill>
                  <a:srgbClr val="000000"/>
                </a:solidFill>
                <a:latin typeface="Georgia"/>
              </a:rPr>
              <a:t>/specification is the opposite of software reification; it is a analytical process of inferring the original specification (indentifing the components and intended behaviour in order to create higher level abstraction of the system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Georgia"/>
              </a:rPr>
              <a:t>Formal/informal refinement, scaling up mathematical reasoning to real problem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eorgia"/>
              </a:rPr>
              <a:t>Increased motivation for reverse software engineering; restructuring (“spaghetti” to structured code) and re-engineering for rebuilding new system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State of the ar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Code slic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In real situations, for large piece of code produced in an “ad-hoc” way, using formal description is quite complex and counterproductive to inspec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Program slicing was introduced by M. Weiser for helping programmers in understanding foreign code and in debugg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 slice captures contain all computation on a given variab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hat is, code slicing is used in the application of denotational semantics techniques to formal reverse specific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Foundations of the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orgia"/>
              </a:rPr>
              <a:t>Denotational semantics vs. program synthesis/analysi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P – a piece of algorithmic co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[P] – input/output relation which captures the behaviour of P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Forward engineering: (left to right)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S , S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... S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= [P]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[P;Q] = [Q][P]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Reverse engineering: (right to left) . Consists in identifying sequential chunks of code such that their semantics can be inferred and abstracted upon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e approach reverse a piece of code P only in terms of its functional specificat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t was used Haskell programming notation to express the semantics of deterministic co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Foundations of the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Loop inter-combination, code fusion and slic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aking in account that a slice captures all the computations on a given variab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Due to the programmers will for efficiency, the code can be comprised of a multitude of loop inter-combinations. Code slicing proves a really useful in debugging as we may see below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Loop &lt;f,g&gt; = &lt;loop f, loop g&gt;, where &lt;&gt; denotes “parallel” execution of computations f and 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Foundation of the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6760"/>
            <a:ext cx="8504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Algebra of programming law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The obsession for efficiently may complicate the original programming plan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Georgia"/>
              </a:rPr>
              <a:t>Fusion lows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for sequential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computation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(f ∙ g) a = f (g a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Georgia"/>
              </a:rPr>
              <a:t>Mutual exclusion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lows for “parallel” computations (subsequent used for “splitting”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(i.e. implemented in Haskell (Backus [2,3])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           using </a:t>
            </a:r>
            <a:r>
              <a:rPr b="0" i="1" lang="en-GB" sz="1600" spc="-1" strike="noStrike">
                <a:solidFill>
                  <a:srgbClr val="000000"/>
                </a:solidFill>
                <a:latin typeface="Georgia"/>
              </a:rPr>
              <a:t>constructor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 operator)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1071720" y="2643120"/>
            <a:ext cx="1928520" cy="12304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"/>
          <p:cNvPicPr/>
          <p:nvPr/>
        </p:nvPicPr>
        <p:blipFill>
          <a:blip r:embed="rId2"/>
          <a:stretch/>
        </p:blipFill>
        <p:spPr>
          <a:xfrm>
            <a:off x="3605040" y="2662200"/>
            <a:ext cx="2359080" cy="630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"/>
          <p:cNvPicPr/>
          <p:nvPr/>
        </p:nvPicPr>
        <p:blipFill>
          <a:blip r:embed="rId3"/>
          <a:stretch/>
        </p:blipFill>
        <p:spPr>
          <a:xfrm>
            <a:off x="3714840" y="4414680"/>
            <a:ext cx="2122560" cy="5302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"/>
          <p:cNvPicPr/>
          <p:nvPr/>
        </p:nvPicPr>
        <p:blipFill>
          <a:blip r:embed="rId4"/>
          <a:stretch/>
        </p:blipFill>
        <p:spPr>
          <a:xfrm>
            <a:off x="3714840" y="5110200"/>
            <a:ext cx="4438440" cy="4762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"/>
          <p:cNvPicPr/>
          <p:nvPr/>
        </p:nvPicPr>
        <p:blipFill>
          <a:blip r:embed="rId5"/>
          <a:stretch/>
        </p:blipFill>
        <p:spPr>
          <a:xfrm>
            <a:off x="928800" y="4381560"/>
            <a:ext cx="23414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2:23:21Z</dcterms:created>
  <dc:creator>DANIEL TAIVAN</dc:creator>
  <dc:description/>
  <dc:language>en-US</dc:language>
  <cp:lastModifiedBy>DANIEL TAIVAN</cp:lastModifiedBy>
  <dcterms:modified xsi:type="dcterms:W3CDTF">2010-10-18T07:20:51Z</dcterms:modified>
  <cp:revision>151</cp:revision>
  <dc:subject/>
  <dc:title>Introduction</dc:title>
</cp:coreProperties>
</file>