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4C82-B1E8-451F-B52A-A13EE9267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6BC5-16A7-4EAB-A93F-0A73794579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CB0E-E148-43A7-A2FF-A8E9757107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1054-2821-4456-A7A9-9E26408D9C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F701-479B-4550-BA0D-461212D0C8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D84E-D336-41C1-9833-FF0BC19417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2D17-B5D6-41BA-8261-9E38A49E33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BA68-7DFA-40F6-9B8D-3C45D57404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B19E-7D3F-4B86-B799-4E13D877E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062A-8C98-433A-9C11-97F84E9DF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871F-595A-4A09-A9B6-50F990710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17DD-1C94-4C1E-9437-4EC412D7F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C21B-A907-46C7-B35A-131CE757B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93BF-37FF-45D3-8CEC-CF83A0E13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4BC9-ECE7-4D98-BF7A-BD10F2C8D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5B14-F1B9-4A3B-BE4A-33AF5BEE8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C205-AEB0-436D-A56E-18415334E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317E-B593-4EFF-98F1-0E7F74748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CFF3-D91C-4EF5-8E5C-A9F8456B4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7AB1-F4B0-4435-BE45-5DFAB7027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E5FD-4D1C-4831-87A1-08CFE18DD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Arial"/>
              </a:rPr>
              <a:t>UCE15 Proj. Engª Inform. - 201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4A0D-6D53-423E-A1CD-0391C98C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8377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UCE15 </a:t>
            </a:r>
            <a:br>
              <a:rPr sz="4400"/>
            </a:br>
            <a:r>
              <a:rPr b="1" lang="pt-PT" sz="4400" spc="-1" strike="noStrike">
                <a:solidFill>
                  <a:srgbClr val="ffcc00"/>
                </a:solidFill>
                <a:latin typeface="Tahoma"/>
              </a:rPr>
              <a:t>Projeto de Eng.ª Informát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0" y="3106440"/>
            <a:ext cx="45720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João M. Fernandes (JMF)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ictor Fonte (VFF)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ítor Alves (VMA)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berto Machado (R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um-EE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D106-E753-45FE-8438-C06AF9F9F0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6320" y="206280"/>
            <a:ext cx="89280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Arial"/>
              </a:rPr>
              <a:t>UCE15 Proj. Engª Inform. - 2014/1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933-4A8E-4E00-B764-650052C0B1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rcRect l="0" t="28011" r="0" b="28011"/>
          <a:stretch/>
        </p:blipFill>
        <p:spPr>
          <a:xfrm>
            <a:off x="304920" y="685800"/>
            <a:ext cx="858204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76320" y="206280"/>
            <a:ext cx="89280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Arial"/>
              </a:rPr>
              <a:t>UCE15 Proj. Engª Inform. - 2014/1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esenvolvimento em equipa dum produto de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nálise do potencial de negócio do prod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mpetências: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liderança, gest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ão, organização, requisitos, conceção, implementação, teste, comunicação, documentação, marketing, apresentação, negócio, empreendedorismo, et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8D6-491A-4B3B-B4C2-4077DD9951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76320" y="206280"/>
            <a:ext cx="89280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Arial"/>
              </a:rPr>
              <a:t>UCE15 Proj. Engª Inform. - 2014/1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oposto por aluno(s) ou por cliente exte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equipas médias (8-12 element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sala para trabalho equipa, 4.ª feira, 9h-18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1 tutor por equi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visitas semanais do tutor de 30 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30 min. de tutoria coletiva a ped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utilização do redm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equipa pode procurar ajuda ex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c00"/>
                </a:solidFill>
                <a:latin typeface="Tahoma"/>
              </a:rPr>
              <a:t>proj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DBB4-4172-4219-8162-96864B0416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76320" y="206280"/>
            <a:ext cx="89280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Arial"/>
              </a:rPr>
              <a:t>UCE15 Proj. Engª Inform. - 2014/1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ffcc"/>
                </a:solidFill>
                <a:latin typeface="Tahoma"/>
              </a:rPr>
              <a:t>05.nov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: entrega de “visão do produto; documento de requisitos” (2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pós a 1ª entrega, as visitas semanais são avaliadas pelos docentes (2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ffcc"/>
                </a:solidFill>
                <a:latin typeface="Tahoma"/>
              </a:rPr>
              <a:t>04.fev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: entrega final (50%)</a:t>
            </a:r>
            <a:br>
              <a:rPr sz="2800"/>
            </a:b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(visão do produto; documento de requisitos; plano do projeto; documento do estado do projeto; documentação técnica e de instalação; produto de software; manuais de utilização; plano de negóci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ffcc"/>
                </a:solidFill>
                <a:latin typeface="Tahoma"/>
              </a:rPr>
              <a:t>13.fev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: apresentação final (1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c00"/>
                </a:solidFill>
                <a:latin typeface="Tahoma"/>
              </a:rPr>
              <a:t>entre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B5D3-1B79-42D0-B914-D5245AD7E8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219320" y="1143000"/>
            <a:ext cx="11430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19320" y="2971800"/>
            <a:ext cx="99036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219320" y="5638680"/>
            <a:ext cx="99036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76320" y="206280"/>
            <a:ext cx="89280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Arial"/>
              </a:rPr>
              <a:t>UCE15 Proj. Engª Inform. - 2014/1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ffcc"/>
                </a:solidFill>
                <a:latin typeface="Tahoma"/>
              </a:rPr>
              <a:t>19.set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: recolher propo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há propostas externas (empres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ffcc"/>
                </a:solidFill>
                <a:latin typeface="Tahoma"/>
              </a:rPr>
              <a:t>23/set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: seleção dos proj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ffcc"/>
                </a:solidFill>
                <a:latin typeface="Tahoma"/>
              </a:rPr>
              <a:t>24/set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: distribuição alunos pelos proj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o proponente dum projeto pode escolher 4 colegas para a sua equi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os restantes poderão ser indicados pelos doc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c00"/>
                </a:solidFill>
                <a:latin typeface="Tahoma"/>
              </a:rPr>
              <a:t>propostas de proje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E65C-A724-473F-99C3-28A3CCBC18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219320" y="1143000"/>
            <a:ext cx="99036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3720"/>
            <a:ext cx="99036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219320" y="2666880"/>
            <a:ext cx="99036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76320" y="206280"/>
            <a:ext cx="89280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Arial"/>
              </a:rPr>
              <a:t>UCE15 Proj. Engª Inform. - 2014/1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480" y="121896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existirão 1-2 seminários em temáticas a anunci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c00"/>
                </a:solidFill>
                <a:latin typeface="Tahoma"/>
              </a:rPr>
              <a:t>seminá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7200" y="2486160"/>
            <a:ext cx="8229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c00"/>
                </a:solidFill>
                <a:latin typeface="Tahoma"/>
              </a:rPr>
              <a:t>avaliação entre pa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609480" y="327672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5 critérios definidos pelo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% de cada critério definidos pelo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5 notas referência definidas pelo grup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4 momentos de avalia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não afeta explicitamente as notas individua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8C9D-5C76-4912-A3C3-68CF9ABF19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76320" y="206280"/>
            <a:ext cx="89280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Arial"/>
              </a:rPr>
              <a:t>UCE15 Proj. Engª Inform. - 2014/1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objectivo é abordar competências NUNCA abordadas sistematica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risco contro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judem-nos!!! (não pensámos em tudo!!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sejam pró-activos.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tudo o que não foi previsto, será resolvido com bom-sen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c00"/>
                </a:solidFill>
                <a:latin typeface="Tahoma"/>
              </a:rPr>
              <a:t>comentário fi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F212-C1DB-45CB-AC2C-7671144691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11:10:43Z</dcterms:created>
  <dc:creator/>
  <dc:description/>
  <dc:language>en-US</dc:language>
  <cp:lastModifiedBy>João Miguel Fernandes</cp:lastModifiedBy>
  <dcterms:modified xsi:type="dcterms:W3CDTF">2014-09-15T15:00:36Z</dcterms:modified>
  <cp:revision>199</cp:revision>
  <dc:subject/>
  <dc:title>Model Transformations with UML and CPN models</dc:title>
</cp:coreProperties>
</file>